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882C-C4CE-4A1E-A433-3A9BD201C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notazion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ppresenta la parte intera del numer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Es: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ivale a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espressione (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) -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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presenta la parte frazionaria del num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umeri razionali non periodici in una base possono diventare periodici in una diversa base. (Provare a convertire 0.1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in base 2.)  Se il prodotto della conversione risulta essere periodico, e` necessario fermare l’esecuzione dell’algorit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mantissa puo` avere parte intera e/o frazionaria diversa da zero, a seconda delle convenzion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uccessive rappresentazioni sono relative alla macchina.  Mentre le rappresentazioni matematiche  esaminate in precedenza non pongono limitazioni nella codifica, la macchina adotta una rappresentazione necessariamente finita per i nume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metodo senza segno applica una semplice conversione a base binaria. Eventuali bit disponibili a sinistra vengono posti a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nozione di range deriva dalla imposizione che la rappresentazione sia fini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metodo modulo e segno applica una conversione binaria del modulo limitata agli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bit piu` a destra. Eventuali bit disponibili a sinistra vengono posti a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bit piu` a sinistra, rappresentato qui d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odifica il segn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numero 0 ha due rappresentazione, dunque la codifica e` ridonda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rappresentazione comporta inoltre alcuni problemi con l’algoritmo di somma (vedi olt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metodo complemento a due applica una conversione binaria se il numero e` non negativo, altrimenti applica una conversione binaria sul numero traslato. Eventuali bit disponibili a sinistra vengono posti a 0.  Cio` si applica solamente ai numeri positivi, poiche` i negativi comportano sempre l’intera occupazione degli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t disponibil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bit piu` a sinistra codifica il segn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numero 0 ha una sola rappresentazi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rappresentazione e` monotona, cioe` procedendo da sinistra a destra nell’asse i numeri rappresentati crescono, ad eccezione del salto dal massimo numero positivo rappresentabile al minimo numero negativo rappresentabi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taggi del complemento a 2 rispetto al modulo e segno.  Vedi oltre per l’algoritmo di som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mo di somma per colonne.  Parto dalla colonna piu` a destra, chiamata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 procedo verso sinistra conteggiando gli eventuali riporti, sino all’ultima colonna, chiamata 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servare che la presenza di un riporto originato sulla colonna 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on identifica necessariamente un errore nella rappresentazione del risultato ottenu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fenomeno di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rasbordo) indica che i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 disposizione della rappresentazione non e` sufficiente per rappresentare il risultato della somma corr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esenza di un riporto originato alla colonna 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dica necessariamente u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La presenza di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o` essere rilevata conteggiando eventuali riporti presenti alle colonne 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 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ale conteggio deve essere pari ad 1 (dunque se il conteggio e` 2 oppure 0 non vi e`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a` elementare di informazione e` il bit, pari ad una variabile che ass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ore su di un insieme binar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colatori digitali trattano esclusivamente informazione codificata in forma bina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livello di rappresentazione binario e` masherato all’utente.  Introduci la nozione di macchina a strati sovrapposti (Tosotatti, pg.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mo di complementazione o cambio segno:  Parto dal bit piu` a destra e procedo verso sinistra sino ad incontrare la prima occorrenza del simbolo 1. Tutti i simboli piu` a sinistra di tale occorrenza devono venire complementat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mo alternativo (ed equivalente):  Complemento tutti i bit  e sommo 1 al bit piu` a destr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o utilizzare l’algoritmo di cambio segno per ridurre operazioni di differenza ad operazioni di somma algeb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o inoltre utilizzare nella conversione di un numero negativo dalla base decimale alla rappresentazionecomplemento a d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eccesso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on presenta alcuna discontinuita` nella crescita dei numeri rappresentati procedendo da sinistra verso dest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versamente dalle precedenti codifiche, per l’eccesso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bbiam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 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 s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per la virgola mobile stabilito dall’organizzazione internazionale IEEE (Institute for Electical and Electronic Engineering) ed approvato dall’ANSI (American National Standards Institu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ascun numero reale viene rappresentato in virgola mobile mediante un bit per il segn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lcuni bit per l’esponen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appresentato in eccess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ed alcuni bit per la parte frazionari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e deve essere normalizzata in modo tale che il bit piu` significativo (il bit piu` a sinistra) corrisponda a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regola di conversione al numero reale rappresentato e` quella sopra specificata.  Vi e` un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cezi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la regola nel caso in cui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iano composti di soli zeri: in tale caso il bit corrispondente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ve essere posto a 0. Cio` serve per poter rappresentare il numero reale 0.0, la cui rappresentazione risulterebbe altrimenti impossibi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presentazione non uniforme: non vi e` una distanza fissa tra due numeri adiacenti nell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processori in commercio adottano lo standard IEEE nella rappresentazione dei numeri in virgola mobile.  Esiste pero` una differenza: mentre le architetture di tip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g endi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iportano in memoria i singoli byte della rappresentazione nell’ordine regolare, le architettu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ittle endi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vertono tale ordine.  Esempi di architettura big endian sono Motorola, IBM, Sun ed altri processori RISC.  Esempi di architettura little endian sono Digital ed Int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odifica ASCII e` uno Standard ANS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valori [128 .. 255] sono detti ASCII esteso, e vengono utilizzati per carratteri di lingua non Inglese (caratteri accentati, ecc).  Tali valori non sono utilizzati in modo standard (le codifiche cambiano a seconda del costrutt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sistema posizionale puo` essere utilizzato per basi diverse da quella decimale normalmente impiega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base esadecimale viene spesso utilizzata per rappresentare piu` agevolmente numeri binari. (Vedi anche base ottale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 generale per la notazione posizionale in base arbitra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notazion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ppresenta la parte intera del numer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Es: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ivale a 8.  Nota che vengono utilizza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1 cif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operatore div esegue la divisione intera tra due numeri. Es: 11 div 4 = 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operatore mod restituisce il resto della divisione intera tra due numeri. Es: 11 mod 4 =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&lt; lo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7) &lt;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no alla conversione binaria &lt;-&gt; esadecimale per quartine (Tosoratti pg. 2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zzo il punto per separare la parte frazionaria dalla parte intera, come da notazione anglosassone.  Assumo la parte intera sia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 genera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EA6-AFA0-404B-9D10-840E2648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D0E-B7BF-496E-8CA8-5846F754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E78-8EAA-480F-BF9C-31E8A5C9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30F-4194-4013-9B6F-AA0473A5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798-CC97-4559-9A1A-BC408D30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01F-87FE-47DB-A2E0-C7B809AE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D0B-677B-4758-96AC-C89DD0C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138-2635-492C-A70E-B9831F4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A1F-D949-443B-8BF6-90ADCB4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370-F772-4334-85E7-47264818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453-7F8B-4F49-BF2F-52A0151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0AC-8F43-4D93-9951-52CD7703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EAE4-8B30-44A4-80D6-774508365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Corso di</a:t>
            </a: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Fondamenti di Informatica</a:t>
            </a:r>
            <a:br>
              <a:rPr sz="36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www.gest.unipd.it/~info/inf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iorgio Sa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artimento di Ingegneria dell’ 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www.dei.unipd.it/~sa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atta@dei.unipd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F75-8701-4B26-90F4-2ADAA6D82DA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99800" y="723600"/>
            <a:ext cx="82040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azionari : Notazione posizionale bas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lla base 10 alla ba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goritmo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-1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epeat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) -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 1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unti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potrebbe non termin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6EE-7EE5-4A49-BD4E-E1BD854A43F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0160" y="622080"/>
            <a:ext cx="845820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azionari 1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: Esemp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.62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0.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0.5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0.0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.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265-46AF-4398-97F5-21AD21D3FC5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0160" y="655200"/>
            <a:ext cx="84582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Reali : Notazione floating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base (int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+1 /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esponente (int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mantissa (frazion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rsione alla base 10 :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F51-25E3-402F-B23E-7B83AEB1C1B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0160" y="714240"/>
            <a:ext cx="84582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Floating Point : Esemp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10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+1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11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3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rsione alla base 10 :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+ 349 000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68D-9CAD-49D5-B194-35B50962AD9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i senza segno su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iungo zeri a sinistra sin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o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3) 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nge : [ 0, 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-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56440" y="3619440"/>
            <a:ext cx="7002720" cy="1043280"/>
            <a:chOff x="856440" y="3619440"/>
            <a:chExt cx="7002720" cy="1043280"/>
          </a:xfrm>
        </p:grpSpPr>
        <p:grpSp>
          <p:nvGrpSpPr>
            <p:cNvPr id="77" name=""/>
            <p:cNvGrpSpPr/>
            <p:nvPr/>
          </p:nvGrpSpPr>
          <p:grpSpPr>
            <a:xfrm>
              <a:off x="1158840" y="4019400"/>
              <a:ext cx="6400800" cy="244440"/>
              <a:chOff x="1158840" y="4019400"/>
              <a:chExt cx="6400800" cy="244440"/>
            </a:xfrm>
          </p:grpSpPr>
          <p:sp>
            <p:nvSpPr>
              <p:cNvPr id="78" name=""/>
              <p:cNvSpPr/>
              <p:nvPr/>
            </p:nvSpPr>
            <p:spPr>
              <a:xfrm>
                <a:off x="1158840" y="4132080"/>
                <a:ext cx="6400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64960" y="403056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66760" y="402408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1160" y="402408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06720" y="4036680"/>
                <a:ext cx="0" cy="22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06720" y="402876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21120" y="4041360"/>
                <a:ext cx="0" cy="22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54600" y="401940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640200" y="403848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751760" y="4257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94960" y="4257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1720" y="4263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06120" y="42609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9600" y="4248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38160" y="4262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80560" y="4248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56440" y="42512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7920" y="3619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2960" y="3629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6160" y="3643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4040" y="3629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52640" y="364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50840" y="3638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4960" y="3638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17360" y="3629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18A-D2EF-4147-BE08-3C4BE389FC8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dulo e segno su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iungo zeri a sinistra sin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 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;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 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o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3) 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nge : [-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+ 1, 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-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69040" y="4191120"/>
            <a:ext cx="7003080" cy="1042920"/>
            <a:chOff x="869040" y="4191120"/>
            <a:chExt cx="7003080" cy="1042920"/>
          </a:xfrm>
        </p:grpSpPr>
        <p:grpSp>
          <p:nvGrpSpPr>
            <p:cNvPr id="106" name=""/>
            <p:cNvGrpSpPr/>
            <p:nvPr/>
          </p:nvGrpSpPr>
          <p:grpSpPr>
            <a:xfrm>
              <a:off x="1171800" y="4590720"/>
              <a:ext cx="6400800" cy="243720"/>
              <a:chOff x="1171800" y="4590720"/>
              <a:chExt cx="6400800" cy="243720"/>
            </a:xfrm>
          </p:grpSpPr>
          <p:sp>
            <p:nvSpPr>
              <p:cNvPr id="107" name=""/>
              <p:cNvSpPr/>
              <p:nvPr/>
            </p:nvSpPr>
            <p:spPr>
              <a:xfrm>
                <a:off x="1171800" y="4703040"/>
                <a:ext cx="6400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77920" y="4601520"/>
                <a:ext cx="0" cy="22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79720" y="4595040"/>
                <a:ext cx="0" cy="22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94120" y="4595040"/>
                <a:ext cx="0" cy="22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19680" y="460764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19680" y="4599720"/>
                <a:ext cx="0" cy="22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34080" y="461232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567560" y="4590720"/>
                <a:ext cx="0" cy="22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53160" y="4609440"/>
                <a:ext cx="0" cy="22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764360" y="48290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7560" y="48290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04680" y="48351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9080" y="4831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52560" y="48193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50760" y="4833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93160" y="48193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9040" y="48225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10880" y="4191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5560" y="4200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58760" y="4214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59120" y="419112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7080" y="421452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63440" y="4209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44720" y="420984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29960" y="4200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1C5-8A5C-4E1D-B84A-15EE06A452B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00160" y="7236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emento a 2 su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e (traslazione asse negativi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;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iungo zeri a sinistra sin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o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3) 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nge : [-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-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81640" y="3657600"/>
            <a:ext cx="7002720" cy="1043280"/>
            <a:chOff x="881640" y="3657600"/>
            <a:chExt cx="7002720" cy="1043280"/>
          </a:xfrm>
        </p:grpSpPr>
        <p:grpSp>
          <p:nvGrpSpPr>
            <p:cNvPr id="135" name=""/>
            <p:cNvGrpSpPr/>
            <p:nvPr/>
          </p:nvGrpSpPr>
          <p:grpSpPr>
            <a:xfrm>
              <a:off x="1184040" y="4057560"/>
              <a:ext cx="6400800" cy="244440"/>
              <a:chOff x="1184040" y="4057560"/>
              <a:chExt cx="6400800" cy="244440"/>
            </a:xfrm>
          </p:grpSpPr>
          <p:sp>
            <p:nvSpPr>
              <p:cNvPr id="136" name=""/>
              <p:cNvSpPr/>
              <p:nvPr/>
            </p:nvSpPr>
            <p:spPr>
              <a:xfrm>
                <a:off x="1184040" y="4170240"/>
                <a:ext cx="6400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90160" y="406872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91960" y="406224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06360" y="406224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31920" y="4074840"/>
                <a:ext cx="0" cy="22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31920" y="406692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46320" y="4079520"/>
                <a:ext cx="0" cy="22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9800" y="405756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65400" y="407664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776960" y="42955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19800" y="42955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16920" y="4302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1320" y="42987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64800" y="42861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3000" y="43005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05400" y="42861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81640" y="4289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23120" y="3657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27800" y="3666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7480" y="3671640"/>
              <a:ext cx="4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71360" y="365760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39320" y="368136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75680" y="3676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960" y="367668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42200" y="3666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8E0-E95D-4F07-854A-671BFBA868A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0160" y="72360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dulo e seg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rappresentazioni per il valor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mi di somma differenti a seconda del segno (non posso eseguire la somma per colonn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emento 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sola rappresentazione per lo 0 (un valore in più disponibile nel range rispetto al modulo e seg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o applicare l’algoritmo di somma per col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F9B-F146-43E7-8229-2FCAABF3DE2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emento a 2 : So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ma per colonn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0 1 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0 1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0 1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1 1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1 0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(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0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0E2-9F7D-440E-998A-439D439A771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emento a 2 : Over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o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 h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fl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 e solo se esiste un solo riporto sulle colonne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-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0 1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 1 0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-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0 1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 1 0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______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1 1 0      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rr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1 0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28960" y="4203720"/>
            <a:ext cx="291960" cy="495360"/>
          </a:xfrm>
          <a:prstGeom prst="rect">
            <a:avLst/>
          </a:prstGeom>
          <a:noFill/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41960" y="4229280"/>
            <a:ext cx="291960" cy="495000"/>
          </a:xfrm>
          <a:prstGeom prst="rect">
            <a:avLst/>
          </a:prstGeom>
          <a:noFill/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865-A556-48E7-A0C3-86F919670D4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00160" y="72360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Un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 = bit (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b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ary digi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 = Byte = 8b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Multip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1024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[Kil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[Meg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3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9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[Gig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[Ter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1F9-9E72-4B29-85DC-B636A185B3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emento a 2 : Cambio seg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goritm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care l’occorrenza più a destra del simbol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mentare tutti i bit a sinistra dell’occorrenza identific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o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8)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5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0 1 1   0 1 0 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5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1 0 0  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84520" y="3860640"/>
            <a:ext cx="292320" cy="495360"/>
          </a:xfrm>
          <a:prstGeom prst="rect">
            <a:avLst/>
          </a:prstGeom>
          <a:noFill/>
          <a:ln w="540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3240" y="4584600"/>
            <a:ext cx="1524240" cy="495360"/>
          </a:xfrm>
          <a:prstGeom prst="rect">
            <a:avLst/>
          </a:prstGeom>
          <a:noFill/>
          <a:ln w="540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A76-60EA-4E82-9E4B-C38BB193EE1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ccess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su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iamo il ca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e (traslazione intero ass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iungo zeri a sinistra sin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o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3)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nge : [-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-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94600" y="4206960"/>
            <a:ext cx="7002720" cy="1040040"/>
            <a:chOff x="894600" y="4206960"/>
            <a:chExt cx="7002720" cy="1040040"/>
          </a:xfrm>
        </p:grpSpPr>
        <p:grpSp>
          <p:nvGrpSpPr>
            <p:cNvPr id="176" name=""/>
            <p:cNvGrpSpPr/>
            <p:nvPr/>
          </p:nvGrpSpPr>
          <p:grpSpPr>
            <a:xfrm>
              <a:off x="1197000" y="4603680"/>
              <a:ext cx="6400800" cy="244440"/>
              <a:chOff x="1197000" y="4603680"/>
              <a:chExt cx="6400800" cy="244440"/>
            </a:xfrm>
          </p:grpSpPr>
          <p:sp>
            <p:nvSpPr>
              <p:cNvPr id="177" name=""/>
              <p:cNvSpPr/>
              <p:nvPr/>
            </p:nvSpPr>
            <p:spPr>
              <a:xfrm>
                <a:off x="1197000" y="4716360"/>
                <a:ext cx="6400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203120" y="461484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04920" y="460836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19320" y="460836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44880" y="4620960"/>
                <a:ext cx="0" cy="22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44880" y="461304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280" y="4625640"/>
                <a:ext cx="0" cy="22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92760" y="460368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78360" y="4622760"/>
                <a:ext cx="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789920" y="4842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3120" y="4842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29880" y="48481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44280" y="48448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77760" y="4832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76320" y="4846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18720" y="4832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94600" y="48355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6600" y="4213080"/>
              <a:ext cx="4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66960" y="4213080"/>
              <a:ext cx="4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4600" y="4222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21040" y="4206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81080" y="421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05120" y="4213080"/>
              <a:ext cx="4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13120" y="4222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81360" y="4213080"/>
              <a:ext cx="4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-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C9E-69F3-4D90-936D-A41E1A93CCE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00160" y="72360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ali : Standard IE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0 /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intero eccess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bin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frazionario binario normalizzato in modo tale che il bit più significativo corrisponda a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sia om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rsione dallo standard ad un numero reale :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E -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umeri molto vicini in prossimità dello zero, molt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distanti al crescere del valore as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D80-4A66-496F-AD0E-B298452CF19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00160" y="7236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ali : Standard IEEE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 specifiche per la rappresentazione d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ariano a seconda de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diverse precisioni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49320" y="2489040"/>
          <a:ext cx="607068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2489040"/>
                    <a:ext cx="60706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E33-DAB1-4C8F-88B0-B6C25BAD5AF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ndard IEEE : Esemp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EE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= 11000011 11010000 00000000 00000000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= 1 10000111 10100000000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rsione ad un numero rea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10000111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135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0.101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0.625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(-1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35 - 127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.625 = - 416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7CE-B6A3-4111-AB15-E3421F7E66F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ndard IEEE : Esemp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= 42.6875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= 101010.1011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= 1.01010101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rsione alla precisione singol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5 + 127 = 132 = 1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01010101100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EE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0 10000100 01010101100000000000000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  = 01000010 00101010 11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E5E-6B4D-49E0-8A42-A01EED32234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ice AS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CI = American Standard Code for Information Inter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zato per la rappresentazione dei caratteri più comuni, divisi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fanumerici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- z, A - Z, 0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ni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/ ? ; :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andi 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, tab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77C-31DC-4ABF-83B8-22CA0D7FBDB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00160" y="723960"/>
            <a:ext cx="77724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ice AS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 bit utilizzati, valori nel range [0 .. 127]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stampabili codificati in [0 .. 3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-Z codificati in [65 .. 90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-z codificati in [97 .. 12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-9 codificati in [48 .. 5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ori consecutivi rispetto all’ordine alfab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3080" y="10548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macchin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7BF-D80E-41F2-A1E5-705CF6A0566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515160"/>
            <a:ext cx="845820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Interi : Notazione posizionale base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fabeto = {0,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 -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fab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rsione dalla base 2 alla base 10 :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 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empio :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 = 13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4A1-24FF-4E4D-BB73-41C1425D6D1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0160" y="515160"/>
            <a:ext cx="845820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Interi : Notazione posizionale base 1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fabeto = {0, 1, 2, 3, 4, 5, 6, 7, 8, 9, A, B, C, D, E, 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 -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fab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rsione dalla base 16 alla base 10 :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6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6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 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6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6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empio :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7F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16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6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6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5 = 2943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843-F39C-4206-AE58-13845EF7F16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160" y="573480"/>
            <a:ext cx="845820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Interi : Notazione posizionale base </a:t>
            </a:r>
            <a:r>
              <a:rPr b="0" i="1" lang="it-IT" sz="2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fabeto = {0, 1, 2,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 -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fab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rsione dalla ba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la base 10 :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 -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C5E-C139-46E3-8917-BB5B0C380B7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9800" y="723960"/>
            <a:ext cx="820404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i : Notazione posizionale bas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lla base 10 alla ba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goritmo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0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mo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v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928-063C-434D-8083-0E0B8977AD3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160" y="494640"/>
            <a:ext cx="84582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i 1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: Esemp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87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7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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6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4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2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1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0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0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0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0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293-75DB-46B8-9034-8A06F787DB3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0160" y="523440"/>
            <a:ext cx="85341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azionari : Notazione posizionale base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fabeto = {0,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 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fab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e dalla base 2 alla base 10 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-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-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o 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= 0.687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D55-E3A9-4433-A9A8-2A6DA9A35CB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f6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17000" y="1054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Rappresentazi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160" y="573480"/>
            <a:ext cx="845820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azionari : Notazione posizionale bas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fabeto = {0, 1, 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 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fab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e dalla ba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la base 10 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-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-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-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913-B200-4DD3-8225-A989595C0002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ondamenti di Informatica  A.A. 2003-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15:39:04Z</dcterms:created>
  <dc:creator>Giorgio Satta</dc:creator>
  <dc:description/>
  <dc:language>en-US</dc:language>
  <cp:lastModifiedBy>Giorgio Satta</cp:lastModifiedBy>
  <cp:lastPrinted>2000-02-21T10:36:56Z</cp:lastPrinted>
  <dcterms:modified xsi:type="dcterms:W3CDTF">2003-09-27T13:05:15Z</dcterms:modified>
  <cp:revision>55</cp:revision>
  <dc:subject>IWPT00 invited talk </dc:subject>
  <dc:title>Parsing Techniques for Lexicalized Context-Free Grammars</dc:title>
</cp:coreProperties>
</file>