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1972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2316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78240" y="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562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AB484-3E5E-4822-8843-4725C652FA5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1E37A-A7A3-43E2-98E9-8319C199D2E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E310D-A6EC-4E80-A391-4F2817D2179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A6D92-CFE7-4BAB-B3E3-8CE8BF810CC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EEDBB-06E7-4A1B-AAB2-9909C024D9F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4D3D5-0285-4FAF-9F01-EA61188C370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E2F3C-4DEE-4B4F-90FE-ADC7E56ADB1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F09DA-7AC2-4105-82B2-03DFFE71EEA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CDE10-2524-4BAE-8A5B-18FAC295544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71D10-0237-4469-89CB-95B6876F39C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322AB-799B-4B92-9EE8-3E1C1402110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3B027-36BB-4CBF-92E1-93811EC4B67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1DE8-4B4C-42AF-8FAA-860CA862B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3400"/>
            <a:ext cx="9045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536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1400"/>
            <a:ext cx="904536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804F-D024-4B9C-A242-FCC6EC55F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3400"/>
            <a:ext cx="9045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96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8280" y="1768320"/>
            <a:ext cx="441396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1400"/>
            <a:ext cx="441396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8280" y="4361400"/>
            <a:ext cx="441396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5D3C-B23C-4899-9FAB-C9F888164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3400"/>
            <a:ext cx="9045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240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768320"/>
            <a:ext cx="291240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0040" y="1768320"/>
            <a:ext cx="291240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1400"/>
            <a:ext cx="291240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4361400"/>
            <a:ext cx="291240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0040" y="4361400"/>
            <a:ext cx="291240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1B56-7E89-474A-B4AC-22EB426ED1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3400"/>
            <a:ext cx="9045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45360" cy="49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051D-FB3D-4FDD-AFCB-F4D8187502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3400"/>
            <a:ext cx="9045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5360" cy="496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7F30-8182-451F-A4ED-9B7F6EFB9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3400"/>
            <a:ext cx="9045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960" cy="496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8280" y="1768320"/>
            <a:ext cx="4413960" cy="496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6B88-18BF-40D3-876C-60EF90F9C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3400"/>
            <a:ext cx="9045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B097-527F-467A-A857-080F82FBA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3400"/>
            <a:ext cx="904536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610D-3752-4C44-8BE5-C8A41C67D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3400"/>
            <a:ext cx="9045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96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8280" y="1768320"/>
            <a:ext cx="4413960" cy="496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1400"/>
            <a:ext cx="441396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ADFB-79B6-44B9-B152-39DBCFFE1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3400"/>
            <a:ext cx="9045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960" cy="496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8280" y="1768320"/>
            <a:ext cx="441396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8280" y="4361400"/>
            <a:ext cx="441396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A1CB-F8CA-46FF-B63E-758F4C09B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3400"/>
            <a:ext cx="9045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96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8280" y="1768320"/>
            <a:ext cx="441396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1400"/>
            <a:ext cx="9045360" cy="236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7773-C7D9-4F54-9148-CDFD95EA5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3400"/>
            <a:ext cx="9045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45360" cy="496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00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87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2272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F471C-DA6A-41D2-8E3E-7ECB5918F428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0360" y="3600360"/>
            <a:ext cx="9360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c5000b"/>
                </a:solidFill>
                <a:latin typeface="Times New Roman"/>
              </a:rPr>
              <a:t>Brain Computer Interface (BCI) in chronic stroke patients: an application of sensorimotor closed-loop and contingent force feedb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0360" y="6300720"/>
            <a:ext cx="9360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c5000b"/>
                </a:solidFill>
                <a:latin typeface="Times New Roman"/>
                <a:ea typeface="Arial Unicode MS"/>
              </a:rPr>
              <a:t>G. Cisotto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S. Silvoni, M. Cavinato, M. Agostini, F. Piccione, S. Pupol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uly, 1</a:t>
            </a:r>
            <a:r>
              <a:rPr b="0" lang="it-IT" sz="2000" spc="-1" strike="noStrike" baseline="33000">
                <a:solidFill>
                  <a:srgbClr val="000000"/>
                </a:solidFill>
                <a:latin typeface="Arial"/>
              </a:rPr>
              <a:t>st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013 – Summer School of Information Engineering - Brix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15085" t="0" r="10073" b="0"/>
          <a:stretch/>
        </p:blipFill>
        <p:spPr>
          <a:xfrm>
            <a:off x="8421840" y="1440"/>
            <a:ext cx="1658880" cy="1438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30240" y="-1584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rcRect l="0" t="19953" r="9970" b="19953"/>
          <a:stretch/>
        </p:blipFill>
        <p:spPr>
          <a:xfrm>
            <a:off x="2519280" y="0"/>
            <a:ext cx="2127240" cy="1284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0360" y="3600360"/>
            <a:ext cx="9360000" cy="2519280"/>
          </a:xfrm>
          <a:prstGeom prst="roundRect">
            <a:avLst>
              <a:gd name="adj" fmla="val 60"/>
            </a:avLst>
          </a:prstGeom>
          <a:noFill/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4965840" y="1274760"/>
            <a:ext cx="3779640" cy="2160720"/>
          </a:xfrm>
          <a:prstGeom prst="rect">
            <a:avLst/>
          </a:prstGeom>
          <a:ln w="9360">
            <a:solidFill>
              <a:srgbClr val="ffffff"/>
            </a:solidFill>
            <a:round/>
          </a:ln>
        </p:spPr>
      </p:pic>
      <p:sp>
        <p:nvSpPr>
          <p:cNvPr id="70" name=""/>
          <p:cNvSpPr/>
          <p:nvPr/>
        </p:nvSpPr>
        <p:spPr>
          <a:xfrm>
            <a:off x="5010120" y="2430360"/>
            <a:ext cx="2009880" cy="300240"/>
          </a:xfrm>
          <a:prstGeom prst="ellipse">
            <a:avLst/>
          </a:prstGeom>
          <a:noFill/>
          <a:ln w="36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rcRect l="0" t="4965" r="0" b="0"/>
          <a:stretch/>
        </p:blipFill>
        <p:spPr>
          <a:xfrm>
            <a:off x="1260360" y="1260360"/>
            <a:ext cx="360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03280" y="30168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Meas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7640" y="1692360"/>
            <a:ext cx="89298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5000b"/>
                </a:solidFill>
                <a:latin typeface="Arial"/>
              </a:rPr>
              <a:t>Functional clinical evalu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M, FMA-UE, MAS, NHPT, BBT, RS, n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r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5000b"/>
                </a:solidFill>
                <a:latin typeface="Arial"/>
              </a:rPr>
              <a:t>Kinematic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, speed, area error, maximal displacement, reaction time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5000b"/>
                </a:solidFill>
                <a:latin typeface="Arial"/>
              </a:rPr>
              <a:t>Neurophysiological finding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ectral analysi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vement-Related-Desynchronization (MR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xplained vari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540720" y="7035840"/>
            <a:ext cx="360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1080" y="7120080"/>
            <a:ext cx="7920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iulia Cisotto - University of Padova – Information Engineering Department – July, 1</a:t>
            </a:r>
            <a:r>
              <a:rPr b="1" lang="it-IT" sz="1200" spc="-1" strike="noStrike" baseline="33000">
                <a:solidFill>
                  <a:srgbClr val="000000"/>
                </a:solidFill>
                <a:latin typeface="Arial"/>
              </a:rPr>
              <a:t>st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03280" y="30168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rrent stu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1800360"/>
            <a:ext cx="906804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16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pat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16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7 years 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16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stroke (capsular,righ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16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d impairment of left 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16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gnitive impair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16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16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16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1, P3 (right) in (11,14) 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16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2, P4 (left)   in (11,14) 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16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14935" t="11276" r="14935" b="9953"/>
          <a:stretch/>
        </p:blipFill>
        <p:spPr>
          <a:xfrm>
            <a:off x="5353200" y="1800360"/>
            <a:ext cx="4367160" cy="4906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360000" y="7035840"/>
            <a:ext cx="539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1080" y="7120080"/>
            <a:ext cx="7920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iulia Cisotto - University of Padova – Information Engineering Department – July, 1</a:t>
            </a:r>
            <a:r>
              <a:rPr b="1" lang="it-IT" sz="1200" spc="-1" strike="noStrike" baseline="33000">
                <a:solidFill>
                  <a:srgbClr val="000000"/>
                </a:solidFill>
                <a:latin typeface="Arial"/>
              </a:rPr>
              <a:t>st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68400" y="3294000"/>
          <a:ext cx="7011360" cy="1563840"/>
        </p:xfrm>
        <a:graphic>
          <a:graphicData uri="http://schemas.openxmlformats.org/drawingml/2006/table">
            <a:tbl>
              <a:tblPr/>
              <a:tblGrid>
                <a:gridCol w="1214280"/>
                <a:gridCol w="1392480"/>
                <a:gridCol w="1226160"/>
                <a:gridCol w="1438560"/>
                <a:gridCol w="1739880"/>
              </a:tblGrid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N.Correct tri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Duration [ms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Area [mm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Reaction time [ms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cree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9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02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5.2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22.2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9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End t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5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6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11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5 ± 7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48.7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2.7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176" name="" descr=""/>
          <p:cNvPicPr/>
          <p:nvPr/>
        </p:nvPicPr>
        <p:blipFill>
          <a:blip r:embed="rId1"/>
          <a:srcRect l="14963" t="0" r="54841" b="10078"/>
          <a:stretch/>
        </p:blipFill>
        <p:spPr>
          <a:xfrm>
            <a:off x="7245360" y="1004760"/>
            <a:ext cx="1612800" cy="3595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999640" y="900000"/>
            <a:ext cx="720720" cy="3780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79640" y="2573280"/>
            <a:ext cx="450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80"/>
                </a:solidFill>
                <a:latin typeface="Arial"/>
              </a:rPr>
              <a:t>KINEMA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0720" y="360360"/>
            <a:ext cx="3598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c5000b"/>
                </a:solidFill>
                <a:latin typeface="Arial"/>
              </a:rPr>
              <a:t>NEUROPHYSIOLO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080" y="0"/>
            <a:ext cx="4859280" cy="2160720"/>
          </a:xfrm>
          <a:prstGeom prst="ellipse">
            <a:avLst/>
          </a:prstGeom>
          <a:solidFill>
            <a:srgbClr val="ffffff">
              <a:alpha val="20000"/>
            </a:srgbClr>
          </a:solidFill>
          <a:ln w="72000">
            <a:solidFill>
              <a:srgbClr val="c500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c5000b"/>
                </a:solidFill>
                <a:latin typeface="Arial"/>
              </a:rPr>
              <a:t>Left affected a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c5000b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03800" y="4827600"/>
            <a:ext cx="900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*p&lt;0.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559640" y="4311360"/>
            <a:ext cx="539640" cy="555480"/>
          </a:xfrm>
          <a:prstGeom prst="line">
            <a:avLst/>
          </a:prstGeom>
          <a:ln w="72000">
            <a:solidFill>
              <a:srgbClr val="c5000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360000" y="7035840"/>
            <a:ext cx="539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19280" y="4950000"/>
            <a:ext cx="37796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to be compared with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3360" y="5451480"/>
          <a:ext cx="7013520" cy="1563840"/>
        </p:xfrm>
        <a:graphic>
          <a:graphicData uri="http://schemas.openxmlformats.org/drawingml/2006/table">
            <a:tbl>
              <a:tblPr/>
              <a:tblGrid>
                <a:gridCol w="1276200"/>
                <a:gridCol w="1250640"/>
                <a:gridCol w="1296360"/>
                <a:gridCol w="1281240"/>
                <a:gridCol w="1909080"/>
              </a:tblGrid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N. Correct tri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Duration [ms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a  [mm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Reaction time [ms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cree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9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08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3.4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5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15.5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07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End t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9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29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8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2.4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66.8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9.4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7107120" y="6594480"/>
            <a:ext cx="27003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(right healthy ar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1080" y="7121520"/>
            <a:ext cx="7920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iulia Cisotto - University of Padova – Information Engineering Department – July, 1</a:t>
            </a:r>
            <a:r>
              <a:rPr b="1" lang="it-IT" sz="1200" spc="-1" strike="noStrike" baseline="33000">
                <a:solidFill>
                  <a:srgbClr val="000000"/>
                </a:solidFill>
                <a:latin typeface="Arial"/>
              </a:rPr>
              <a:t>st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03280" y="328680"/>
            <a:ext cx="906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Discussion and future persp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40000" y="3060720"/>
            <a:ext cx="450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1932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wo groups of patients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7040" y="5145120"/>
            <a:ext cx="8280360" cy="1903320"/>
          </a:xfrm>
          <a:prstGeom prst="rect">
            <a:avLst/>
          </a:prstGeom>
          <a:noFill/>
          <a:ln w="36000">
            <a:solidFill>
              <a:srgbClr val="23b8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3320" rIns="103320" tIns="58320" bIns="5832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mprovement of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tection, EEG feature selection, force feedback behavio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clusion of more severely damaged patien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15185" t="9876" r="45571" b="0"/>
          <a:stretch/>
        </p:blipFill>
        <p:spPr>
          <a:xfrm>
            <a:off x="179280" y="5040360"/>
            <a:ext cx="14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780240" y="2233440"/>
            <a:ext cx="3240000" cy="2700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079640" y="3959280"/>
            <a:ext cx="2340000" cy="720720"/>
          </a:xfrm>
          <a:prstGeom prst="cloudCallout">
            <a:avLst>
              <a:gd name="adj1" fmla="val -54013"/>
              <a:gd name="adj2" fmla="val 113416"/>
            </a:avLst>
          </a:prstGeom>
          <a:solidFill>
            <a:srgbClr val="ffffff">
              <a:alpha val="20000"/>
            </a:srgbClr>
          </a:solidFill>
          <a:ln w="36000">
            <a:solidFill>
              <a:srgbClr val="23b8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MRD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9400" y="1644480"/>
            <a:ext cx="989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SimSun"/>
              </a:rPr>
              <a:t>Kinematic better performance: system efficiency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2340000"/>
            <a:ext cx="539640" cy="720720"/>
          </a:xfrm>
          <a:prstGeom prst="downArrow">
            <a:avLst>
              <a:gd name="adj1" fmla="val 50000"/>
              <a:gd name="adj2" fmla="val 33389"/>
            </a:avLst>
          </a:prstGeom>
          <a:solidFill>
            <a:srgbClr val="23b8dc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360000" y="7035840"/>
            <a:ext cx="539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1080" y="7121520"/>
            <a:ext cx="7920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iulia Cisotto - University of Padova – Information Engineering Department – July, 1</a:t>
            </a:r>
            <a:r>
              <a:rPr b="1" lang="it-IT" sz="1200" spc="-1" strike="noStrike" baseline="33000">
                <a:solidFill>
                  <a:srgbClr val="000000"/>
                </a:solidFill>
                <a:latin typeface="Arial"/>
              </a:rPr>
              <a:t>st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0280" y="1468440"/>
            <a:ext cx="899964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04920" indent="-3049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iedermeyer and Da Silva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, Electroencephalography: Basic Principles, Clinical Applications, and Related Fields.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ppincot Williams &amp; Wilkins,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irbaumer and Cohen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Brain-computer interfaces: communication and restoration of movement paraly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J Physiol, 200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furtscheller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EEG event-related desynchronization (ERD) and event-related synchronization (ERS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pp.958-967, in [1]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omez-Rodriguez et al.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losing the Sensorimotor Loop: Haptic Feedback Facilitates Decoding of Motor Imagery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J Neural Eng, vol. 8, n. 3, 201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.J. McFarland et al.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u and beta rhythm topographies during motor imagery and actual movemen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Brain Topogr, vol. 12, pp. 177-186,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lvoni et al.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, Brain-computer interface in stroke: a review of progress.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lin. EEG Neurosci., 201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halk et al.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BCI2000: A general-purpose brain-computer interface (BCI) syste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IEEE Trans Biomed Eng,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myan e Cohen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Neuroplasticity in the context of motor rehabilitation after strok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at Rev Neurol, 201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049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sotto et al.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Brain-Computer Interface in chronic stroke:an application of sensorimotor closed-loop and contingent force feedback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Proceedings of ICC, IEEE 20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1768320"/>
            <a:ext cx="906948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24000" indent="-30024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32400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1356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4000" indent="-3002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32400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1356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4000" indent="-3002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32400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1356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urophysiological fu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4000" indent="-3002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32400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1356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ystem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4000" indent="-3002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32400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1356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ud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4000" indent="-3002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32400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1356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4000" indent="-3002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32400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1356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scussion and future persp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539280" y="7035840"/>
            <a:ext cx="360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1080" y="7120080"/>
            <a:ext cx="7920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iulia Cisotto - University of Padova – Information Engineering Department – July, 1</a:t>
            </a:r>
            <a:r>
              <a:rPr b="1" lang="it-IT" sz="1200" spc="-1" strike="noStrike" baseline="33000">
                <a:solidFill>
                  <a:srgbClr val="000000"/>
                </a:solidFill>
                <a:latin typeface="Arial"/>
              </a:rPr>
              <a:t>st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539280" y="7035840"/>
            <a:ext cx="360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3280" y="326880"/>
            <a:ext cx="907092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56880" bIns="1800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91240" y="3959280"/>
            <a:ext cx="609480" cy="4572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1882800"/>
            <a:ext cx="609480" cy="4572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60720" y="4680000"/>
            <a:ext cx="4514760" cy="2233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721640" y="2871720"/>
            <a:ext cx="2176560" cy="3465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50920" y="3240000"/>
            <a:ext cx="2628720" cy="1743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60360" y="5400720"/>
            <a:ext cx="234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4b1f6f"/>
                </a:solidFill>
                <a:latin typeface="Arial"/>
              </a:rPr>
              <a:t>GRAS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0" y="4140360"/>
            <a:ext cx="41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579d1c"/>
                </a:solidFill>
                <a:latin typeface="Arial"/>
              </a:rPr>
              <a:t>REA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0000" y="6480000"/>
            <a:ext cx="19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800" spc="-1" strike="noStrike">
                <a:solidFill>
                  <a:srgbClr val="c5000b"/>
                </a:solidFill>
                <a:latin typeface="Arial"/>
              </a:rPr>
              <a:t>HO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720720" y="2063880"/>
            <a:ext cx="965196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4" marL="2057400" indent="-223920" algn="ctr">
              <a:lnSpc>
                <a:spcPct val="93000"/>
              </a:lnSpc>
              <a:tabLst>
                <a:tab algn="l" pos="0"/>
                <a:tab algn="l" pos="205740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10142640"/>
                <a:tab algn="l" pos="10591920"/>
                <a:tab algn="l" pos="110412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SimSun"/>
              </a:rPr>
              <a:t>More than 60% stroke injured people with severe impairments in AD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440000"/>
            <a:ext cx="88200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Stroke statistic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SimSun"/>
              </a:rPr>
              <a:t>: 3</a:t>
            </a:r>
            <a:r>
              <a:rPr b="0" lang="it-IT" sz="3200" spc="-1" strike="noStrike" baseline="33000">
                <a:solidFill>
                  <a:srgbClr val="000000"/>
                </a:solidFill>
                <a:latin typeface="Arial"/>
                <a:ea typeface="SimSun"/>
              </a:rPr>
              <a:t>rd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SimSun"/>
              </a:rPr>
              <a:t> mortality 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080" y="7120080"/>
            <a:ext cx="7920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iulia Cisotto - University of Padova – Information Engineering Department – July, 1</a:t>
            </a:r>
            <a:r>
              <a:rPr b="1" lang="it-IT" sz="1200" spc="-1" strike="noStrike" baseline="33000">
                <a:solidFill>
                  <a:srgbClr val="000000"/>
                </a:solidFill>
                <a:latin typeface="Arial"/>
              </a:rPr>
              <a:t>st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539280" y="7035840"/>
            <a:ext cx="360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How may technology help? (1/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0720" y="3419640"/>
            <a:ext cx="5040360" cy="1439640"/>
          </a:xfrm>
          <a:prstGeom prst="ellipse">
            <a:avLst/>
          </a:prstGeom>
          <a:solidFill>
            <a:srgbClr val="ffff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c5000b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1" idx="0"/>
            <a:endCxn id="93" idx="2"/>
          </p:cNvCxnSpPr>
          <p:nvPr/>
        </p:nvCxnSpPr>
        <p:spPr>
          <a:xfrm rot="10800000">
            <a:off x="2519280" y="2499480"/>
            <a:ext cx="2161080" cy="920160"/>
          </a:xfrm>
          <a:prstGeom prst="bentConnector3">
            <a:avLst>
              <a:gd name="adj1" fmla="val 50000"/>
            </a:avLst>
          </a:prstGeom>
          <a:ln w="360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4" name=""/>
          <p:cNvCxnSpPr>
            <a:stCxn id="91" idx="0"/>
            <a:endCxn id="95" idx="2"/>
          </p:cNvCxnSpPr>
          <p:nvPr/>
        </p:nvCxnSpPr>
        <p:spPr>
          <a:xfrm flipV="1">
            <a:off x="4681080" y="2518560"/>
            <a:ext cx="2520360" cy="901080"/>
          </a:xfrm>
          <a:prstGeom prst="bentConnector3">
            <a:avLst>
              <a:gd name="adj1" fmla="val 50000"/>
            </a:avLst>
          </a:prstGeom>
          <a:ln w="360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900000" y="1800360"/>
            <a:ext cx="3240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c5000b"/>
                </a:solidFill>
                <a:latin typeface="Arial"/>
              </a:rPr>
              <a:t>Robot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c5000b"/>
                </a:solidFill>
                <a:latin typeface="Arial"/>
              </a:rPr>
              <a:t>repetitive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1800360"/>
            <a:ext cx="3240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c5000b"/>
                </a:solidFill>
                <a:latin typeface="Arial"/>
              </a:rPr>
              <a:t>Quantitative</a:t>
            </a:r>
            <a:r>
              <a:rPr b="1" lang="it-IT" sz="2200" spc="-1" strike="noStrike">
                <a:solidFill>
                  <a:srgbClr val="c5000b"/>
                </a:solidFill>
                <a:latin typeface="Arial"/>
              </a:rPr>
              <a:t> customiz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70480" y="5024520"/>
            <a:ext cx="539640" cy="900000"/>
          </a:xfrm>
          <a:prstGeom prst="downArrow">
            <a:avLst>
              <a:gd name="adj1" fmla="val 50000"/>
              <a:gd name="adj2" fmla="val 41694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75000" y="6054840"/>
            <a:ext cx="468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c5000b"/>
                </a:solidFill>
                <a:latin typeface="Arial"/>
              </a:rPr>
              <a:t>EFFECT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300720" y="5564160"/>
            <a:ext cx="900360" cy="752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630072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99280" y="5400720"/>
            <a:ext cx="28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Faster recovery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80360" y="6475320"/>
            <a:ext cx="216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onger benif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1080" y="7120080"/>
            <a:ext cx="7920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iulia Cisotto - University of Padova – Information Engineering Department – July, 1</a:t>
            </a:r>
            <a:r>
              <a:rPr b="1" lang="it-IT" sz="1200" spc="-1" strike="noStrike" baseline="33000">
                <a:solidFill>
                  <a:srgbClr val="000000"/>
                </a:solidFill>
                <a:latin typeface="Arial"/>
              </a:rPr>
              <a:t>st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539280" y="7035840"/>
            <a:ext cx="360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How may technology help? (2/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30039" b="0"/>
          <a:stretch/>
        </p:blipFill>
        <p:spPr>
          <a:xfrm>
            <a:off x="1241280" y="1365120"/>
            <a:ext cx="7758360" cy="511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11560" y="2789280"/>
            <a:ext cx="2548080" cy="1619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559640" y="2878200"/>
            <a:ext cx="720720" cy="1082520"/>
          </a:xfrm>
          <a:custGeom>
            <a:avLst/>
            <a:gdLst/>
            <a:ahLst/>
            <a:rect l="l" t="t" r="r" b="b"/>
            <a:pathLst>
              <a:path w="2001" h="3006">
                <a:moveTo>
                  <a:pt x="2000" y="601"/>
                </a:moveTo>
                <a:cubicBezTo>
                  <a:pt x="0" y="0"/>
                  <a:pt x="1333" y="2404"/>
                  <a:pt x="1333" y="2404"/>
                </a:cubicBezTo>
                <a:lnTo>
                  <a:pt x="0" y="3005"/>
                </a:lnTo>
              </a:path>
            </a:pathLst>
          </a:custGeom>
          <a:noFill/>
          <a:ln w="3600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99280" y="6480000"/>
            <a:ext cx="18003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Collinger et al,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40600" y="3405240"/>
            <a:ext cx="197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Donchin et al., 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68920" y="4500720"/>
            <a:ext cx="360360" cy="527040"/>
          </a:xfrm>
          <a:custGeom>
            <a:avLst/>
            <a:gdLst>
              <a:gd name="textAreaLeft" fmla="*/ 360 w 360360"/>
              <a:gd name="textAreaRight" fmla="*/ 360000 w 360360"/>
              <a:gd name="textAreaTop" fmla="*/ 360 h 527040"/>
              <a:gd name="textAreaBottom" fmla="*/ 526680 h 527040"/>
            </a:gdLst>
            <a:ahLst/>
            <a:rect l="textAreaLeft" t="textAreaTop" r="textAreaRight" b="textAreaBottom"/>
            <a:pathLst>
              <a:path w="21600" h="31581">
                <a:moveTo>
                  <a:pt x="95" y="0"/>
                </a:moveTo>
                <a:arcTo wR="95" hR="95" stAng="16200000" swAng="-5400000"/>
                <a:lnTo>
                  <a:pt x="0" y="31486"/>
                </a:lnTo>
                <a:arcTo wR="95" hR="95" stAng="10800000" swAng="-5400000"/>
                <a:lnTo>
                  <a:pt x="21505" y="31581"/>
                </a:lnTo>
                <a:arcTo wR="95" hR="95" stAng="5400000" swAng="-5400000"/>
                <a:lnTo>
                  <a:pt x="21600" y="95"/>
                </a:lnTo>
                <a:arcTo wR="95" hR="9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4859280"/>
            <a:ext cx="179280" cy="36036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360360"/>
              <a:gd name="textAreaBottom" fmla="*/ 360000 h 360360"/>
            </a:gdLst>
            <a:ahLst/>
            <a:rect l="textAreaLeft" t="textAreaTop" r="textAreaRight" b="textAreaBottom"/>
            <a:pathLst>
              <a:path w="21600" h="43373">
                <a:moveTo>
                  <a:pt x="192" y="0"/>
                </a:moveTo>
                <a:arcTo wR="192" hR="192" stAng="16200000" swAng="-5400000"/>
                <a:lnTo>
                  <a:pt x="0" y="43181"/>
                </a:lnTo>
                <a:arcTo wR="192" hR="192" stAng="10800000" swAng="-5400000"/>
                <a:lnTo>
                  <a:pt x="21408" y="43373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821120" y="5280120"/>
            <a:ext cx="3159360" cy="161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159760" y="4110120"/>
            <a:ext cx="900000" cy="1620720"/>
          </a:xfrm>
          <a:custGeom>
            <a:avLst/>
            <a:gdLst/>
            <a:ahLst/>
            <a:rect l="l" t="t" r="r" b="b"/>
            <a:pathLst>
              <a:path w="3001" h="4501">
                <a:moveTo>
                  <a:pt x="0" y="0"/>
                </a:moveTo>
                <a:cubicBezTo>
                  <a:pt x="3000" y="2500"/>
                  <a:pt x="0" y="4500"/>
                  <a:pt x="0" y="4500"/>
                </a:cubicBezTo>
              </a:path>
            </a:pathLst>
          </a:custGeom>
          <a:noFill/>
          <a:ln w="360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1080" y="7120080"/>
            <a:ext cx="7920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iulia Cisotto - University of Padova – Information Engineering Department – July, 1</a:t>
            </a:r>
            <a:r>
              <a:rPr b="1" lang="it-IT" sz="1200" spc="-1" strike="noStrike" baseline="33000">
                <a:solidFill>
                  <a:srgbClr val="000000"/>
                </a:solidFill>
                <a:latin typeface="Arial"/>
              </a:rPr>
              <a:t>st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539280" y="7035840"/>
            <a:ext cx="360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5000" t="15040" r="20000" b="4994"/>
          <a:stretch/>
        </p:blipFill>
        <p:spPr>
          <a:xfrm>
            <a:off x="6840360" y="2879640"/>
            <a:ext cx="3160800" cy="2519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5000" t="4994" r="5000" b="4994"/>
          <a:stretch/>
        </p:blipFill>
        <p:spPr>
          <a:xfrm>
            <a:off x="3916440" y="5338800"/>
            <a:ext cx="2203200" cy="1681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4937" t="10003" r="29856" b="5002"/>
          <a:stretch/>
        </p:blipFill>
        <p:spPr>
          <a:xfrm>
            <a:off x="179280" y="2879640"/>
            <a:ext cx="2700360" cy="2340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909880" y="3587760"/>
            <a:ext cx="3780000" cy="1800360"/>
          </a:xfrm>
          <a:prstGeom prst="ellipse">
            <a:avLst/>
          </a:prstGeom>
          <a:solidFill>
            <a:srgbClr val="ffffff"/>
          </a:solidFill>
          <a:ln w="72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000080"/>
                </a:solidFill>
                <a:latin typeface="Arial"/>
              </a:rPr>
              <a:t>Oper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000080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419640" y="1409760"/>
            <a:ext cx="2519280" cy="2009880"/>
          </a:xfrm>
          <a:prstGeom prst="rect">
            <a:avLst/>
          </a:prstGeom>
          <a:ln w="0">
            <a:noFill/>
          </a:ln>
        </p:spPr>
      </p:pic>
      <p:cxnSp>
        <p:nvCxnSpPr>
          <p:cNvPr id="121" name=""/>
          <p:cNvCxnSpPr>
            <a:stCxn id="118" idx="2"/>
            <a:endCxn id="117" idx="1"/>
          </p:cNvCxnSpPr>
          <p:nvPr/>
        </p:nvCxnSpPr>
        <p:spPr>
          <a:xfrm>
            <a:off x="1528920" y="5219640"/>
            <a:ext cx="2388240" cy="961200"/>
          </a:xfrm>
          <a:prstGeom prst="curvedConnector5">
            <a:avLst>
              <a:gd name="adj1" fmla="val 49992"/>
              <a:gd name="adj2" fmla="val 49981"/>
              <a:gd name="adj3" fmla="val 49992"/>
            </a:avLst>
          </a:prstGeom>
          <a:ln w="144000">
            <a:solidFill>
              <a:srgbClr val="0000ff"/>
            </a:solidFill>
            <a:round/>
            <a:tailEnd len="med" type="triangle" w="med"/>
          </a:ln>
        </p:spPr>
      </p:cxnSp>
      <p:cxnSp>
        <p:nvCxnSpPr>
          <p:cNvPr id="122" name=""/>
          <p:cNvCxnSpPr>
            <a:stCxn id="117" idx="3"/>
            <a:endCxn id="116" idx="2"/>
          </p:cNvCxnSpPr>
          <p:nvPr/>
        </p:nvCxnSpPr>
        <p:spPr>
          <a:xfrm flipV="1">
            <a:off x="6119280" y="5398560"/>
            <a:ext cx="2302920" cy="78048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144000">
            <a:solidFill>
              <a:srgbClr val="0000ff"/>
            </a:solidFill>
            <a:round/>
            <a:tailEnd len="med" type="triangle" w="med"/>
          </a:ln>
        </p:spPr>
      </p:cxnSp>
      <p:cxnSp>
        <p:nvCxnSpPr>
          <p:cNvPr id="123" name=""/>
          <p:cNvCxnSpPr>
            <a:stCxn id="116" idx="0"/>
            <a:endCxn id="120" idx="3"/>
          </p:cNvCxnSpPr>
          <p:nvPr/>
        </p:nvCxnSpPr>
        <p:spPr>
          <a:xfrm rot="10800000">
            <a:off x="5938200" y="2413800"/>
            <a:ext cx="2481840" cy="465840"/>
          </a:xfrm>
          <a:prstGeom prst="curvedConnector5">
            <a:avLst>
              <a:gd name="adj1" fmla="val 49992"/>
              <a:gd name="adj2" fmla="val 49961"/>
              <a:gd name="adj3" fmla="val 49992"/>
            </a:avLst>
          </a:prstGeom>
          <a:ln w="144000">
            <a:solidFill>
              <a:srgbClr val="0000ff"/>
            </a:solidFill>
            <a:round/>
            <a:tailEnd len="med" type="triangle" w="med"/>
          </a:ln>
        </p:spPr>
      </p:cxnSp>
      <p:cxnSp>
        <p:nvCxnSpPr>
          <p:cNvPr id="124" name=""/>
          <p:cNvCxnSpPr>
            <a:stCxn id="120" idx="1"/>
            <a:endCxn id="118" idx="0"/>
          </p:cNvCxnSpPr>
          <p:nvPr/>
        </p:nvCxnSpPr>
        <p:spPr>
          <a:xfrm flipV="1" rot="10800000">
            <a:off x="1528200" y="2414160"/>
            <a:ext cx="1891440" cy="465840"/>
          </a:xfrm>
          <a:prstGeom prst="curvedConnector5">
            <a:avLst>
              <a:gd name="adj1" fmla="val 49990"/>
              <a:gd name="adj2" fmla="val 49961"/>
              <a:gd name="adj3" fmla="val 49990"/>
            </a:avLst>
          </a:prstGeom>
          <a:ln w="144000">
            <a:solidFill>
              <a:srgbClr val="0000ff"/>
            </a:solidFill>
            <a:round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>
            <a:off x="2517120" y="5040360"/>
            <a:ext cx="360360" cy="360360"/>
          </a:xfrm>
          <a:custGeom>
            <a:avLst/>
            <a:gdLst>
              <a:gd name="textAreaLeft" fmla="*/ 144360 w 360360"/>
              <a:gd name="textAreaRight" fmla="*/ 232920 w 360360"/>
              <a:gd name="textAreaTop" fmla="*/ 123480 h 360360"/>
              <a:gd name="textAreaBottom" fmla="*/ 236880 h 360360"/>
            </a:gdLst>
            <a:ahLst/>
            <a:rect l="textAreaLeft" t="textAreaTop" r="textAreaRight" b="textAreaBottom"/>
            <a:pathLst>
              <a:path w="640" h="861">
                <a:moveTo>
                  <a:pt x="640" y="233"/>
                </a:moveTo>
                <a:lnTo>
                  <a:pt x="221" y="293"/>
                </a:lnTo>
                <a:lnTo>
                  <a:pt x="506" y="12"/>
                </a:lnTo>
                <a:lnTo>
                  <a:pt x="367" y="0"/>
                </a:lnTo>
                <a:lnTo>
                  <a:pt x="29" y="406"/>
                </a:lnTo>
                <a:lnTo>
                  <a:pt x="431" y="347"/>
                </a:lnTo>
                <a:lnTo>
                  <a:pt x="145" y="645"/>
                </a:lnTo>
                <a:lnTo>
                  <a:pt x="99" y="520"/>
                </a:lnTo>
                <a:lnTo>
                  <a:pt x="0" y="861"/>
                </a:lnTo>
                <a:lnTo>
                  <a:pt x="326" y="765"/>
                </a:lnTo>
                <a:lnTo>
                  <a:pt x="209" y="711"/>
                </a:lnTo>
                <a:lnTo>
                  <a:pt x="640" y="233"/>
                </a:lnTo>
                <a:lnTo>
                  <a:pt x="640" y="233"/>
                </a:lnTo>
                <a:close/>
              </a:path>
            </a:pathLst>
          </a:custGeom>
          <a:solidFill>
            <a:srgbClr val="e6ff00">
              <a:alpha val="2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79280"/>
            <a:ext cx="93600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4400" spc="-1" strike="noStrike">
                <a:solidFill>
                  <a:srgbClr val="c5000b"/>
                </a:solidFill>
                <a:latin typeface="Arial"/>
                <a:ea typeface="SimSun"/>
              </a:rPr>
              <a:t>Neurophysiological fundations (1/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1080" y="7120080"/>
            <a:ext cx="7920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iulia Cisotto - University of Padova – Information Engineering Department – July, 1</a:t>
            </a:r>
            <a:r>
              <a:rPr b="1" lang="it-IT" sz="1200" spc="-1" strike="noStrike" baseline="33000">
                <a:solidFill>
                  <a:srgbClr val="000000"/>
                </a:solidFill>
                <a:latin typeface="Arial"/>
              </a:rPr>
              <a:t>st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0360" y="179280"/>
            <a:ext cx="93600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4400" spc="-1" strike="noStrike">
                <a:solidFill>
                  <a:srgbClr val="c5000b"/>
                </a:solidFill>
                <a:latin typeface="Arial"/>
                <a:ea typeface="SimSun"/>
              </a:rPr>
              <a:t>Neurophysiological fundations (2/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780000" y="1979640"/>
            <a:ext cx="2519280" cy="2908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00720" y="2700360"/>
            <a:ext cx="360360" cy="53964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19640" y="2519280"/>
            <a:ext cx="720720" cy="900360"/>
          </a:xfrm>
          <a:prstGeom prst="donut">
            <a:avLst>
              <a:gd name="adj" fmla="val 22111"/>
            </a:avLst>
          </a:prstGeom>
          <a:solidFill>
            <a:srgbClr val="23f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1979640"/>
            <a:ext cx="539640" cy="539640"/>
          </a:xfrm>
          <a:prstGeom prst="line">
            <a:avLst/>
          </a:prstGeom>
          <a:ln w="108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030280" y="1979640"/>
            <a:ext cx="559080" cy="539640"/>
          </a:xfrm>
          <a:prstGeom prst="line">
            <a:avLst/>
          </a:prstGeom>
          <a:ln w="108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780000" y="3230640"/>
            <a:ext cx="539640" cy="558720"/>
          </a:xfrm>
          <a:prstGeom prst="line">
            <a:avLst/>
          </a:prstGeom>
          <a:ln w="108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030280" y="3230640"/>
            <a:ext cx="559080" cy="558720"/>
          </a:xfrm>
          <a:prstGeom prst="line">
            <a:avLst/>
          </a:prstGeom>
          <a:ln w="108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8920" y="2700360"/>
            <a:ext cx="306072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Arial"/>
              </a:rPr>
              <a:t>EXPLO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Arial"/>
              </a:rPr>
              <a:t>NEURAL REDUND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Arial"/>
              </a:rPr>
              <a:t>NEUROPLAST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Arial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360360" y="900000"/>
            <a:ext cx="4500720" cy="5759640"/>
          </a:xfrm>
          <a:prstGeom prst="irregularSeal2">
            <a:avLst/>
          </a:prstGeom>
          <a:noFill/>
          <a:ln w="36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240000"/>
            <a:ext cx="30607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ternative paths for the same motor output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233280" y="5940360"/>
            <a:ext cx="1049328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Artificial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closure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sensorimotor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by means of BCI with a force feedb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539280" y="7020000"/>
            <a:ext cx="360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1080" y="7120080"/>
            <a:ext cx="7920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iulia Cisotto - University of Padova – Information Engineering Department – July, 1</a:t>
            </a:r>
            <a:r>
              <a:rPr b="1" lang="it-IT" sz="1200" spc="-1" strike="noStrike" baseline="33000">
                <a:solidFill>
                  <a:srgbClr val="000000"/>
                </a:solidFill>
                <a:latin typeface="Arial"/>
              </a:rPr>
              <a:t>st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539280" y="7035840"/>
            <a:ext cx="360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3280" y="282600"/>
            <a:ext cx="90694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System 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9280" y="1422360"/>
            <a:ext cx="9720360" cy="5548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79640" y="2998800"/>
            <a:ext cx="1439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Signal Acquisition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17880" y="5597640"/>
            <a:ext cx="28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ignal Processing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2340000"/>
            <a:ext cx="2160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Force Feedback Provi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99280" y="3645000"/>
            <a:ext cx="16192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Feedback Control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1080" y="7120080"/>
            <a:ext cx="7920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iulia Cisotto - University of Padova – Information Engineering Department – July, 1</a:t>
            </a:r>
            <a:r>
              <a:rPr b="1" lang="it-IT" sz="1200" spc="-1" strike="noStrike" baseline="33000">
                <a:solidFill>
                  <a:srgbClr val="000000"/>
                </a:solidFill>
                <a:latin typeface="Arial"/>
              </a:rPr>
              <a:t>st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3280" y="282600"/>
            <a:ext cx="90694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Study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979640"/>
            <a:ext cx="6300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c5000b"/>
                </a:solidFill>
                <a:uFillTx/>
                <a:latin typeface="Arial"/>
              </a:rPr>
              <a:t>Task</a:t>
            </a:r>
            <a:r>
              <a:rPr b="0" lang="it-IT" sz="28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i="1" lang="it-IT" sz="2800" spc="-1" strike="noStrike">
                <a:solidFill>
                  <a:srgbClr val="c5000b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tandard 2D center-out 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0360" y="1784520"/>
            <a:ext cx="2971800" cy="2535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380360" y="2340000"/>
            <a:ext cx="720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Arial"/>
              </a:rPr>
              <a:t>18 cm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9640" y="2700360"/>
            <a:ext cx="360360" cy="179280"/>
          </a:xfrm>
          <a:prstGeom prst="roundRect">
            <a:avLst>
              <a:gd name="adj" fmla="val 8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3240000"/>
            <a:ext cx="2880000" cy="540000"/>
          </a:xfrm>
          <a:prstGeom prst="roundRect">
            <a:avLst>
              <a:gd name="adj" fmla="val 292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600" spc="-1" strike="noStrike">
                <a:solidFill>
                  <a:srgbClr val="ffffff"/>
                </a:solidFill>
                <a:latin typeface="Arial"/>
              </a:rPr>
              <a:t>Scree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4680000"/>
            <a:ext cx="2880000" cy="539640"/>
          </a:xfrm>
          <a:prstGeom prst="roundRect">
            <a:avLst>
              <a:gd name="adj" fmla="val 292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6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6119640"/>
            <a:ext cx="2880000" cy="540000"/>
          </a:xfrm>
          <a:prstGeom prst="roundRect">
            <a:avLst>
              <a:gd name="adj" fmla="val 292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600" spc="-1" strike="noStrike">
                <a:solidFill>
                  <a:srgbClr val="ffffff"/>
                </a:solidFill>
                <a:latin typeface="Arial"/>
              </a:rPr>
              <a:t>End T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9280" y="3959280"/>
            <a:ext cx="539640" cy="539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6000">
            <a:solidFill>
              <a:srgbClr val="c500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5400720"/>
            <a:ext cx="539640" cy="539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6000">
            <a:solidFill>
              <a:srgbClr val="c500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60720" y="3975120"/>
            <a:ext cx="44989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c5000b"/>
                </a:solidFill>
                <a:latin typeface="Arial"/>
              </a:rPr>
              <a:t>Features selection for feedbac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4680000"/>
            <a:ext cx="3600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two weeks with feedbac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45000" y="6195960"/>
            <a:ext cx="1079280" cy="36036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6119640"/>
            <a:ext cx="3959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Qualitative and quantitative improvements 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39280" y="7035840"/>
            <a:ext cx="360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1080" y="7120080"/>
            <a:ext cx="7920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iulia Cisotto - University of Padova – Information Engineering Department – July, 1</a:t>
            </a:r>
            <a:r>
              <a:rPr b="1" lang="it-IT" sz="1200" spc="-1" strike="noStrike" baseline="33000">
                <a:solidFill>
                  <a:srgbClr val="000000"/>
                </a:solidFill>
                <a:latin typeface="Arial"/>
              </a:rPr>
              <a:t>st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7T18:55:33Z</dcterms:created>
  <dc:creator>GIORGIO CISOTTO</dc:creator>
  <dc:description/>
  <dc:language>en-US</dc:language>
  <cp:lastModifiedBy>cisottog</cp:lastModifiedBy>
  <dcterms:modified xsi:type="dcterms:W3CDTF">2013-06-07T11:21:15Z</dcterms:modified>
  <cp:revision>4</cp:revision>
  <dc:subject/>
  <dc:title>Presentazione standard di PowerPoint</dc:title>
</cp:coreProperties>
</file>