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C10-E38A-43BA-9C64-949A57C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9FD-843A-4BFF-9963-9370824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0D6-F5C9-4BC6-B7EE-4638AD3A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8AC-08C7-4CA7-BDE2-2F859DAF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543-F91C-4D19-86C5-7E23769B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04E-D6C7-4F8F-B3D0-0EC1A2E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AF0D-7DB5-41F2-B076-8D6AE408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EC7-67C3-4554-B095-AE41DE21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BEB-A375-4CF7-A409-89E5547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111-5C98-48FF-A20A-9ABD6E8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DA3-8E2C-49EC-9835-4584794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2782-B033-4D91-B666-87A0C447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B8E4-8577-4F16-BE95-136C143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5BB7-A229-40C5-BE23-B8F368E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905B-9232-44CA-8FF3-3281808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0C1C-7FB0-4271-A523-DA191BD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CA5B-4A5B-458C-8727-AAD9F63F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A7F-4F22-46FB-9C88-A7943A14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D589-173E-453C-987C-755A4BB2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081-3B67-4B87-8D06-C7899A8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F0C-C014-4205-B505-D36414A0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C78-A7FB-4E64-8A2C-CB229EB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9E7-2629-4E96-AA28-006BE59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3CE-E8D1-4691-A895-018186F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FDE-879F-4052-BD89-389433C7C28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www.dei.unipd.it/wdyn/wdyn_images/2391_1175773820.gif"/>
          <p:cNvPicPr/>
          <p:nvPr/>
        </p:nvPicPr>
        <p:blipFill>
          <a:blip r:embed="rId2"/>
          <a:stretch/>
        </p:blipFill>
        <p:spPr>
          <a:xfrm>
            <a:off x="7929720" y="6067440"/>
            <a:ext cx="1214280" cy="790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di.unipi.it/~andrea/Sponsor/unipd.gif"/>
          <p:cNvPicPr/>
          <p:nvPr/>
        </p:nvPicPr>
        <p:blipFill>
          <a:blip r:embed="rId3"/>
          <a:stretch/>
        </p:blipFill>
        <p:spPr>
          <a:xfrm>
            <a:off x="7143840" y="6107040"/>
            <a:ext cx="760320" cy="75096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8"/>
          <p:cNvSpPr/>
          <p:nvPr/>
        </p:nvSpPr>
        <p:spPr>
          <a:xfrm>
            <a:off x="7826400" y="612288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a6a6a6"/>
                </a:solidFill>
                <a:latin typeface="Calibri"/>
              </a:rPr>
              <a:t>µE-LAB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nettore 1 9"/>
          <p:cNvSpPr/>
          <p:nvPr/>
        </p:nvSpPr>
        <p:spPr>
          <a:xfrm>
            <a:off x="0" y="6572160"/>
            <a:ext cx="692928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o 10"/>
          <p:cNvSpPr/>
          <p:nvPr/>
        </p:nvSpPr>
        <p:spPr>
          <a:xfrm flipH="1">
            <a:off x="6928560" y="6000840"/>
            <a:ext cx="1143000" cy="1143000"/>
          </a:xfrm>
          <a:custGeom>
            <a:avLst/>
            <a:gdLst>
              <a:gd name="textAreaLeft" fmla="*/ 571320 w 1143000"/>
              <a:gd name="textAreaRight" fmla="*/ 1143000 w 1143000"/>
              <a:gd name="textAreaTop" fmla="*/ 0 h 1143000"/>
              <a:gd name="textAreaBottom" fmla="*/ 571680 h 1143000"/>
            </a:gdLst>
            <a:ahLst/>
            <a:rect l="textAreaLeft" t="textAreaTop" r="textAreaRight" b="textAreaBottom"/>
            <a:pathLst>
              <a:path stroke="0" w="1143000" h="1143000">
                <a:moveTo>
                  <a:pt x="571501" y="0"/>
                </a:moveTo>
                <a:lnTo>
                  <a:pt x="571501" y="0"/>
                </a:lnTo>
                <a:arcTo wR="571500" hR="571500" stAng="-5399994" swAng="5400000"/>
                <a:lnTo>
                  <a:pt x="571500" y="571500"/>
                </a:lnTo>
                <a:close/>
              </a:path>
              <a:path fill="none" w="1143000" h="1143000">
                <a:moveTo>
                  <a:pt x="571501" y="0"/>
                </a:moveTo>
                <a:lnTo>
                  <a:pt x="571501" y="0"/>
                </a:lnTo>
                <a:arcTo wR="571500" hR="571500" stAng="-5399994" swAng="5400000"/>
              </a:path>
            </a:pathLst>
          </a:custGeom>
          <a:noFill/>
          <a:ln w="28440">
            <a:solidFill>
              <a:srgbClr val="c00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nettore 1 11"/>
          <p:cNvSpPr/>
          <p:nvPr/>
        </p:nvSpPr>
        <p:spPr>
          <a:xfrm>
            <a:off x="7500960" y="6000840"/>
            <a:ext cx="16430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12"/>
          <p:cNvSpPr/>
          <p:nvPr/>
        </p:nvSpPr>
        <p:spPr>
          <a:xfrm>
            <a:off x="0" y="6572160"/>
            <a:ext cx="70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abella Rossetto – SSIE 2013 – July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e 13"/>
          <p:cNvSpPr/>
          <p:nvPr/>
        </p:nvSpPr>
        <p:spPr>
          <a:xfrm>
            <a:off x="8918640" y="6075360"/>
            <a:ext cx="214200" cy="2142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31A-1A0A-4818-BCC5-EA7E0899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Connettore 1 6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asellaDiTesto 7"/>
          <p:cNvSpPr/>
          <p:nvPr/>
        </p:nvSpPr>
        <p:spPr>
          <a:xfrm>
            <a:off x="0" y="6559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rico Zanoni  - Study of the high-temperature reliability of GaN-based LEDs - January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2278080"/>
            <a:ext cx="9144000" cy="230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se-bias stress of High Electron Mobility Transistors: correlation between leakage current, current collapse and tra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1"/>
          <p:cNvSpPr/>
          <p:nvPr/>
        </p:nvSpPr>
        <p:spPr>
          <a:xfrm>
            <a:off x="0" y="907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Pad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Information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al results: Trapping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Object 1"/>
          <p:cNvGraphicFramePr/>
          <p:nvPr/>
        </p:nvGraphicFramePr>
        <p:xfrm>
          <a:off x="324000" y="765000"/>
          <a:ext cx="4140000" cy="29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5000"/>
                    <a:ext cx="41400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Rettangolo 3"/>
          <p:cNvSpPr/>
          <p:nvPr/>
        </p:nvSpPr>
        <p:spPr>
          <a:xfrm>
            <a:off x="5003640" y="1125360"/>
            <a:ext cx="3745080" cy="161856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baselines applied: trap 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V curves and maximum transconductance dynamic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ttangolo 3"/>
          <p:cNvSpPr/>
          <p:nvPr/>
        </p:nvSpPr>
        <p:spPr>
          <a:xfrm>
            <a:off x="34920" y="3933720"/>
            <a:ext cx="374508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voltag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crease of gate current and current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degra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rrent collapse increases but not leakag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gra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rong correlation between gate leakage current and 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Object 3"/>
          <p:cNvGraphicFramePr/>
          <p:nvPr/>
        </p:nvGraphicFramePr>
        <p:xfrm>
          <a:off x="4145040" y="3357720"/>
          <a:ext cx="4998960" cy="35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5040" y="3357720"/>
                    <a:ext cx="49989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about 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ttangolo 3"/>
          <p:cNvSpPr/>
          <p:nvPr/>
        </p:nvSpPr>
        <p:spPr>
          <a:xfrm>
            <a:off x="1403280" y="1052640"/>
            <a:ext cx="6408720" cy="10087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CAUSE OF THE CURRENT COLLAPSE INCREASE AFTER THE STRESS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ttangolo 3"/>
          <p:cNvSpPr/>
          <p:nvPr/>
        </p:nvSpPr>
        <p:spPr>
          <a:xfrm>
            <a:off x="250920" y="2924280"/>
            <a:ext cx="3600360" cy="7038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OF NEW DEFECTIVE LEV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ttangolo 5"/>
          <p:cNvSpPr/>
          <p:nvPr/>
        </p:nvSpPr>
        <p:spPr>
          <a:xfrm>
            <a:off x="5364000" y="2924280"/>
            <a:ext cx="3600720" cy="7038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S AMPLITUDE INCRE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Connettore 2 7"/>
          <p:cNvCxnSpPr/>
          <p:nvPr/>
        </p:nvCxnSpPr>
        <p:spPr>
          <a:xfrm flipH="1">
            <a:off x="2555640" y="2204640"/>
            <a:ext cx="1296000" cy="577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906" name="Connettore 2 8"/>
          <p:cNvCxnSpPr/>
          <p:nvPr/>
        </p:nvCxnSpPr>
        <p:spPr>
          <a:xfrm>
            <a:off x="5364000" y="2204640"/>
            <a:ext cx="1224720" cy="5770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about results: Trap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Object 1"/>
          <p:cNvGraphicFramePr/>
          <p:nvPr/>
        </p:nvGraphicFramePr>
        <p:xfrm>
          <a:off x="0" y="836640"/>
          <a:ext cx="4608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4608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4716360" y="3720960"/>
          <a:ext cx="442764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720960"/>
                    <a:ext cx="442764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Rettangolo 3"/>
          <p:cNvSpPr/>
          <p:nvPr/>
        </p:nvSpPr>
        <p:spPr>
          <a:xfrm>
            <a:off x="5003640" y="1916280"/>
            <a:ext cx="3745080" cy="10087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ain 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s are both thermal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ttangolo 3"/>
          <p:cNvSpPr/>
          <p:nvPr/>
        </p:nvSpPr>
        <p:spPr>
          <a:xfrm>
            <a:off x="539640" y="4365720"/>
            <a:ext cx="3745080" cy="7038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 is identified by a variation of the curre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ttangolo 3"/>
          <p:cNvSpPr/>
          <p:nvPr/>
        </p:nvSpPr>
        <p:spPr>
          <a:xfrm>
            <a:off x="539640" y="5589720"/>
            <a:ext cx="3745080" cy="4406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of the d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(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7" name="Connettore 2 16"/>
          <p:cNvCxnSpPr/>
          <p:nvPr/>
        </p:nvCxnSpPr>
        <p:spPr>
          <a:xfrm>
            <a:off x="2410920" y="5157360"/>
            <a:ext cx="1080" cy="35964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about results: Trap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Object 2"/>
          <p:cNvGraphicFramePr/>
          <p:nvPr/>
        </p:nvGraphicFramePr>
        <p:xfrm>
          <a:off x="0" y="836640"/>
          <a:ext cx="4608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4608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Object 3"/>
          <p:cNvGraphicFramePr/>
          <p:nvPr/>
        </p:nvGraphicFramePr>
        <p:xfrm>
          <a:off x="4716360" y="3720960"/>
          <a:ext cx="442764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720960"/>
                    <a:ext cx="442764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Rettangolo 3"/>
          <p:cNvSpPr/>
          <p:nvPr/>
        </p:nvSpPr>
        <p:spPr>
          <a:xfrm>
            <a:off x="5003640" y="1916280"/>
            <a:ext cx="3745080" cy="10087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ain 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s are both thermal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ttangolo 3"/>
          <p:cNvSpPr/>
          <p:nvPr/>
        </p:nvSpPr>
        <p:spPr>
          <a:xfrm>
            <a:off x="539640" y="4365720"/>
            <a:ext cx="3745080" cy="7038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 is identified by a variation of the curre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ttangolo 3"/>
          <p:cNvSpPr/>
          <p:nvPr/>
        </p:nvSpPr>
        <p:spPr>
          <a:xfrm>
            <a:off x="539640" y="5589720"/>
            <a:ext cx="3745080" cy="4406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of the d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(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8" name="Connettore 2 16"/>
          <p:cNvCxnSpPr/>
          <p:nvPr/>
        </p:nvCxnSpPr>
        <p:spPr>
          <a:xfrm>
            <a:off x="2410920" y="5157360"/>
            <a:ext cx="1080" cy="35964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about results: Trap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ttangolo 3"/>
          <p:cNvSpPr/>
          <p:nvPr/>
        </p:nvSpPr>
        <p:spPr>
          <a:xfrm>
            <a:off x="5724360" y="1700280"/>
            <a:ext cx="3095640" cy="422496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ain traps with activation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56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74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with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doping in the GaN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4"/>
          <p:cNvGraphicFramePr/>
          <p:nvPr/>
        </p:nvGraphicFramePr>
        <p:xfrm>
          <a:off x="250920" y="1916280"/>
          <a:ext cx="505116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505116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about results: Trap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ttangolo 3"/>
          <p:cNvSpPr/>
          <p:nvPr/>
        </p:nvSpPr>
        <p:spPr>
          <a:xfrm>
            <a:off x="5219640" y="1989000"/>
            <a:ext cx="3529080" cy="357336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ariation in the activation energy or cross section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reation of new defectiv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of the amplitude of both the tr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2.76∙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3.52∙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.49∙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∙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7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Object 3"/>
          <p:cNvGraphicFramePr/>
          <p:nvPr/>
        </p:nvGraphicFramePr>
        <p:xfrm>
          <a:off x="324000" y="765000"/>
          <a:ext cx="43513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5000"/>
                    <a:ext cx="43513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5"/>
          <p:cNvGraphicFramePr/>
          <p:nvPr/>
        </p:nvGraphicFramePr>
        <p:xfrm>
          <a:off x="179280" y="3797280"/>
          <a:ext cx="4292640" cy="30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797280"/>
                    <a:ext cx="42926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ttangolo 2"/>
          <p:cNvSpPr/>
          <p:nvPr/>
        </p:nvSpPr>
        <p:spPr>
          <a:xfrm>
            <a:off x="324000" y="1189080"/>
            <a:ext cx="835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T and GaN bas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ping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e bias step stress and DC charact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 Microscop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ab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 analysis (Current transient) on a fresh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 variation during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ttangolo 3"/>
          <p:cNvSpPr/>
          <p:nvPr/>
        </p:nvSpPr>
        <p:spPr>
          <a:xfrm>
            <a:off x="1116000" y="985680"/>
            <a:ext cx="7128000" cy="192348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lectron mobility transistors: heterostructure composed by two layers (semiconductors with different propert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pplication on power conversion and communication fields: (i) maximum frequency; (ii) breakdown robustness; (iii) power diss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uppo 12"/>
          <p:cNvGrpSpPr/>
          <p:nvPr/>
        </p:nvGrpSpPr>
        <p:grpSpPr>
          <a:xfrm>
            <a:off x="826920" y="4027320"/>
            <a:ext cx="3673800" cy="2065680"/>
            <a:chOff x="826920" y="4027320"/>
            <a:chExt cx="3673800" cy="2065680"/>
          </a:xfrm>
        </p:grpSpPr>
        <p:sp>
          <p:nvSpPr>
            <p:cNvPr id="813" name="Line 7"/>
            <p:cNvSpPr/>
            <p:nvPr/>
          </p:nvSpPr>
          <p:spPr>
            <a:xfrm>
              <a:off x="1406520" y="4698720"/>
              <a:ext cx="774000" cy="61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"/>
            <p:cNvSpPr/>
            <p:nvPr/>
          </p:nvSpPr>
          <p:spPr>
            <a:xfrm>
              <a:off x="1085400" y="402732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lGaN            G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5"/>
            <p:cNvSpPr/>
            <p:nvPr/>
          </p:nvSpPr>
          <p:spPr>
            <a:xfrm>
              <a:off x="1019880" y="5782320"/>
              <a:ext cx="3158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6"/>
            <p:cNvSpPr/>
            <p:nvPr/>
          </p:nvSpPr>
          <p:spPr>
            <a:xfrm flipV="1">
              <a:off x="1406520" y="4698360"/>
              <a:ext cx="0" cy="139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2694960" y="5586480"/>
              <a:ext cx="154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 flipV="1">
              <a:off x="2180880" y="5783400"/>
              <a:ext cx="192960" cy="30960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22"/>
            <p:cNvSpPr/>
            <p:nvPr/>
          </p:nvSpPr>
          <p:spPr>
            <a:xfrm>
              <a:off x="2760480" y="4491720"/>
              <a:ext cx="10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3300"/>
                  </a:solidFill>
                  <a:latin typeface="Arial"/>
                </a:rPr>
                <a:t>2D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31"/>
            <p:cNvSpPr/>
            <p:nvPr/>
          </p:nvSpPr>
          <p:spPr>
            <a:xfrm>
              <a:off x="826920" y="544212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32"/>
            <p:cNvSpPr/>
            <p:nvPr/>
          </p:nvSpPr>
          <p:spPr>
            <a:xfrm>
              <a:off x="4048920" y="526680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1"/>
            <p:cNvSpPr/>
            <p:nvPr/>
          </p:nvSpPr>
          <p:spPr>
            <a:xfrm>
              <a:off x="2180880" y="5583240"/>
              <a:ext cx="563760" cy="50976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397" h="448">
                  <a:moveTo>
                    <a:pt x="397" y="0"/>
                  </a:moveTo>
                  <a:cubicBezTo>
                    <a:pt x="371" y="9"/>
                    <a:pt x="287" y="15"/>
                    <a:pt x="241" y="45"/>
                  </a:cubicBezTo>
                  <a:cubicBezTo>
                    <a:pt x="195" y="75"/>
                    <a:pt x="163" y="116"/>
                    <a:pt x="123" y="183"/>
                  </a:cubicBezTo>
                  <a:cubicBezTo>
                    <a:pt x="83" y="250"/>
                    <a:pt x="26" y="393"/>
                    <a:pt x="0" y="4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8"/>
            <p:cNvSpPr/>
            <p:nvPr/>
          </p:nvSpPr>
          <p:spPr>
            <a:xfrm>
              <a:off x="2180880" y="5317920"/>
              <a:ext cx="0" cy="77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44"/>
            <p:cNvGrpSpPr/>
            <p:nvPr/>
          </p:nvGrpSpPr>
          <p:grpSpPr>
            <a:xfrm>
              <a:off x="1483200" y="4646520"/>
              <a:ext cx="109080" cy="87480"/>
              <a:chOff x="1483200" y="4646520"/>
              <a:chExt cx="109080" cy="87480"/>
            </a:xfrm>
          </p:grpSpPr>
          <p:sp>
            <p:nvSpPr>
              <p:cNvPr id="825" name="Oval 14"/>
              <p:cNvSpPr/>
              <p:nvPr/>
            </p:nvSpPr>
            <p:spPr>
              <a:xfrm>
                <a:off x="1483200" y="4646520"/>
                <a:ext cx="109080" cy="8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43"/>
              <p:cNvSpPr/>
              <p:nvPr/>
            </p:nvSpPr>
            <p:spPr>
              <a:xfrm>
                <a:off x="1498320" y="4697640"/>
                <a:ext cx="63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48"/>
            <p:cNvGrpSpPr/>
            <p:nvPr/>
          </p:nvGrpSpPr>
          <p:grpSpPr>
            <a:xfrm>
              <a:off x="1676520" y="4801320"/>
              <a:ext cx="109080" cy="87480"/>
              <a:chOff x="1676520" y="4801320"/>
              <a:chExt cx="109080" cy="87480"/>
            </a:xfrm>
          </p:grpSpPr>
          <p:sp>
            <p:nvSpPr>
              <p:cNvPr id="828" name="Oval 49"/>
              <p:cNvSpPr/>
              <p:nvPr/>
            </p:nvSpPr>
            <p:spPr>
              <a:xfrm>
                <a:off x="1676520" y="4801320"/>
                <a:ext cx="109080" cy="8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50"/>
              <p:cNvSpPr/>
              <p:nvPr/>
            </p:nvSpPr>
            <p:spPr>
              <a:xfrm>
                <a:off x="1691640" y="4852440"/>
                <a:ext cx="63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Group 51"/>
            <p:cNvGrpSpPr/>
            <p:nvPr/>
          </p:nvGrpSpPr>
          <p:grpSpPr>
            <a:xfrm>
              <a:off x="1869480" y="4956120"/>
              <a:ext cx="109080" cy="87480"/>
              <a:chOff x="1869480" y="4956120"/>
              <a:chExt cx="109080" cy="87480"/>
            </a:xfrm>
          </p:grpSpPr>
          <p:sp>
            <p:nvSpPr>
              <p:cNvPr id="831" name="Oval 52"/>
              <p:cNvSpPr/>
              <p:nvPr/>
            </p:nvSpPr>
            <p:spPr>
              <a:xfrm>
                <a:off x="1869480" y="4956120"/>
                <a:ext cx="109080" cy="8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53"/>
              <p:cNvSpPr/>
              <p:nvPr/>
            </p:nvSpPr>
            <p:spPr>
              <a:xfrm>
                <a:off x="1884600" y="5007240"/>
                <a:ext cx="63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54"/>
            <p:cNvGrpSpPr/>
            <p:nvPr/>
          </p:nvGrpSpPr>
          <p:grpSpPr>
            <a:xfrm>
              <a:off x="2062800" y="5110920"/>
              <a:ext cx="109080" cy="87480"/>
              <a:chOff x="2062800" y="5110920"/>
              <a:chExt cx="109080" cy="87480"/>
            </a:xfrm>
          </p:grpSpPr>
          <p:sp>
            <p:nvSpPr>
              <p:cNvPr id="834" name="Oval 55"/>
              <p:cNvSpPr/>
              <p:nvPr/>
            </p:nvSpPr>
            <p:spPr>
              <a:xfrm>
                <a:off x="2062800" y="5110920"/>
                <a:ext cx="109080" cy="8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56"/>
              <p:cNvSpPr/>
              <p:nvPr/>
            </p:nvSpPr>
            <p:spPr>
              <a:xfrm>
                <a:off x="2077920" y="5162040"/>
                <a:ext cx="63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57"/>
            <p:cNvGrpSpPr/>
            <p:nvPr/>
          </p:nvGrpSpPr>
          <p:grpSpPr>
            <a:xfrm>
              <a:off x="2180880" y="5437440"/>
              <a:ext cx="109080" cy="87480"/>
              <a:chOff x="2180880" y="5437440"/>
              <a:chExt cx="109080" cy="87480"/>
            </a:xfrm>
          </p:grpSpPr>
          <p:sp>
            <p:nvSpPr>
              <p:cNvPr id="837" name="Oval 58"/>
              <p:cNvSpPr/>
              <p:nvPr/>
            </p:nvSpPr>
            <p:spPr>
              <a:xfrm>
                <a:off x="2180880" y="5437440"/>
                <a:ext cx="109080" cy="87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59"/>
              <p:cNvSpPr/>
              <p:nvPr/>
            </p:nvSpPr>
            <p:spPr>
              <a:xfrm>
                <a:off x="2196000" y="5488560"/>
                <a:ext cx="63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Line 62"/>
            <p:cNvSpPr/>
            <p:nvPr/>
          </p:nvSpPr>
          <p:spPr>
            <a:xfrm flipH="1">
              <a:off x="2308680" y="4802400"/>
              <a:ext cx="58104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Connettore 1 41"/>
          <p:cNvSpPr/>
          <p:nvPr/>
        </p:nvSpPr>
        <p:spPr>
          <a:xfrm>
            <a:off x="2155680" y="3762360"/>
            <a:ext cx="5040" cy="259704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13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5082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Rettangolo 3"/>
          <p:cNvSpPr/>
          <p:nvPr/>
        </p:nvSpPr>
        <p:spPr>
          <a:xfrm>
            <a:off x="539640" y="1241280"/>
            <a:ext cx="3888000" cy="13136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 (Gallium Nitrid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g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and saturatio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down electr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932360" y="907920"/>
          <a:ext cx="3887640" cy="2175120"/>
        </p:xfrm>
        <a:graphic>
          <a:graphicData uri="http://schemas.openxmlformats.org/drawingml/2006/table">
            <a:tbl>
              <a:tblPr/>
              <a:tblGrid>
                <a:gridCol w="1568520"/>
                <a:gridCol w="750960"/>
                <a:gridCol w="819000"/>
                <a:gridCol w="749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µ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m</a:t>
                      </a:r>
                      <a:r>
                        <a:rPr b="0" lang="it-IT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V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0</a:t>
                      </a:r>
                      <a:r>
                        <a:rPr b="0" lang="it-IT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m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it-IT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V/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pic>
        <p:nvPicPr>
          <p:cNvPr id="845" name="Picture 2" descr="C:\Users\Carlo\Documents\Immagine1.png"/>
          <p:cNvPicPr/>
          <p:nvPr/>
        </p:nvPicPr>
        <p:blipFill>
          <a:blip r:embed="rId1"/>
          <a:stretch/>
        </p:blipFill>
        <p:spPr>
          <a:xfrm>
            <a:off x="2124000" y="3444840"/>
            <a:ext cx="48484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Rettangolo 3"/>
          <p:cNvSpPr/>
          <p:nvPr/>
        </p:nvSpPr>
        <p:spPr>
          <a:xfrm>
            <a:off x="1476360" y="1136520"/>
            <a:ext cx="6048360" cy="10087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ping phenomena – Current collapse (i.e. recoverable temporary drain current reduction after the application of a high vol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Connettore 2 6"/>
          <p:cNvCxnSpPr/>
          <p:nvPr/>
        </p:nvCxnSpPr>
        <p:spPr>
          <a:xfrm>
            <a:off x="4427280" y="2276280"/>
            <a:ext cx="1080" cy="64836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849" name="Rettangolo 3"/>
          <p:cNvSpPr/>
          <p:nvPr/>
        </p:nvSpPr>
        <p:spPr>
          <a:xfrm>
            <a:off x="1476360" y="4365720"/>
            <a:ext cx="604836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the correlation between current collapse and gate leakage current increase due to degradation after reverse bias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Connettore 2 9"/>
          <p:cNvCxnSpPr/>
          <p:nvPr/>
        </p:nvCxnSpPr>
        <p:spPr>
          <a:xfrm>
            <a:off x="4427280" y="3573360"/>
            <a:ext cx="1080" cy="650160"/>
          </a:xfrm>
          <a:prstGeom prst="straightConnector1">
            <a:avLst/>
          </a:prstGeom>
          <a:ln w="381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851" name="Rettangolo 3"/>
          <p:cNvSpPr/>
          <p:nvPr/>
        </p:nvSpPr>
        <p:spPr>
          <a:xfrm>
            <a:off x="1476360" y="3068640"/>
            <a:ext cx="6048360" cy="39888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ening of device performances and reli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 Set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ttangolo 3"/>
          <p:cNvSpPr/>
          <p:nvPr/>
        </p:nvSpPr>
        <p:spPr>
          <a:xfrm>
            <a:off x="2843280" y="765000"/>
            <a:ext cx="3816360" cy="10087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characteriz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de and transistor I-V cur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onduc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ttangolo 3"/>
          <p:cNvSpPr/>
          <p:nvPr/>
        </p:nvSpPr>
        <p:spPr>
          <a:xfrm>
            <a:off x="5327640" y="3573360"/>
            <a:ext cx="3816360" cy="204876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d characte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bias poin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ulsed from a quiescent bias poin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µs pulse, 100 µs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ttangolo 3"/>
          <p:cNvSpPr/>
          <p:nvPr/>
        </p:nvSpPr>
        <p:spPr>
          <a:xfrm>
            <a:off x="1332000" y="4919760"/>
            <a:ext cx="381636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 current transi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a trapping and de-trapping phase (100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ambient temperature imposed (activation energy and cross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ttangolo 5"/>
          <p:cNvSpPr/>
          <p:nvPr/>
        </p:nvSpPr>
        <p:spPr>
          <a:xfrm>
            <a:off x="4716360" y="2349360"/>
            <a:ext cx="3816360" cy="7038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e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in OFF and 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ttangolo 3"/>
          <p:cNvSpPr/>
          <p:nvPr/>
        </p:nvSpPr>
        <p:spPr>
          <a:xfrm>
            <a:off x="684360" y="3141720"/>
            <a:ext cx="3816360" cy="135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e bias step st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as applied for 1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as of 5V/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emission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ccia curva 34"/>
          <p:cNvSpPr/>
          <p:nvPr/>
        </p:nvSpPr>
        <p:spPr>
          <a:xfrm rot="5400000">
            <a:off x="7092720" y="1268280"/>
            <a:ext cx="647640" cy="936720"/>
          </a:xfrm>
          <a:custGeom>
            <a:avLst/>
            <a:gdLst/>
            <a:ahLst/>
            <a:rect l="l" t="t" r="r" b="b"/>
            <a:pathLst>
              <a:path w="647700" h="936625">
                <a:moveTo>
                  <a:pt x="0" y="936625"/>
                </a:moveTo>
                <a:lnTo>
                  <a:pt x="0" y="440491"/>
                </a:lnTo>
                <a:lnTo>
                  <a:pt x="0" y="440491"/>
                </a:lnTo>
                <a:arcTo wR="283369" hR="283369" stAng="10800000" swAng="5400000"/>
                <a:lnTo>
                  <a:pt x="485775" y="157122"/>
                </a:lnTo>
                <a:lnTo>
                  <a:pt x="485775" y="0"/>
                </a:lnTo>
                <a:lnTo>
                  <a:pt x="647700" y="196545"/>
                </a:lnTo>
                <a:lnTo>
                  <a:pt x="485775" y="393089"/>
                </a:lnTo>
                <a:lnTo>
                  <a:pt x="485775" y="235967"/>
                </a:lnTo>
                <a:lnTo>
                  <a:pt x="283369" y="235967"/>
                </a:lnTo>
                <a:lnTo>
                  <a:pt x="283369" y="235967"/>
                </a:lnTo>
                <a:arcTo wR="204524" hR="204524" stAng="-5400000" swAng="-5400000"/>
                <a:lnTo>
                  <a:pt x="78845" y="936625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ccia curva 35"/>
          <p:cNvSpPr/>
          <p:nvPr/>
        </p:nvSpPr>
        <p:spPr>
          <a:xfrm rot="5400000">
            <a:off x="8530560" y="2852640"/>
            <a:ext cx="649440" cy="360360"/>
          </a:xfrm>
          <a:custGeom>
            <a:avLst/>
            <a:gdLst/>
            <a:ahLst/>
            <a:rect l="l" t="t" r="r" b="b"/>
            <a:pathLst>
              <a:path w="649288" h="360362">
                <a:moveTo>
                  <a:pt x="0" y="360362"/>
                </a:moveTo>
                <a:lnTo>
                  <a:pt x="0" y="286677"/>
                </a:lnTo>
                <a:lnTo>
                  <a:pt x="0" y="286677"/>
                </a:lnTo>
                <a:arcTo wR="157658" hR="157658" stAng="10800000" swAng="5400000"/>
                <a:lnTo>
                  <a:pt x="469107" y="129019"/>
                </a:lnTo>
                <a:lnTo>
                  <a:pt x="469107" y="0"/>
                </a:lnTo>
                <a:lnTo>
                  <a:pt x="649288" y="150952"/>
                </a:lnTo>
                <a:lnTo>
                  <a:pt x="469107" y="301904"/>
                </a:lnTo>
                <a:lnTo>
                  <a:pt x="469107" y="172885"/>
                </a:lnTo>
                <a:lnTo>
                  <a:pt x="157658" y="172885"/>
                </a:lnTo>
                <a:lnTo>
                  <a:pt x="157658" y="172885"/>
                </a:lnTo>
                <a:arcTo wR="113792" hR="113792" stAng="-5400000" swAng="-5400000"/>
                <a:lnTo>
                  <a:pt x="43867" y="360362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ccia curva 36"/>
          <p:cNvSpPr/>
          <p:nvPr/>
        </p:nvSpPr>
        <p:spPr>
          <a:xfrm rot="10800000">
            <a:off x="5219640" y="5660640"/>
            <a:ext cx="720720" cy="593640"/>
          </a:xfrm>
          <a:custGeom>
            <a:avLst/>
            <a:gdLst/>
            <a:ahLst/>
            <a:rect l="l" t="t" r="r" b="b"/>
            <a:pathLst>
              <a:path w="720725" h="593725">
                <a:moveTo>
                  <a:pt x="0" y="593725"/>
                </a:moveTo>
                <a:lnTo>
                  <a:pt x="0" y="403783"/>
                </a:lnTo>
                <a:lnTo>
                  <a:pt x="0" y="403783"/>
                </a:lnTo>
                <a:arcTo wR="259755" hR="259755" stAng="10800000" swAng="5400000"/>
                <a:lnTo>
                  <a:pt x="572294" y="144029"/>
                </a:lnTo>
                <a:lnTo>
                  <a:pt x="572294" y="0"/>
                </a:lnTo>
                <a:lnTo>
                  <a:pt x="720725" y="180166"/>
                </a:lnTo>
                <a:lnTo>
                  <a:pt x="572294" y="360332"/>
                </a:lnTo>
                <a:lnTo>
                  <a:pt x="572294" y="216303"/>
                </a:lnTo>
                <a:lnTo>
                  <a:pt x="259755" y="216303"/>
                </a:lnTo>
                <a:lnTo>
                  <a:pt x="259755" y="216303"/>
                </a:lnTo>
                <a:arcTo wR="187481" hR="187481" stAng="-5400000" swAng="-5400000"/>
                <a:lnTo>
                  <a:pt x="72274" y="593725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ccia curva 37"/>
          <p:cNvSpPr/>
          <p:nvPr/>
        </p:nvSpPr>
        <p:spPr>
          <a:xfrm rot="16200000">
            <a:off x="620640" y="4716000"/>
            <a:ext cx="647640" cy="520560"/>
          </a:xfrm>
          <a:custGeom>
            <a:avLst/>
            <a:gdLst/>
            <a:ahLst/>
            <a:rect l="l" t="t" r="r" b="b"/>
            <a:pathLst>
              <a:path w="647700" h="520700">
                <a:moveTo>
                  <a:pt x="0" y="520700"/>
                </a:moveTo>
                <a:lnTo>
                  <a:pt x="0" y="335526"/>
                </a:lnTo>
                <a:lnTo>
                  <a:pt x="0" y="335526"/>
                </a:lnTo>
                <a:arcTo wR="227806" hR="227806" stAng="10800000" swAng="5400000"/>
                <a:lnTo>
                  <a:pt x="517525" y="107720"/>
                </a:lnTo>
                <a:lnTo>
                  <a:pt x="517525" y="0"/>
                </a:lnTo>
                <a:lnTo>
                  <a:pt x="647700" y="139412"/>
                </a:lnTo>
                <a:lnTo>
                  <a:pt x="517525" y="278824"/>
                </a:lnTo>
                <a:lnTo>
                  <a:pt x="517525" y="171105"/>
                </a:lnTo>
                <a:lnTo>
                  <a:pt x="227806" y="171105"/>
                </a:lnTo>
                <a:lnTo>
                  <a:pt x="227806" y="171105"/>
                </a:lnTo>
                <a:arcTo wR="164421" hR="164421" stAng="-5400000" swAng="-5400000"/>
                <a:lnTo>
                  <a:pt x="63385" y="52070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ccia curva 38"/>
          <p:cNvSpPr/>
          <p:nvPr/>
        </p:nvSpPr>
        <p:spPr>
          <a:xfrm>
            <a:off x="1908000" y="1268280"/>
            <a:ext cx="863640" cy="505080"/>
          </a:xfrm>
          <a:custGeom>
            <a:avLst/>
            <a:gdLst/>
            <a:ahLst/>
            <a:rect l="l" t="t" r="r" b="b"/>
            <a:pathLst>
              <a:path w="863600" h="504825">
                <a:moveTo>
                  <a:pt x="0" y="504825"/>
                </a:moveTo>
                <a:lnTo>
                  <a:pt x="0" y="337438"/>
                </a:lnTo>
                <a:lnTo>
                  <a:pt x="0" y="337438"/>
                </a:lnTo>
                <a:arcTo wR="220861" hR="220861" stAng="10800000" swAng="5400000"/>
                <a:lnTo>
                  <a:pt x="737394" y="116577"/>
                </a:lnTo>
                <a:lnTo>
                  <a:pt x="737394" y="0"/>
                </a:lnTo>
                <a:lnTo>
                  <a:pt x="863600" y="147303"/>
                </a:lnTo>
                <a:lnTo>
                  <a:pt x="737394" y="294606"/>
                </a:lnTo>
                <a:lnTo>
                  <a:pt x="737394" y="178029"/>
                </a:lnTo>
                <a:lnTo>
                  <a:pt x="220861" y="178029"/>
                </a:lnTo>
                <a:lnTo>
                  <a:pt x="220861" y="178029"/>
                </a:lnTo>
                <a:arcTo wR="159409" hR="159409" stAng="-5400000" swAng="-5400000"/>
                <a:lnTo>
                  <a:pt x="61452" y="504825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ttangolo 3"/>
          <p:cNvSpPr/>
          <p:nvPr/>
        </p:nvSpPr>
        <p:spPr>
          <a:xfrm>
            <a:off x="179280" y="1916280"/>
            <a:ext cx="3816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rapping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s with no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ccia curva 40"/>
          <p:cNvSpPr/>
          <p:nvPr/>
        </p:nvSpPr>
        <p:spPr>
          <a:xfrm rot="16200000">
            <a:off x="9360" y="2771640"/>
            <a:ext cx="503280" cy="522360"/>
          </a:xfrm>
          <a:custGeom>
            <a:avLst/>
            <a:gdLst/>
            <a:ahLst/>
            <a:rect l="l" t="t" r="r" b="b"/>
            <a:pathLst>
              <a:path w="503238" h="522288">
                <a:moveTo>
                  <a:pt x="0" y="522288"/>
                </a:moveTo>
                <a:lnTo>
                  <a:pt x="0" y="324274"/>
                </a:lnTo>
                <a:lnTo>
                  <a:pt x="0" y="324274"/>
                </a:lnTo>
                <a:arcTo wR="220167" hR="220167" stAng="10800000" swAng="5400000"/>
                <a:lnTo>
                  <a:pt x="377429" y="104107"/>
                </a:lnTo>
                <a:lnTo>
                  <a:pt x="377429" y="0"/>
                </a:lnTo>
                <a:lnTo>
                  <a:pt x="503238" y="134737"/>
                </a:lnTo>
                <a:lnTo>
                  <a:pt x="377429" y="269474"/>
                </a:lnTo>
                <a:lnTo>
                  <a:pt x="377429" y="165367"/>
                </a:lnTo>
                <a:lnTo>
                  <a:pt x="220167" y="165367"/>
                </a:lnTo>
                <a:lnTo>
                  <a:pt x="220167" y="165367"/>
                </a:lnTo>
                <a:arcTo wR="158907" hR="158907" stAng="-5400000" swAng="-5400000"/>
                <a:lnTo>
                  <a:pt x="61259" y="522288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al results: Reverse bias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Object 1"/>
          <p:cNvGraphicFramePr/>
          <p:nvPr/>
        </p:nvGraphicFramePr>
        <p:xfrm>
          <a:off x="0" y="765000"/>
          <a:ext cx="471636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471636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ttangolo 3"/>
          <p:cNvSpPr/>
          <p:nvPr/>
        </p:nvSpPr>
        <p:spPr>
          <a:xfrm>
            <a:off x="5364000" y="1268280"/>
            <a:ext cx="2880000" cy="231192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ltage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70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coverable g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kage current increase both in diodes an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Object 3"/>
          <p:cNvGraphicFramePr/>
          <p:nvPr/>
        </p:nvGraphicFramePr>
        <p:xfrm>
          <a:off x="4356000" y="3471840"/>
          <a:ext cx="4788000" cy="33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71840"/>
                    <a:ext cx="478800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al results: Reverse bias st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ttangolo 3"/>
          <p:cNvSpPr/>
          <p:nvPr/>
        </p:nvSpPr>
        <p:spPr>
          <a:xfrm>
            <a:off x="5003640" y="1125360"/>
            <a:ext cx="3745080" cy="19652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ignificant decrease afte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70V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tion of main parameters partially due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pping phenome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tially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coverable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50920" y="765000"/>
          <a:ext cx="412740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41274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Object 6"/>
          <p:cNvGraphicFramePr/>
          <p:nvPr/>
        </p:nvGraphicFramePr>
        <p:xfrm>
          <a:off x="324000" y="3573360"/>
          <a:ext cx="4084560" cy="288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573360"/>
                    <a:ext cx="408456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Object 8"/>
          <p:cNvGraphicFramePr/>
          <p:nvPr/>
        </p:nvGraphicFramePr>
        <p:xfrm>
          <a:off x="4716360" y="3645000"/>
          <a:ext cx="40752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3645000"/>
                    <a:ext cx="40752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al results: Emission Microsco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Picture 3" descr=""/>
          <p:cNvPicPr/>
          <p:nvPr/>
        </p:nvPicPr>
        <p:blipFill>
          <a:blip r:embed="rId1"/>
          <a:stretch/>
        </p:blipFill>
        <p:spPr>
          <a:xfrm>
            <a:off x="252360" y="1370160"/>
            <a:ext cx="2879640" cy="22032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4" descr=""/>
          <p:cNvPicPr/>
          <p:nvPr/>
        </p:nvPicPr>
        <p:blipFill>
          <a:blip r:embed="rId2"/>
          <a:srcRect l="0" t="2213" r="0" b="0"/>
          <a:stretch/>
        </p:blipFill>
        <p:spPr>
          <a:xfrm>
            <a:off x="252360" y="4330800"/>
            <a:ext cx="2879640" cy="2554200"/>
          </a:xfrm>
          <a:prstGeom prst="rect">
            <a:avLst/>
          </a:prstGeom>
          <a:ln w="0">
            <a:noFill/>
          </a:ln>
        </p:spPr>
      </p:pic>
      <p:sp>
        <p:nvSpPr>
          <p:cNvPr id="889" name="Rettangolo 4"/>
          <p:cNvSpPr/>
          <p:nvPr/>
        </p:nvSpPr>
        <p:spPr>
          <a:xfrm>
            <a:off x="682560" y="868320"/>
            <a:ext cx="2089080" cy="4406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7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ttangolo 6"/>
          <p:cNvSpPr/>
          <p:nvPr/>
        </p:nvSpPr>
        <p:spPr>
          <a:xfrm>
            <a:off x="682560" y="3821040"/>
            <a:ext cx="2089080" cy="44064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8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ttangolo 3"/>
          <p:cNvSpPr/>
          <p:nvPr/>
        </p:nvSpPr>
        <p:spPr>
          <a:xfrm>
            <a:off x="4211640" y="2622600"/>
            <a:ext cx="4392720" cy="2228400"/>
          </a:xfrm>
          <a:prstGeom prst="rect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easurements revealed hot spots after degradation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of hot spots and EL photon count with device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orrelation between EL measurements and transistor gate leakag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7:41:01Z</dcterms:created>
  <dc:creator>menego</dc:creator>
  <dc:description/>
  <dc:language>en-US</dc:language>
  <cp:lastModifiedBy>Carlo</cp:lastModifiedBy>
  <dcterms:modified xsi:type="dcterms:W3CDTF">2013-07-04T08:06:53Z</dcterms:modified>
  <cp:revision>280</cp:revision>
  <dc:subject/>
  <dc:title>Diapositiva 1</dc:title>
</cp:coreProperties>
</file>