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8.pct" ContentType="image/x-pict"/>
  <Override PartName="/ppt/media/image17.pct" ContentType="image/x-pict"/>
  <Override PartName="/ppt/media/image16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4A47-0FC2-4B2E-8194-F7269C116C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7927-8953-4EE2-B087-B6866190A8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6169-0182-4A50-8B26-C301BBD2F6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unipd.it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000080"/>
              </a:gs>
              <a:gs pos="50000">
                <a:srgbClr val="00003b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080" y="652140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Palatino Linotype"/>
              </a:rPr>
              <a:t>Universita’ degli Studi di Padova -  Facolta’ di Ingegneria - Area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4771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228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Palatino Linotype"/>
              </a:rPr>
              <a:t>Università degli Studi di Pad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Bitstream Vera Sans"/>
              </a:rPr>
              <a:t>La struttura dei Corsi di Laurea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Bitstream Vera Sans"/>
              </a:rPr>
              <a:t>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  <a:ea typeface="Bitstream Vera Sans"/>
              </a:rPr>
              <a:t>nell’Area dell’Ingegneria dell'Inform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23960" y="1536840"/>
            <a:ext cx="842004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Trien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copo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ormare figure professionali competenti per la  progettazione, realizzazione e gestione di sistemi informatici, e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non per la semplice utilizz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rofilo: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rientato essenzialmente allo sfruttamento e alla gestione della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tecnologia disponibi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capace  di seguire il suo rapido e costante aggiorn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Magistr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cop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: fornire una conoscenza approfondita e avanzata delle diverse aree dell’ingegneria informatica, in stretto collegamento con le attività di ricer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re indiriz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formatica, Telematica, Gest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Profil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gettare, analizzare e gestire sistemi informatici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complessi e/o innovativ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n approccio interdisciplin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Esempio: Ing. Informa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3840" y="990720"/>
            <a:ext cx="8354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spcBef>
                <a:spcPts val="700"/>
              </a:spcBef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urea triennale vs. magis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Corso di laurea in </a:t>
            </a:r>
            <a:br>
              <a:rPr sz="2800"/>
            </a:b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INGEGNERIA DELL’INFORMAZIONE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Un percorso ad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ampio spet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1905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MOTIV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66688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Necessità di una cultura comune nelle varie discipline dell’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3809880"/>
            <a:ext cx="83059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 apprendere </a:t>
            </a:r>
            <a:r>
              <a:rPr b="1" lang="it-IT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criticamente</a:t>
            </a:r>
            <a:r>
              <a:rPr b="0" lang="it-IT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, disponendo di strumenti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  </a:t>
            </a:r>
            <a:r>
              <a:rPr b="1" lang="it-IT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interagire</a:t>
            </a:r>
            <a:r>
              <a:rPr b="0" lang="it-IT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con specialisti di settori diver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 inserirsi con facilità in settori </a:t>
            </a:r>
            <a:r>
              <a:rPr b="1" lang="it-IT" sz="2000" spc="-1" strike="noStrike">
                <a:solidFill>
                  <a:srgbClr val="ffff00"/>
                </a:solidFill>
                <a:latin typeface="Trebuchet MS"/>
                <a:ea typeface="Times New Roman"/>
              </a:rPr>
              <a:t>aff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rebuchet MS"/>
              </a:rPr>
              <a:t>per una professionalit</a:t>
            </a:r>
            <a:r>
              <a:rPr b="0" lang="it-IT" sz="2000" spc="-1" strike="noStrike">
                <a:solidFill>
                  <a:srgbClr val="ffffff"/>
                </a:solidFill>
                <a:latin typeface="Trebuchet MS"/>
                <a:ea typeface="ＭＳ Ｐゴシック"/>
              </a:rPr>
              <a:t>à</a:t>
            </a:r>
            <a:r>
              <a:rPr b="0" lang="it-IT" sz="2000" spc="-1" strike="noStrike">
                <a:solidFill>
                  <a:srgbClr val="ffffff"/>
                </a:solidFill>
                <a:latin typeface="Trebuchet MS"/>
              </a:rPr>
              <a:t> non soggetta ad </a:t>
            </a:r>
            <a:r>
              <a:rPr b="1" lang="it-IT" sz="2000" spc="-1" strike="noStrike">
                <a:solidFill>
                  <a:srgbClr val="ffff00"/>
                </a:solidFill>
                <a:latin typeface="Trebuchet MS"/>
              </a:rPr>
              <a:t>obsolesce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828800" y="1828800"/>
            <a:ext cx="5562720" cy="3886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Corso di laurea in </a:t>
            </a:r>
            <a:br>
              <a:rPr sz="2800"/>
            </a:b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INGEGNERIA DELL’INFORMAZIONE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Un percorso ad </a:t>
            </a:r>
            <a:r>
              <a:rPr b="1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ampio spet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43040" y="1957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59440" y="2801880"/>
            <a:ext cx="538200" cy="93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65520" y="2914560"/>
            <a:ext cx="3579840" cy="192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62280" y="3301920"/>
            <a:ext cx="35798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62280" y="3684600"/>
            <a:ext cx="3579840" cy="32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62280" y="4456080"/>
            <a:ext cx="3579840" cy="18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62280" y="4071960"/>
            <a:ext cx="35798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73440" y="2919240"/>
            <a:ext cx="3549600" cy="1899000"/>
          </a:xfrm>
          <a:custGeom>
            <a:avLst/>
            <a:gdLst/>
            <a:ahLst/>
            <a:rect l="l" t="t" r="r" b="b"/>
            <a:pathLst>
              <a:path w="3426" h="1986">
                <a:moveTo>
                  <a:pt x="0" y="1986"/>
                </a:moveTo>
                <a:lnTo>
                  <a:pt x="420" y="1302"/>
                </a:lnTo>
                <a:lnTo>
                  <a:pt x="846" y="432"/>
                </a:lnTo>
                <a:lnTo>
                  <a:pt x="1278" y="384"/>
                </a:lnTo>
                <a:lnTo>
                  <a:pt x="1710" y="66"/>
                </a:lnTo>
                <a:lnTo>
                  <a:pt x="2142" y="36"/>
                </a:lnTo>
                <a:lnTo>
                  <a:pt x="2574" y="12"/>
                </a:lnTo>
                <a:lnTo>
                  <a:pt x="3012" y="0"/>
                </a:lnTo>
                <a:lnTo>
                  <a:pt x="3426" y="0"/>
                </a:lnTo>
                <a:lnTo>
                  <a:pt x="3425" y="1986"/>
                </a:lnTo>
                <a:lnTo>
                  <a:pt x="0" y="1986"/>
                </a:lnTo>
                <a:close/>
              </a:path>
            </a:pathLst>
          </a:custGeom>
          <a:solidFill>
            <a:srgbClr val="0000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84600" y="2933640"/>
            <a:ext cx="3549600" cy="1898640"/>
          </a:xfrm>
          <a:custGeom>
            <a:avLst/>
            <a:gdLst/>
            <a:ahLst/>
            <a:rect l="l" t="t" r="r" b="b"/>
            <a:pathLst>
              <a:path w="3426" h="1986">
                <a:moveTo>
                  <a:pt x="0" y="1986"/>
                </a:moveTo>
                <a:lnTo>
                  <a:pt x="414" y="1596"/>
                </a:lnTo>
                <a:lnTo>
                  <a:pt x="852" y="1182"/>
                </a:lnTo>
                <a:lnTo>
                  <a:pt x="1278" y="948"/>
                </a:lnTo>
                <a:lnTo>
                  <a:pt x="1710" y="378"/>
                </a:lnTo>
                <a:lnTo>
                  <a:pt x="2142" y="162"/>
                </a:lnTo>
                <a:lnTo>
                  <a:pt x="2580" y="96"/>
                </a:lnTo>
                <a:lnTo>
                  <a:pt x="3000" y="12"/>
                </a:lnTo>
                <a:lnTo>
                  <a:pt x="3426" y="0"/>
                </a:lnTo>
                <a:lnTo>
                  <a:pt x="3425" y="1986"/>
                </a:lnTo>
                <a:lnTo>
                  <a:pt x="0" y="1986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84600" y="2927520"/>
            <a:ext cx="3549600" cy="1904760"/>
          </a:xfrm>
          <a:custGeom>
            <a:avLst/>
            <a:gdLst/>
            <a:ahLst/>
            <a:rect l="l" t="t" r="r" b="b"/>
            <a:pathLst>
              <a:path w="3426" h="1992">
                <a:moveTo>
                  <a:pt x="0" y="1992"/>
                </a:moveTo>
                <a:lnTo>
                  <a:pt x="414" y="1752"/>
                </a:lnTo>
                <a:lnTo>
                  <a:pt x="858" y="1482"/>
                </a:lnTo>
                <a:lnTo>
                  <a:pt x="1272" y="1224"/>
                </a:lnTo>
                <a:lnTo>
                  <a:pt x="1716" y="570"/>
                </a:lnTo>
                <a:lnTo>
                  <a:pt x="2148" y="462"/>
                </a:lnTo>
                <a:lnTo>
                  <a:pt x="2574" y="384"/>
                </a:lnTo>
                <a:lnTo>
                  <a:pt x="3006" y="72"/>
                </a:lnTo>
                <a:lnTo>
                  <a:pt x="3426" y="0"/>
                </a:lnTo>
                <a:lnTo>
                  <a:pt x="3425" y="1992"/>
                </a:lnTo>
                <a:lnTo>
                  <a:pt x="0" y="199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10120" y="2914560"/>
            <a:ext cx="3240" cy="192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06880" y="2914560"/>
            <a:ext cx="0" cy="192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48040" y="2494080"/>
            <a:ext cx="66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03400" y="2503440"/>
            <a:ext cx="660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4060800" y="3949920"/>
            <a:ext cx="643320" cy="231120"/>
            <a:chOff x="4060800" y="3949920"/>
            <a:chExt cx="643320" cy="231120"/>
          </a:xfrm>
        </p:grpSpPr>
        <p:sp>
          <p:nvSpPr>
            <p:cNvPr id="223" name=""/>
            <p:cNvSpPr/>
            <p:nvPr/>
          </p:nvSpPr>
          <p:spPr>
            <a:xfrm>
              <a:off x="4226040" y="3949920"/>
              <a:ext cx="47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~40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60800" y="4033080"/>
              <a:ext cx="115200" cy="88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40280" y="3255480"/>
            <a:ext cx="621000" cy="231120"/>
            <a:chOff x="4940280" y="3255480"/>
            <a:chExt cx="621000" cy="231120"/>
          </a:xfrm>
        </p:grpSpPr>
        <p:sp>
          <p:nvSpPr>
            <p:cNvPr id="226" name=""/>
            <p:cNvSpPr/>
            <p:nvPr/>
          </p:nvSpPr>
          <p:spPr>
            <a:xfrm>
              <a:off x="5083200" y="3255480"/>
              <a:ext cx="478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~75%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40280" y="3339720"/>
              <a:ext cx="115920" cy="88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250520" y="3710520"/>
            <a:ext cx="47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~5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93280" y="3015000"/>
            <a:ext cx="47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~9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54320" y="3781440"/>
            <a:ext cx="1159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948200" y="3054240"/>
            <a:ext cx="1159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42600" y="3128040"/>
            <a:ext cx="47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~80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3280" y="2767680"/>
            <a:ext cx="478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~95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54320" y="3232080"/>
            <a:ext cx="115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32360" y="2878200"/>
            <a:ext cx="115920" cy="88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3160" y="5154480"/>
            <a:ext cx="198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s of Development 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762280" y="4888080"/>
            <a:ext cx="3579840" cy="64800"/>
            <a:chOff x="2762280" y="4888080"/>
            <a:chExt cx="3579840" cy="64800"/>
          </a:xfrm>
        </p:grpSpPr>
        <p:sp>
          <p:nvSpPr>
            <p:cNvPr id="238" name=""/>
            <p:cNvSpPr/>
            <p:nvPr/>
          </p:nvSpPr>
          <p:spPr>
            <a:xfrm>
              <a:off x="276228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976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724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0472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5220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9968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4716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9464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42120" y="4888080"/>
              <a:ext cx="0" cy="6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602800" y="4915080"/>
            <a:ext cx="3901320" cy="215640"/>
            <a:chOff x="2602800" y="4915080"/>
            <a:chExt cx="3901320" cy="215640"/>
          </a:xfrm>
        </p:grpSpPr>
        <p:sp>
          <p:nvSpPr>
            <p:cNvPr id="248" name=""/>
            <p:cNvSpPr/>
            <p:nvPr/>
          </p:nvSpPr>
          <p:spPr>
            <a:xfrm>
              <a:off x="2602800" y="4915080"/>
              <a:ext cx="345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68280" y="49150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13960" y="49150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9360" y="49150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63960" y="49150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09280" y="49150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52080" y="49150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198480" y="49150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09280" y="4915080"/>
              <a:ext cx="30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 rot="16200000">
            <a:off x="1836000" y="3799080"/>
            <a:ext cx="128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% Problems Sol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69680" y="3365640"/>
            <a:ext cx="99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use of C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75360" y="4532400"/>
            <a:ext cx="20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mproved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39560" y="4111560"/>
            <a:ext cx="100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use of C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11840" y="1981080"/>
            <a:ext cx="48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mproving Development Process at Toy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mmissione alla Laurea Magist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1447920"/>
            <a:ext cx="843120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spcBef>
                <a:spcPts val="700"/>
              </a:spcBef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Bitstream Vera Sans"/>
              </a:rPr>
              <a:t>Requisiti di ammiss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100000"/>
              </a:lnSpc>
              <a:spcBef>
                <a:spcPts val="575"/>
              </a:spcBef>
              <a:spcAft>
                <a:spcPts val="726"/>
              </a:spcAft>
              <a:buClr>
                <a:srgbClr val="ffffff"/>
              </a:buClr>
              <a:buFont typeface="Arial"/>
              <a:buChar char="–"/>
              <a:tabLst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Bitstream Vera Sans"/>
              </a:rPr>
              <a:t>specificati nei 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Bitstream Vera Sans"/>
              </a:rPr>
              <a:t>Regolamenti didattici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Bitstream Vera Sans"/>
              </a:rPr>
              <a:t> dei singoli Corsi di Laurea Magistr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100000"/>
              </a:lnSpc>
              <a:spcBef>
                <a:spcPts val="575"/>
              </a:spcBef>
              <a:spcAft>
                <a:spcPts val="726"/>
              </a:spcAft>
              <a:buClr>
                <a:srgbClr val="ffffff"/>
              </a:buClr>
              <a:buFont typeface="Arial"/>
              <a:buChar char="–"/>
              <a:tabLst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Bitstream Vera Sans"/>
              </a:rPr>
              <a:t>indicazioni espresse come 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Bitstream Vera Sans"/>
              </a:rPr>
              <a:t>numero di crediti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Bitstream Vera Sans"/>
              </a:rPr>
              <a:t> che lo studente deve avere acquisito </a:t>
            </a:r>
            <a:r>
              <a:rPr b="1" lang="en-GB" sz="2600" spc="-1" strike="noStrike">
                <a:solidFill>
                  <a:srgbClr val="ffff00"/>
                </a:solidFill>
                <a:latin typeface="Arial"/>
                <a:ea typeface="Bitstream Vera Sans"/>
              </a:rPr>
              <a:t>prima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Bitstream Vera Sans"/>
              </a:rPr>
              <a:t> di potersi immatricolar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100000"/>
              </a:lnSpc>
              <a:spcBef>
                <a:spcPts val="575"/>
              </a:spcBef>
              <a:spcAft>
                <a:spcPts val="726"/>
              </a:spcAft>
              <a:buClr>
                <a:srgbClr val="ffffff"/>
              </a:buClr>
              <a:buFont typeface="Arial"/>
              <a:buChar char="–"/>
              <a:tabLst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Bitstream Vera Sans"/>
              </a:rPr>
              <a:t>nei requisiti di ammissione i crediti sono suddivisi tra diversi “settori scientifico-disciplinari” (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  <a:ea typeface="Bitstream Vera Sans"/>
              </a:rPr>
              <a:t>SSD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Bitstream Vera Sans"/>
              </a:rPr>
              <a:t>)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Lucida Grande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mmissione alla Laurea Magist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3840" y="990720"/>
            <a:ext cx="8354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 marL="353880" indent="-26532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sempio: crediti minimi per l’ammissione alla Magistrale in Ingegneria Elettr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-1828800" y="2782800"/>
          <a:ext cx="11506320" cy="308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828800" y="2782800"/>
                    <a:ext cx="1150632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mmissione alla Laurea Magist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295280"/>
            <a:ext cx="84312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spcBef>
                <a:spcPts val="700"/>
              </a:spcBef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Bitstream Vera Sans"/>
              </a:rPr>
              <a:t>Come si soddisfano i requisiti di ammission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100000"/>
              </a:lnSpc>
              <a:spcBef>
                <a:spcPts val="575"/>
              </a:spcBef>
              <a:spcAft>
                <a:spcPts val="726"/>
              </a:spcAft>
              <a:buClr>
                <a:srgbClr val="ffffff"/>
              </a:buClr>
              <a:buFont typeface="Arial"/>
              <a:buChar char="–"/>
              <a:tabLst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Arial"/>
                <a:ea typeface="Bitstream Vera Sans"/>
              </a:rPr>
              <a:t>formativo </a:t>
            </a:r>
            <a:r>
              <a:rPr b="1" i="1" lang="en-GB" sz="2600" spc="-1" strike="noStrike">
                <a:solidFill>
                  <a:srgbClr val="ffff00"/>
                </a:solidFill>
                <a:latin typeface="Arial"/>
                <a:ea typeface="Bitstream Vera Sans"/>
              </a:rPr>
              <a:t>OK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  <a:ea typeface="Bitstream Vera Sans"/>
              </a:rPr>
              <a:t>, professionalizzante </a:t>
            </a:r>
            <a:r>
              <a:rPr b="1" i="1" lang="en-GB" sz="2600" spc="-1" strike="noStrike">
                <a:solidFill>
                  <a:srgbClr val="ffff00"/>
                </a:solidFill>
                <a:latin typeface="Arial"/>
                <a:ea typeface="Bitstream Vera Sans"/>
              </a:rPr>
              <a:t>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Bitstream Vera Sans"/>
              </a:rPr>
              <a:t>“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Bitstream Vera Sans"/>
              </a:rPr>
              <a:t>passerella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Bitstream Vera Sans"/>
              </a:rPr>
              <a:t>”: gruppo di insegnamenti indicato da ciascun Consiglio di Corso di Laurea che </a:t>
            </a:r>
            <a:r>
              <a:rPr b="1" lang="en-GB" sz="2200" spc="-1" strike="noStrike">
                <a:solidFill>
                  <a:srgbClr val="ffff00"/>
                </a:solidFill>
                <a:latin typeface="Arial"/>
                <a:ea typeface="Bitstream Vera Sans"/>
              </a:rPr>
              <a:t>garantisc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Bitstream Vera Sans"/>
              </a:rPr>
              <a:t> l'ammissione a chi proviene dai percorsi professionalizz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Bitstream Vera Sans"/>
              </a:rPr>
              <a:t>vincoli diversi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Bitstream Vera Sans"/>
              </a:rPr>
              <a:t>, a seconda del corso di provenienza (p. es.: da Informatica (trienn.) ad Automazione; da Elettronica (trienn.) a Telecomunicazioni; da Biomedica (trienn.) a Bioingegneria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Lucida Grande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0" lang="en-GB" sz="2200" spc="-1" strike="noStrike">
                <a:solidFill>
                  <a:srgbClr val="ffff00"/>
                </a:solidFill>
                <a:latin typeface="Arial"/>
                <a:ea typeface="Bitstream Vera Sans"/>
              </a:rPr>
              <a:t>non sono riconoscibili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Bitstream Vera Sans"/>
              </a:rPr>
              <a:t> per una laurea magistrale i crediti conseguiti prima dell’iscrizione al fine di soddisfare i requisiti minimi previsti per l’ammissione  (CdF 11 ottobre 2007)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Lucida Grande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09480" y="2057400"/>
            <a:ext cx="7696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’ammissione alla magistrale d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lettroni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alla laurea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professionalizza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n Ing. 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lettroni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è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garantita a chi ha sostenuto i seguenti esam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lcuni degli esami (eccetto  Analisi 2) possono essere inseriti nel piano di studio della laurea triennale tra i crediti liberi (max 12 CFU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Ammissione alla Laurea Magist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3840" y="990720"/>
            <a:ext cx="8354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2000"/>
          </a:bodyPr>
          <a:p>
            <a:pPr marL="353880" indent="-26532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Esempio: passerella per l’ammissione alla Magistrale in Ingegneria Elettr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352680" y="3121200"/>
          <a:ext cx="2454480" cy="206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3121200"/>
                    <a:ext cx="245448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723960" y="1536840"/>
            <a:ext cx="769608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Bitstream Vera Sans"/>
              </a:rPr>
              <a:t>alla triennale “professionalizzante”: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Biomater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Elaborazione dati segnali immagini biomed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Biomecc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Tecnologie e strumentazione biome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Bitstream Vera Sans"/>
              </a:rPr>
              <a:t>alla Magistr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Biologia e fisi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Meccanica per bioingegn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Strumentazione biome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Informatica me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Biomateriali e tessuti biolog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Modelli e controllo sistemi biolog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Bitstream Vera Sans"/>
              </a:rPr>
              <a:t>Elaborazione segnali biolog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  <a:ea typeface="Bitstream Vera Sans"/>
              </a:rPr>
              <a:t>Gli insegnamenti specifici ci sono! Bisogna solo “aspettare un pò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"/>
              </a:rPr>
              <a:t>Materie “professionalizzanti”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3840" y="990720"/>
            <a:ext cx="8354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30200" indent="-324000">
              <a:spcBef>
                <a:spcPts val="700"/>
              </a:spcBef>
              <a:tabLst>
                <a:tab algn="l" pos="0"/>
                <a:tab algn="l" pos="430200"/>
                <a:tab algn="l" pos="1344600"/>
                <a:tab algn="l" pos="2259000"/>
                <a:tab algn="l" pos="3173400"/>
                <a:tab algn="l" pos="4087800"/>
                <a:tab algn="l" pos="5002200"/>
                <a:tab algn="l" pos="5916600"/>
                <a:tab algn="l" pos="6831000"/>
                <a:tab algn="l" pos="7745400"/>
                <a:tab algn="l" pos="8659800"/>
                <a:tab algn="l" pos="9574200"/>
                <a:tab algn="l" pos="104886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Bitstream Vera Sans"/>
              </a:rPr>
              <a:t>Es.: Magistrale in Bioingegneria vs. Trien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L’informazione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094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tengono INFORM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6095880" y="838080"/>
            <a:ext cx="2895840" cy="1542240"/>
            <a:chOff x="6095880" y="838080"/>
            <a:chExt cx="2895840" cy="1542240"/>
          </a:xfrm>
        </p:grpSpPr>
        <p:sp>
          <p:nvSpPr>
            <p:cNvPr id="94" name=""/>
            <p:cNvSpPr/>
            <p:nvPr/>
          </p:nvSpPr>
          <p:spPr>
            <a:xfrm>
              <a:off x="7696080" y="1066680"/>
              <a:ext cx="1295640" cy="131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Le tracce di un c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6095880" y="838080"/>
              <a:ext cx="1676520" cy="126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"/>
          <p:cNvGrpSpPr/>
          <p:nvPr/>
        </p:nvGrpSpPr>
        <p:grpSpPr>
          <a:xfrm>
            <a:off x="228600" y="3048120"/>
            <a:ext cx="2362320" cy="2227680"/>
            <a:chOff x="228600" y="3048120"/>
            <a:chExt cx="2362320" cy="2227680"/>
          </a:xfrm>
        </p:grpSpPr>
        <p:sp>
          <p:nvSpPr>
            <p:cNvPr id="97" name=""/>
            <p:cNvSpPr/>
            <p:nvPr/>
          </p:nvSpPr>
          <p:spPr>
            <a:xfrm>
              <a:off x="228600" y="4267080"/>
              <a:ext cx="236232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La partitura di una fuga di J. S. B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228600" y="3048120"/>
              <a:ext cx="2209680" cy="128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5638680" y="3429000"/>
            <a:ext cx="3276720" cy="2116080"/>
            <a:chOff x="5638680" y="3429000"/>
            <a:chExt cx="3276720" cy="2116080"/>
          </a:xfrm>
        </p:grpSpPr>
        <p:sp>
          <p:nvSpPr>
            <p:cNvPr id="100" name=""/>
            <p:cNvSpPr/>
            <p:nvPr/>
          </p:nvSpPr>
          <p:spPr>
            <a:xfrm>
              <a:off x="5638680" y="3429000"/>
              <a:ext cx="327672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L’immagine biologica rilevata in una tomograf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324480" y="4114800"/>
              <a:ext cx="2082960" cy="143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"/>
          <p:cNvGrpSpPr/>
          <p:nvPr/>
        </p:nvGrpSpPr>
        <p:grpSpPr>
          <a:xfrm>
            <a:off x="3429000" y="1143000"/>
            <a:ext cx="3962520" cy="2304000"/>
            <a:chOff x="3429000" y="1143000"/>
            <a:chExt cx="3962520" cy="2304000"/>
          </a:xfrm>
        </p:grpSpPr>
        <p:sp>
          <p:nvSpPr>
            <p:cNvPr id="103" name=""/>
            <p:cNvSpPr/>
            <p:nvPr/>
          </p:nvSpPr>
          <p:spPr>
            <a:xfrm>
              <a:off x="3429000" y="2438280"/>
              <a:ext cx="396252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La radiazione elettromagnetica emessa da un cellul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3733920" y="1371600"/>
              <a:ext cx="1885680" cy="11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5"/>
            <a:stretch/>
          </p:blipFill>
          <p:spPr>
            <a:xfrm>
              <a:off x="3429000" y="1143000"/>
              <a:ext cx="1828800" cy="65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533520" y="1219320"/>
            <a:ext cx="2895120" cy="1770840"/>
            <a:chOff x="533520" y="1219320"/>
            <a:chExt cx="2895120" cy="1770840"/>
          </a:xfrm>
        </p:grpSpPr>
        <p:sp>
          <p:nvSpPr>
            <p:cNvPr id="107" name=""/>
            <p:cNvSpPr/>
            <p:nvPr/>
          </p:nvSpPr>
          <p:spPr>
            <a:xfrm>
              <a:off x="1819800" y="1371600"/>
              <a:ext cx="1608840" cy="161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</a:rPr>
                <a:t>Le iscrizioni sulla “stele di Rosetta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6"/>
            <a:stretch/>
          </p:blipFill>
          <p:spPr>
            <a:xfrm>
              <a:off x="533520" y="1219320"/>
              <a:ext cx="1330200" cy="1619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1828800" y="3886200"/>
            <a:ext cx="4343400" cy="2456640"/>
            <a:chOff x="1828800" y="3886200"/>
            <a:chExt cx="4343400" cy="2456640"/>
          </a:xfrm>
        </p:grpSpPr>
        <p:sp>
          <p:nvSpPr>
            <p:cNvPr id="110" name=""/>
            <p:cNvSpPr/>
            <p:nvPr/>
          </p:nvSpPr>
          <p:spPr>
            <a:xfrm>
              <a:off x="1828800" y="5334120"/>
              <a:ext cx="434340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rebuchet MS"/>
                  <a:ea typeface="Times New Roman"/>
                </a:rPr>
                <a:t>I dati elaborati da un computer che controlla l’assetto di una di F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3048120" y="3886200"/>
              <a:ext cx="1981080" cy="148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rsi di laurea MAGIST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76720" y="2666880"/>
            <a:ext cx="2514240" cy="2742840"/>
            <a:chOff x="3276720" y="2666880"/>
            <a:chExt cx="2514240" cy="2742840"/>
          </a:xfrm>
        </p:grpSpPr>
        <p:sp>
          <p:nvSpPr>
            <p:cNvPr id="114" name=""/>
            <p:cNvSpPr/>
            <p:nvPr/>
          </p:nvSpPr>
          <p:spPr>
            <a:xfrm>
              <a:off x="3512160" y="2998800"/>
              <a:ext cx="2121480" cy="2410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91000" y="4827960"/>
              <a:ext cx="2199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Trebuchet MS"/>
                </a:rPr>
                <a:t>Biomed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image01.gif (214451 byte)"/>
            <p:cNvPicPr/>
            <p:nvPr/>
          </p:nvPicPr>
          <p:blipFill>
            <a:blip r:embed="rId1"/>
            <a:stretch/>
          </p:blipFill>
          <p:spPr>
            <a:xfrm>
              <a:off x="3276720" y="2666880"/>
              <a:ext cx="2177280" cy="219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5867280" y="3352680"/>
            <a:ext cx="2742840" cy="2590560"/>
            <a:chOff x="5867280" y="3352680"/>
            <a:chExt cx="2742840" cy="2590560"/>
          </a:xfrm>
        </p:grpSpPr>
        <p:sp>
          <p:nvSpPr>
            <p:cNvPr id="118" name=""/>
            <p:cNvSpPr/>
            <p:nvPr/>
          </p:nvSpPr>
          <p:spPr>
            <a:xfrm>
              <a:off x="6062760" y="3956760"/>
              <a:ext cx="2351160" cy="1986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67280" y="5338800"/>
              <a:ext cx="274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9900"/>
                  </a:solidFill>
                  <a:latin typeface="Trebuchet MS"/>
                </a:rPr>
                <a:t>Elettron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5867280" y="3352680"/>
              <a:ext cx="2154960" cy="1986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"/>
          <p:cNvGrpSpPr/>
          <p:nvPr/>
        </p:nvGrpSpPr>
        <p:grpSpPr>
          <a:xfrm>
            <a:off x="152280" y="3809880"/>
            <a:ext cx="2819520" cy="2699640"/>
            <a:chOff x="152280" y="3809880"/>
            <a:chExt cx="2819520" cy="2699640"/>
          </a:xfrm>
        </p:grpSpPr>
        <p:sp>
          <p:nvSpPr>
            <p:cNvPr id="122" name=""/>
            <p:cNvSpPr/>
            <p:nvPr/>
          </p:nvSpPr>
          <p:spPr>
            <a:xfrm>
              <a:off x="533160" y="3962160"/>
              <a:ext cx="2438640" cy="2133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5562360"/>
              <a:ext cx="228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rebuchet MS"/>
                </a:rPr>
                <a:t>Automazion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3"/>
            <a:stretch/>
          </p:blipFill>
          <p:spPr>
            <a:xfrm>
              <a:off x="152280" y="3809880"/>
              <a:ext cx="2666880" cy="180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" name=""/>
          <p:cNvGrpSpPr/>
          <p:nvPr/>
        </p:nvGrpSpPr>
        <p:grpSpPr>
          <a:xfrm>
            <a:off x="5562720" y="685800"/>
            <a:ext cx="3276000" cy="2823840"/>
            <a:chOff x="5562720" y="685800"/>
            <a:chExt cx="3276000" cy="2823840"/>
          </a:xfrm>
        </p:grpSpPr>
        <p:sp>
          <p:nvSpPr>
            <p:cNvPr id="126" name=""/>
            <p:cNvSpPr/>
            <p:nvPr/>
          </p:nvSpPr>
          <p:spPr>
            <a:xfrm>
              <a:off x="5714640" y="1114560"/>
              <a:ext cx="3124080" cy="1981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2562480"/>
              <a:ext cx="320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6600"/>
                  </a:solidFill>
                  <a:latin typeface="Trebuchet MS"/>
                </a:rPr>
                <a:t>Telecomunicazion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4"/>
            <a:stretch/>
          </p:blipFill>
          <p:spPr>
            <a:xfrm>
              <a:off x="5562720" y="685800"/>
              <a:ext cx="3047760" cy="19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"/>
          <p:cNvGrpSpPr/>
          <p:nvPr/>
        </p:nvGrpSpPr>
        <p:grpSpPr>
          <a:xfrm>
            <a:off x="228600" y="990720"/>
            <a:ext cx="2895480" cy="2699640"/>
            <a:chOff x="228600" y="990720"/>
            <a:chExt cx="2895480" cy="2699640"/>
          </a:xfrm>
        </p:grpSpPr>
        <p:sp>
          <p:nvSpPr>
            <p:cNvPr id="130" name=""/>
            <p:cNvSpPr/>
            <p:nvPr/>
          </p:nvSpPr>
          <p:spPr>
            <a:xfrm>
              <a:off x="457200" y="1295280"/>
              <a:ext cx="2666880" cy="1981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2743200"/>
              <a:ext cx="2133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rebuchet MS"/>
                </a:rPr>
                <a:t>Informati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" descr=""/>
            <p:cNvPicPr/>
            <p:nvPr/>
          </p:nvPicPr>
          <p:blipFill>
            <a:blip r:embed="rId5"/>
            <a:stretch/>
          </p:blipFill>
          <p:spPr>
            <a:xfrm>
              <a:off x="228600" y="990720"/>
              <a:ext cx="2743200" cy="178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3962520" y="685800"/>
            <a:ext cx="990360" cy="914400"/>
          </a:xfrm>
          <a:prstGeom prst="downArrow">
            <a:avLst>
              <a:gd name="adj1" fmla="val 34898"/>
              <a:gd name="adj2" fmla="val 4635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Corsi di laurea MAGIST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784836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 trasmissione dell’informazione (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TELECOMUNICAZION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’elaborazione dell’informazione (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INFORMATIC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’utilizzazione dell’informazione nel controllo (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AUTOMAZIONE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’informazione in campo biologico e medico (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BIOMEDIC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Monotype Sort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 progettazione dell’hardware per i sistemi che trattano l’informazione (</a:t>
            </a:r>
            <a:r>
              <a:rPr b="0" lang="en-US" sz="2400" spc="-1" strike="noStrike">
                <a:solidFill>
                  <a:srgbClr val="ffff00"/>
                </a:solidFill>
                <a:latin typeface="Bookman Old Style"/>
              </a:rPr>
              <a:t>ELETTRONICA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trumenti dell’ingegnere dell’Inform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752480"/>
            <a:ext cx="8001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</a:rPr>
              <a:t>Conoscenza della </a:t>
            </a:r>
            <a:r>
              <a:rPr b="0" lang="it-IT" sz="2400" spc="-1" strike="noStrike">
                <a:solidFill>
                  <a:srgbClr val="ffff00"/>
                </a:solidFill>
                <a:latin typeface="Bookman Old Style"/>
              </a:rPr>
              <a:t>fisica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</a:rPr>
              <a:t> per essere in grado di  costruire modelli matematici della realt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ＭＳ Ｐゴシック"/>
              </a:rPr>
              <a:t>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</a:rPr>
              <a:t>Preparazione </a:t>
            </a:r>
            <a:r>
              <a:rPr b="0" lang="it-IT" sz="2400" spc="-1" strike="noStrike">
                <a:solidFill>
                  <a:srgbClr val="ffff00"/>
                </a:solidFill>
                <a:latin typeface="Bookman Old Style"/>
              </a:rPr>
              <a:t>matematica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</a:rPr>
              <a:t> per essere in grado di utilizzare i mod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onoscenze – e non solo nozioni – di </a:t>
            </a:r>
            <a:r>
              <a:rPr b="0" lang="it-IT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informatica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Formazione nei principi della progettazione </a:t>
            </a:r>
            <a:r>
              <a:rPr b="0" lang="it-IT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elettr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Capacità di risolvere problemi di </a:t>
            </a:r>
            <a:r>
              <a:rPr b="0" lang="it-IT" sz="2400" spc="-1" strike="noStrike">
                <a:solidFill>
                  <a:srgbClr val="ffff00"/>
                </a:solidFill>
                <a:latin typeface="Bookman Old Style"/>
                <a:ea typeface="Times New Roman"/>
              </a:rPr>
              <a:t>elaborazione</a:t>
            </a:r>
            <a:r>
              <a:rPr b="0" lang="it-IT" sz="2400" spc="-1" strike="noStrike">
                <a:solidFill>
                  <a:srgbClr val="ffffff"/>
                </a:solidFill>
                <a:latin typeface="Bookman Old Style"/>
                <a:ea typeface="Times New Roman"/>
              </a:rPr>
              <a:t> dei segn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Come sono organizzati i cors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066680"/>
            <a:ext cx="8537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UREA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urata: tre anni – 180 cred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º anno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mune: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formatica, matematica e fisica di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º-3º anno du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percorsi distint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cors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formativo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In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corsi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rofessionalizzant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Biomedica, Elettronica, Infor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LAUREA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MAGISTRAL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ue anni – 120 crediti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Lucida Grande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rsi di lau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gegneria dell'auto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ioingegn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gegneria elettro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gegneria infor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gegneria delle telecomunic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0" name=""/>
          <p:cNvCxnSpPr>
            <a:endCxn id="141" idx="1"/>
          </p:cNvCxnSpPr>
          <p:nvPr/>
        </p:nvCxnSpPr>
        <p:spPr>
          <a:xfrm flipH="1" rot="16200000">
            <a:off x="846720" y="4344840"/>
            <a:ext cx="2255040" cy="486360"/>
          </a:xfrm>
          <a:prstGeom prst="bent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232000" y="1112760"/>
            <a:ext cx="2282760" cy="2705040"/>
          </a:xfrm>
          <a:prstGeom prst="rect">
            <a:avLst/>
          </a:prstGeom>
          <a:solidFill>
            <a:srgbClr val="66ffff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01840" y="2251080"/>
            <a:ext cx="21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32000" y="4102200"/>
            <a:ext cx="2282760" cy="1885320"/>
            <a:chOff x="2232000" y="4102200"/>
            <a:chExt cx="2282760" cy="1885320"/>
          </a:xfrm>
        </p:grpSpPr>
        <p:sp>
          <p:nvSpPr>
            <p:cNvPr id="145" name=""/>
            <p:cNvSpPr/>
            <p:nvPr/>
          </p:nvSpPr>
          <p:spPr>
            <a:xfrm>
              <a:off x="2232000" y="4102200"/>
              <a:ext cx="2282760" cy="54720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66"/>
                </a:gs>
                <a:gs pos="100000">
                  <a:srgbClr val="33cc33"/>
                </a:gs>
              </a:gsLst>
              <a:lin ang="5400000"/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32000" y="4770720"/>
              <a:ext cx="2282760" cy="5482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66"/>
                </a:gs>
                <a:gs pos="100000">
                  <a:srgbClr val="33cc33"/>
                </a:gs>
              </a:gsLst>
              <a:lin ang="5400000"/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32000" y="5440320"/>
              <a:ext cx="2282760" cy="54720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ffff66"/>
                </a:gs>
                <a:gs pos="100000">
                  <a:srgbClr val="33cc33"/>
                </a:gs>
              </a:gsLst>
              <a:lin ang="5400000"/>
            </a:gra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1800" y="4161240"/>
              <a:ext cx="206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IOMED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1800" y="4828320"/>
              <a:ext cx="20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LETTRON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41800" y="5501880"/>
              <a:ext cx="20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FORMA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70520" y="1041480"/>
            <a:ext cx="2282760" cy="2776320"/>
            <a:chOff x="5870520" y="1041480"/>
            <a:chExt cx="2282760" cy="2776320"/>
          </a:xfrm>
        </p:grpSpPr>
        <p:sp>
          <p:nvSpPr>
            <p:cNvPr id="151" name=""/>
            <p:cNvSpPr/>
            <p:nvPr/>
          </p:nvSpPr>
          <p:spPr>
            <a:xfrm>
              <a:off x="5870520" y="1041480"/>
              <a:ext cx="2282760" cy="2776320"/>
            </a:xfrm>
            <a:prstGeom prst="rect">
              <a:avLst/>
            </a:prstGeom>
            <a:gradFill rotWithShape="0">
              <a:gsLst>
                <a:gs pos="0">
                  <a:srgbClr val="43a8a8"/>
                </a:gs>
                <a:gs pos="50000">
                  <a:srgbClr val="66ffff"/>
                </a:gs>
                <a:gs pos="100000">
                  <a:srgbClr val="43a8a8"/>
                </a:gs>
              </a:gsLst>
              <a:lin ang="5400000"/>
            </a:gra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41440" y="2248200"/>
              <a:ext cx="20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GIST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3" name=""/>
          <p:cNvCxnSpPr/>
          <p:nvPr/>
        </p:nvCxnSpPr>
        <p:spPr>
          <a:xfrm>
            <a:off x="1731600" y="5098680"/>
            <a:ext cx="486360" cy="1080"/>
          </a:xfrm>
          <a:prstGeom prst="bent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1731600" y="4316040"/>
            <a:ext cx="500760" cy="1080"/>
          </a:xfrm>
          <a:prstGeom prst="bent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2232000" y="757080"/>
            <a:ext cx="0" cy="533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73560" y="757080"/>
            <a:ext cx="0" cy="533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14760" y="757080"/>
            <a:ext cx="0" cy="533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70520" y="757080"/>
            <a:ext cx="0" cy="3060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2080" y="1184400"/>
            <a:ext cx="0" cy="26334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53280" y="757080"/>
            <a:ext cx="0" cy="3060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757080"/>
            <a:ext cx="0" cy="533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7880" y="7570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77720" y="7570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26200" y="757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63480" y="6858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53120" y="6858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/>
          <p:nvPr/>
        </p:nvCxnSpPr>
        <p:spPr>
          <a:xfrm>
            <a:off x="5298840" y="2607840"/>
            <a:ext cx="557640" cy="2520"/>
          </a:xfrm>
          <a:prstGeom prst="bentConnector3">
            <a:avLst>
              <a:gd name="adj1" fmla="val 49806"/>
            </a:avLst>
          </a:prstGeom>
          <a:ln w="1522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 flipH="1">
            <a:off x="4514760" y="2608200"/>
            <a:ext cx="106992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4840" y="757080"/>
            <a:ext cx="0" cy="53388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112760"/>
            <a:ext cx="1069920" cy="484020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 flipH="1" flipV="1" rot="5400000">
            <a:off x="1475640" y="2720520"/>
            <a:ext cx="997920" cy="486360"/>
          </a:xfrm>
          <a:prstGeom prst="bentConnector2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72" name=""/>
          <p:cNvCxnSpPr/>
          <p:nvPr/>
        </p:nvCxnSpPr>
        <p:spPr>
          <a:xfrm>
            <a:off x="1374840" y="3533400"/>
            <a:ext cx="343440" cy="1080"/>
          </a:xfrm>
          <a:prstGeom prst="straightConnector1">
            <a:avLst/>
          </a:prstGeom>
          <a:ln w="57240">
            <a:solidFill>
              <a:srgbClr val="ffff00"/>
            </a:solidFill>
            <a:miter/>
          </a:ln>
        </p:spPr>
      </p:cxnSp>
      <p:sp>
        <p:nvSpPr>
          <p:cNvPr id="173" name=""/>
          <p:cNvSpPr/>
          <p:nvPr/>
        </p:nvSpPr>
        <p:spPr>
          <a:xfrm rot="16200000">
            <a:off x="-197640" y="3172680"/>
            <a:ext cx="213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o anno COM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14760" y="3319200"/>
            <a:ext cx="2334240" cy="2395800"/>
            <a:chOff x="4514760" y="3319200"/>
            <a:chExt cx="2334240" cy="2395800"/>
          </a:xfrm>
        </p:grpSpPr>
        <p:sp>
          <p:nvSpPr>
            <p:cNvPr id="175" name=""/>
            <p:cNvSpPr/>
            <p:nvPr/>
          </p:nvSpPr>
          <p:spPr>
            <a:xfrm>
              <a:off x="4514760" y="5027760"/>
              <a:ext cx="569880" cy="0"/>
            </a:xfrm>
            <a:prstGeom prst="line">
              <a:avLst/>
            </a:prstGeom>
            <a:ln cap="rnd" w="572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4514760" y="5562360"/>
              <a:ext cx="590760" cy="106560"/>
              <a:chOff x="4514760" y="5562360"/>
              <a:chExt cx="590760" cy="106560"/>
            </a:xfrm>
          </p:grpSpPr>
          <p:sp>
            <p:nvSpPr>
              <p:cNvPr id="177" name=""/>
              <p:cNvSpPr/>
              <p:nvPr/>
            </p:nvSpPr>
            <p:spPr>
              <a:xfrm>
                <a:off x="4514760" y="5668920"/>
                <a:ext cx="590760" cy="0"/>
              </a:xfrm>
              <a:prstGeom prst="line">
                <a:avLst/>
              </a:prstGeom>
              <a:ln cap="rnd" w="57240">
                <a:solidFill>
                  <a:srgbClr val="ff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105520" y="5562360"/>
                <a:ext cx="0" cy="106200"/>
              </a:xfrm>
              <a:prstGeom prst="line">
                <a:avLst/>
              </a:prstGeom>
              <a:ln cap="rnd" w="57240">
                <a:solidFill>
                  <a:srgbClr val="ff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514760" y="3319200"/>
              <a:ext cx="2334240" cy="2395800"/>
              <a:chOff x="4514760" y="3319200"/>
              <a:chExt cx="2334240" cy="239580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4514760" y="3319200"/>
                <a:ext cx="1355400" cy="1068480"/>
                <a:chOff x="4514760" y="3319200"/>
                <a:chExt cx="1355400" cy="10684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085360" y="3319560"/>
                  <a:ext cx="784800" cy="0"/>
                </a:xfrm>
                <a:prstGeom prst="line">
                  <a:avLst/>
                </a:prstGeom>
                <a:ln cap="rnd" w="57240">
                  <a:solidFill>
                    <a:srgbClr val="ffff00"/>
                  </a:solidFill>
                  <a:custDash>
                    <a:ds d="100000" sp="1000"/>
                  </a:custDash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14760" y="4387680"/>
                  <a:ext cx="570600" cy="0"/>
                </a:xfrm>
                <a:prstGeom prst="line">
                  <a:avLst/>
                </a:prstGeom>
                <a:ln cap="rnd" w="5724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5085360" y="3319200"/>
                  <a:ext cx="0" cy="1068120"/>
                </a:xfrm>
                <a:prstGeom prst="line">
                  <a:avLst/>
                </a:prstGeom>
                <a:ln cap="rnd" w="5724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 flipV="1">
                <a:off x="5105520" y="4419720"/>
                <a:ext cx="0" cy="1295280"/>
              </a:xfrm>
              <a:prstGeom prst="line">
                <a:avLst/>
              </a:prstGeom>
              <a:ln cap="rnd" w="57240">
                <a:solidFill>
                  <a:srgbClr val="ffff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184000" y="4114800"/>
                <a:ext cx="1665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PASSEREL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4022640" y="93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68960" y="-9360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  <a:ea typeface="Bitstream Vera Sans"/>
              </a:rPr>
              <a:t>Architettura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  <a:ea typeface="Bitstream Vera Sans"/>
              </a:rPr>
              <a:t> 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  <a:ea typeface="Bitstream Vera Sans"/>
              </a:rPr>
              <a:t>gene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800600" y="4952880"/>
            <a:ext cx="4495680" cy="685800"/>
            <a:chOff x="4800600" y="4952880"/>
            <a:chExt cx="4495680" cy="685800"/>
          </a:xfrm>
        </p:grpSpPr>
        <p:sp>
          <p:nvSpPr>
            <p:cNvPr id="189" name=""/>
            <p:cNvSpPr/>
            <p:nvPr/>
          </p:nvSpPr>
          <p:spPr>
            <a:xfrm>
              <a:off x="4800600" y="4952880"/>
              <a:ext cx="4495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93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  <a:ea typeface="Bitstream Vera Sans"/>
                </a:rPr>
                <a:t>Requisiti</a:t>
              </a:r>
              <a:r>
                <a:rPr b="0" lang="en-GB" sz="2000" spc="-1" strike="noStrike">
                  <a:solidFill>
                    <a:srgbClr val="ffff00"/>
                  </a:solidFill>
                  <a:latin typeface="Arial"/>
                  <a:ea typeface="Bitstream Vera Sans"/>
                </a:rPr>
                <a:t> di ammissione per l’accesso  alla Magistral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4952880"/>
              <a:ext cx="3657600" cy="68580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6360" y="-104760"/>
            <a:ext cx="907128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Professionalizzante o formativ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371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utt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 percorsi formano ad una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ofession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l percorso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formativ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tende a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ivilegiar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l'acquisizione delle conoscenze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etodologiche,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nendo una preparazione ad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mpio spet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sente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ccesso diretto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tutte le magistrali</a:t>
            </a:r>
            <a:r>
              <a:rPr b="0" lang="en-GB" sz="2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ll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 percorsi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professionalizzant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forniscono competenze più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focalizzat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, adeguate per 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lcune attivit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professionali a contenuto ingegneri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chiedono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tegrazioni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er l’accesso alle magist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Quali obiettivi professionali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4786200"/>
            <a:ext cx="3005280" cy="166860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989440" y="4800600"/>
            <a:ext cx="6154200" cy="1641600"/>
            <a:chOff x="2989440" y="4800600"/>
            <a:chExt cx="6154200" cy="1641600"/>
          </a:xfrm>
        </p:grpSpPr>
        <p:pic>
          <p:nvPicPr>
            <p:cNvPr id="196" name="" descr=""/>
            <p:cNvPicPr/>
            <p:nvPr/>
          </p:nvPicPr>
          <p:blipFill>
            <a:blip r:embed="rId2"/>
            <a:stretch/>
          </p:blipFill>
          <p:spPr>
            <a:xfrm>
              <a:off x="2989440" y="4800600"/>
              <a:ext cx="3296880" cy="164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6280200" y="4800600"/>
              <a:ext cx="2863440" cy="164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0" y="1066680"/>
            <a:ext cx="9070920" cy="33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lnSpc>
                <a:spcPct val="80000"/>
              </a:lnSpc>
              <a:spcBef>
                <a:spcPts val="601"/>
              </a:spcBef>
              <a:spcAft>
                <a:spcPts val="862"/>
              </a:spcAft>
              <a:buClr>
                <a:srgbClr val="fff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AUREE PROFESSIONALIZANTI: problemi progettuali ben defini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499"/>
              </a:spcBef>
              <a:spcAft>
                <a:spcPts val="575"/>
              </a:spcAft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gole di progetto” cod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499"/>
              </a:spcBef>
              <a:spcAft>
                <a:spcPts val="575"/>
              </a:spcAft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499"/>
              </a:spcBef>
              <a:spcAft>
                <a:spcPts val="862"/>
              </a:spcAft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ganizzazione e pianif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601"/>
              </a:spcBef>
              <a:spcAft>
                <a:spcPts val="862"/>
              </a:spcAft>
              <a:buClr>
                <a:srgbClr val="ffff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AUREE MAGISTRALI: problemi progettuali innovati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499"/>
              </a:spcBef>
              <a:spcAft>
                <a:spcPts val="726"/>
              </a:spcAft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luzioni ingegneristiche applicate a problemi “nuov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499"/>
              </a:spcBef>
              <a:spcAft>
                <a:spcPts val="726"/>
              </a:spcAft>
              <a:buClr>
                <a:srgbClr val="ffffff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pacità di sviluppare ed applicare </a:t>
            </a: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autonomament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le proprie conoscenze adattandole a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5:45:15Z</dcterms:created>
  <dc:creator>Mian</dc:creator>
  <dc:description/>
  <dc:language>en-US</dc:language>
  <cp:lastModifiedBy>Alessandro Beghi</cp:lastModifiedBy>
  <dcterms:modified xsi:type="dcterms:W3CDTF">2008-11-20T09:23:12Z</dcterms:modified>
  <cp:revision>142</cp:revision>
  <dc:subject/>
  <dc:title>Diapositiva 1</dc:title>
</cp:coreProperties>
</file>