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780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6"/>
          </p:nvPr>
        </p:nvSpPr>
        <p:spPr>
          <a:xfrm>
            <a:off x="3865680" y="0"/>
            <a:ext cx="2916000" cy="517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63360" y="739800"/>
            <a:ext cx="4927320" cy="369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7"/>
          </p:nvPr>
        </p:nvSpPr>
        <p:spPr>
          <a:xfrm>
            <a:off x="-360" y="9464760"/>
            <a:ext cx="291780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8"/>
          </p:nvPr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92BD-8195-4D23-833A-60D0CB82A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D825-524A-42A2-8C42-5C186A983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6DFF-2671-4B37-8010-A51D58D8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3081-0C6A-4062-A71D-CF4B198B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D159-E731-4AAF-B2C6-559DF986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3C27-D19B-4CA0-A768-3CF25DB3E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4FD0-E8E7-4C91-BCE2-7386A5426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B07A-F743-4902-84B7-6776CDB5A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2652-4315-46CD-B514-BE72E1B3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8C67-AE12-418E-8955-7A26B2EA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65680" y="9464760"/>
            <a:ext cx="2916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9945-DFB6-4E7D-8BA6-3C99331F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63720" y="739800"/>
            <a:ext cx="4927320" cy="36972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74440" y="4732200"/>
            <a:ext cx="503244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916A-5637-4F87-B9D0-75D074092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92AB-981C-404F-8EE2-D15172E7AFD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1545D-D7F1-4263-8C28-C8D5912EFF8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B0389-284A-4428-995C-173C41F2E5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3972-1139-4C8B-A15D-104F4C5E5B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7043-C92B-4FF9-AD0C-CF70A5B516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F53B-136B-46A4-AD09-E1C4CEAEC27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E72F-5833-4446-AED9-98184BA3AEB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7708-0CF2-4BF9-9E4A-ADBD79A82D5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72446-D436-46AB-85F7-9D47F63ADA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97E5-2560-48C3-92D1-C23F2EA8BFC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412614-E3ED-4367-B4DD-82A268A3F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A7DE-D24E-402E-90B9-6CDB512B1C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BDFE41-4F93-4AC0-8544-C5B71F758BA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1AD4B2-87A2-4EC0-ACDE-5B94242536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E3EB12-01DA-4B00-8BE7-D63A00EA30E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5DD23F-EF5F-481C-BCD1-E3F9DEFEF1F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6A98AD-B235-4434-A894-D4129BB9589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C53B1D-764C-4ADD-9164-5D7B3841544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764F23-A214-4502-933E-54F6F5C5378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D8BE5-7D51-49C4-88EC-4FE9271B985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836668-186D-4239-AEC4-0F95B6E8A5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BEE8F9-D20B-4654-B802-E018D3FDD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10FD-2139-4F1E-BBAB-A254DEA0CDB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08767B-F404-4BE3-A749-3BB1F515B8E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CFC17-AE4C-4CCA-891E-276322C68FE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1E4B2-9CB8-4CFD-8085-AA70537E742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D2F90-16B1-4240-B91C-5F81F40168B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FF86A-6284-439B-B94C-842916EF788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B348E-EBAA-4AA0-B842-54C29D8010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B5879-F6D4-4B6D-927F-387F11206B0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13CF5-5569-4C66-82B0-BAEEFA9C45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8B98E-20DA-4426-8C23-0C5D68998EC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5B101-BC5D-438B-8CEE-9F139DB1B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DDC-AFBB-44A9-9EF3-94F22B69D56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1FA33-1802-4094-BB50-C8D1F23868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BBF66-C2ED-437B-9139-AD1841452F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17F2D-D579-4960-98C6-6059E43FF45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B2A90-3F40-462A-9387-66FB2CD80B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8786C-B967-44DB-BE8C-5A5A586B310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FFA3-30D8-4698-A84F-EBD08428F12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05D2A-8B0B-48CB-8671-03B662E811C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8FA95-A9FA-4666-83FE-EEE058FFC50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EC66-A6BA-4630-805B-9C30363121F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418D-0433-463E-B023-6596A82C55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BE0-CA2B-42BD-9410-AFED6BF7A3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3BEDA-672D-4328-9DE1-5D20CF9FA95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EA0E-DDC0-44C5-AC7E-A9A835605DD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F8417-9D79-4A77-867E-4CB5E02DB0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F72B6-CAD7-4395-AF61-34ECF33A18C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E6C1C-5650-4A5E-A937-569362AF58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C39-705F-4572-8667-C608DACA58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110-CBB9-4B3A-81EB-7F97929AE0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7F7-C636-4A27-935C-9C49E6B56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454-A0D9-4E10-A19C-FA10872A85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A03-AF62-424E-AB6C-65C12F0BA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4F16-3423-4514-BB11-D2B712130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14B-15EA-4A01-B3CD-3D91B03A5B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71D-2BDD-4018-88A4-3A49A2804D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28F-CCF6-4C1C-9FAA-3E20BF9B63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4F1-7514-4866-82DD-1E446438B8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B51-0521-487C-BB44-15FA5F0D57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31D0F-05DA-47A2-AF23-90E42C90D8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E8632-8A75-4B05-B1B9-FC103D9F35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45EEC-22AC-4523-B6A9-57C6F6E198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F312E-D2B4-4665-9F20-61AFBF0AC1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9E409-6B1D-417D-BCDF-821D32A79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E058-49ED-4878-B927-7FD1B4D3FB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633AD-99E3-4C29-874F-3995CBAE08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54A5B-172A-487E-A9A0-110A7A3D30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46B34-C644-49C0-BA2C-9C8754A8E1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D1BA6-40E0-497E-9924-DF7ED1227E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5D860-D80D-48BC-80CE-8816CFE88C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3C257-D1C6-41C9-B4A3-20ED9771B2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DE7E3-FC14-4DC6-9A0F-D0490C1E43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411F4-31E2-4974-B77E-897BA8E05E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B66CA-8631-41BB-94ED-A99C54AEA0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D0A86-BC5C-4988-8FBD-FE9EB9DD5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0BA9-95E6-4077-8C25-067D9DEEB4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5E92F-CFED-4CC2-B23D-B78FD493E4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8A006-7C78-4C35-B9CF-A102B8F786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91B79-1654-4095-9358-C3F094AFAB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F3263-20CC-4D62-A591-00AE9E036C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8CEB4-1765-4B8E-AA5E-87A05E237B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F7511-FC4B-460A-AE24-76AB75B63A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E8FE2-8431-4517-9873-E4F920D9B7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D4C82-FA3A-43D6-9B6C-FABF20C62F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E0B75-338F-403D-BE2D-903EFA01B0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971B5-713B-47B8-BCA7-FA3AB829D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751D-ED65-4393-A6E9-9DAE1B54F5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98A02-5C79-4399-BC80-73A70ADAC6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BCBFE-1985-47B2-A39B-1DA5B67A7D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D8FAB-5A11-42DA-AB09-DDB3700D08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80B88-6C8B-4AA1-901F-7E11776903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B43D0-4AE1-467A-A5CD-67FFF58BB06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EB22C-2726-41DF-B7A6-8AC6AC173A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72D8D-36FB-417B-880C-78FC6DF10A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9BAE2-524F-4BE6-91C7-13534C99C0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F0EA5-2AAC-4A88-B9D3-6378B9F0B9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1F02F-FB82-4A06-BAA9-EC420FFA1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070A-A1A2-45A5-972D-6396FC8C7A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856E1-A49A-4632-B736-4A69DDBCA5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91F3-1C5A-4196-B14F-FC7A006827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6D03-2532-4588-BD6F-3019123368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B67B-A2E1-4DE6-823F-AEC5015F656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6E98-59C8-4C42-8DD8-530671D74E3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AF2A-198C-4A33-A4B1-197E7B8608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8B44-FA3A-42A5-BAD0-E3A86C5544A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3D477-9376-4C14-A68C-02C4E2B0C19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E4DF-30C8-48DD-A43D-0A757BC553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8D4C-BE80-41B0-805D-FA33FF287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C399-8CD7-4EA9-AA35-E4ADE9E839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A958-31A0-4E72-8AC3-E7FD95E943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D514-3D87-4DA5-A315-19F3A16946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FACD-1694-4C53-BACD-94CB1D7A9A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442BB-9BDD-4CE6-A6D6-E813B37E63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54EAA-9DAB-4E9D-9260-08A159A013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F7148F-796E-4E44-AC8D-ACF79C8AD96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EA4D6-2FB7-4242-9742-789636D62BE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A0015-A996-4E87-809B-A5E51802D0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C070A-7980-48AA-B859-08923011D1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721D3-295E-4ED2-AF82-C21FE01EA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8EC4-4B47-4762-9313-FEDF45638A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3A88C-A751-4DF2-906E-CF96F89F0A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BDC13-78E7-4068-8EDA-A18BDE4AB4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E20F6-1BCB-48CE-B436-FDDB8D8562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C6FE44-5433-4C41-A788-93AA28D28B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9E798-1A26-4A43-B045-C377647158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BDCD9-F3F6-42D1-AE73-90F18B6EA91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B3426-FD62-4E03-A460-F5C7181666A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84079-C0A6-4F99-AF39-CD2993D51E3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EFA0D-C2C9-421C-AD15-374EBEF9B7B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70BE5-7AE7-4C3B-8110-03CAADC0E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585B-95BB-461B-A9C1-F7075885F40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813960" y="274680"/>
            <a:ext cx="785988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73480-3F9D-4D91-BCF3-3464136E45F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C9D55-40A1-4E7A-A0E5-71E1561934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F1637-84C7-412D-A832-F9E602FDA34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660EA-759C-4877-98E4-BC2DDDF4EB3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13960" y="38628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E36B3-FD4B-4AC2-91C4-AA75D15040C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41640" y="149868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1396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841640" y="38628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B9C6F-F6AB-4DD0-BF2C-36014159B0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47184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9360" y="149868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139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47184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29360" y="38628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804C2-7CBF-47E5-A5BC-6FA75C15F5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B6AA-CEC1-4607-8939-80B460A92D5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CD14-5816-4B73-8D88-93ACFE75383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E274-E30B-4F2C-B687-4F2921118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17720" y="6308640"/>
            <a:ext cx="7130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DEI Day, 3 Marz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8DAB-562C-4A90-B4AC-1FD784F4D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13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3782-C391-4A60-A61F-AFFBBB738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14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1932-ACA7-47D7-AF29-2FB235DCA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5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75AD-0E16-400C-8D21-FB750258B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055C-8D41-4007-A800-EF18AF79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16DA-3006-4D66-B4CE-683CDDF88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FB65-95AF-4B0E-BE3F-5432909A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8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E080-E60B-4E4D-8DF8-09DEDB966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9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1307-AB1E-431E-9138-4DD86CD6F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0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BEDF-C12A-467A-8E67-2066FD4F6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11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1C4E-F419-4CEE-8F78-85C70ECCE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DEIlogoSMALL"/>
          <p:cNvPicPr/>
          <p:nvPr/>
        </p:nvPicPr>
        <p:blipFill>
          <a:blip r:embed="rId2"/>
          <a:stretch/>
        </p:blipFill>
        <p:spPr>
          <a:xfrm>
            <a:off x="0" y="0"/>
            <a:ext cx="625320" cy="21002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 rot="10800000">
            <a:off x="44280" y="2379600"/>
            <a:ext cx="516240" cy="4478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Department   of   Information  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655560" y="6230880"/>
            <a:ext cx="838692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13960" y="14986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12"/>
          </p:nvPr>
        </p:nvSpPr>
        <p:spPr>
          <a:xfrm>
            <a:off x="8361000" y="6308280"/>
            <a:ext cx="554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428A-BF43-4763-AAA4-D5E205D39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egnaposto numero diapositiva 4"/>
          <p:cNvSpPr/>
          <p:nvPr/>
        </p:nvSpPr>
        <p:spPr>
          <a:xfrm>
            <a:off x="8361360" y="6308640"/>
            <a:ext cx="5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B993-52C8-43DF-9085-70186B32EEF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00200" y="2173320"/>
            <a:ext cx="7772400" cy="23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RICERCA IN </a:t>
            </a:r>
            <a:r>
              <a:rPr b="1" lang="it-IT" sz="3200" spc="-1" strike="noStrike">
                <a:solidFill>
                  <a:srgbClr val="cc0066"/>
                </a:solidFill>
                <a:latin typeface="Arial"/>
              </a:rPr>
              <a:t>INFORMATIC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cc0066"/>
                </a:solidFill>
                <a:latin typeface="Arial"/>
              </a:rPr>
              <a:t>RICERCA OPERATIV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 DEI</a:t>
            </a:r>
            <a:br>
              <a:rPr sz="3200"/>
            </a:br>
            <a:br>
              <a:rPr sz="32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eppino Pucci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eppo@dei.unipd.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9D3-2E45-42AF-8B45-0861649E18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egnaposto numero diapositiva 4"/>
          <p:cNvSpPr/>
          <p:nvPr/>
        </p:nvSpPr>
        <p:spPr>
          <a:xfrm>
            <a:off x="8361360" y="6308640"/>
            <a:ext cx="5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8CD1-FD15-4B51-9A44-2582D19B9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mpetenze e Sbocchi Occupazional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14320" y="1498680"/>
            <a:ext cx="811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Un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  <a:ea typeface="Arial"/>
              </a:rPr>
              <a:t>ingegnere informatic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ha la capacità 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nalizzare sistemi complessi e sviluppare modelli che ne descrivano gli aspetti computa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oblem-solving in svariati contesti applic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rogettare e gestire architetture software e hardware in una moltitudine di contesti indust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b0f0"/>
                </a:solidFill>
                <a:latin typeface="Arial"/>
              </a:rPr>
              <a:t>Analis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Progettis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it-IT" sz="3200" spc="-1" strike="noStrike">
                <a:solidFill>
                  <a:srgbClr val="00b050"/>
                </a:solidFill>
                <a:latin typeface="Arial"/>
              </a:rPr>
              <a:t>Gesto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sistemi informatici compl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19B7E-7813-41ED-A0BF-A63492CC87BD}" type="slidenum">
              <a:t>10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egnaposto numero diapositiva 4"/>
          <p:cNvSpPr/>
          <p:nvPr/>
        </p:nvSpPr>
        <p:spPr>
          <a:xfrm>
            <a:off x="8361360" y="6308640"/>
            <a:ext cx="5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717A-E929-410A-B209-F8ADB2B2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formatica e Ricerca Operati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rcRect l="0" t="5366" r="0" b="5429"/>
          <a:stretch/>
        </p:blipFill>
        <p:spPr>
          <a:xfrm>
            <a:off x="7373880" y="4046400"/>
            <a:ext cx="1527120" cy="2046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"/>
          <p:cNvPicPr/>
          <p:nvPr/>
        </p:nvPicPr>
        <p:blipFill>
          <a:blip r:embed="rId2"/>
          <a:srcRect l="20291" t="0" r="20136" b="0"/>
          <a:stretch/>
        </p:blipFill>
        <p:spPr>
          <a:xfrm>
            <a:off x="7335720" y="1165320"/>
            <a:ext cx="1517760" cy="2044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3"/>
          <a:srcRect l="0" t="494" r="0" b="612"/>
          <a:stretch/>
        </p:blipFill>
        <p:spPr>
          <a:xfrm>
            <a:off x="903240" y="1185840"/>
            <a:ext cx="1527120" cy="2046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2581200" y="1163520"/>
            <a:ext cx="5092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ca: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ien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sta cambiando il mo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V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7460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ien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7460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orma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ogram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sellaDiTesto 12"/>
          <p:cNvSpPr/>
          <p:nvPr/>
        </p:nvSpPr>
        <p:spPr>
          <a:xfrm>
            <a:off x="585720" y="3551400"/>
            <a:ext cx="782964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i fondamenti teorici (logica e matematica discr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icer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formatica abilita innovazioni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voluzioni in una moltitudine di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cerca Operativ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sciplina af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za dell’ottim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adute cruciali nei processi deci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6E572-2D28-496B-9D73-58B1E36D49C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egnaposto numero diapositiva 4"/>
          <p:cNvSpPr/>
          <p:nvPr/>
        </p:nvSpPr>
        <p:spPr>
          <a:xfrm>
            <a:off x="8361360" y="6308640"/>
            <a:ext cx="5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6349-3D64-496E-B263-7D6C550B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13960" y="274680"/>
            <a:ext cx="78598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5120" y="13716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Anatom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alcune applicazioni “cul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58560">
              <a:spcBef>
                <a:spcPts val="700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egrazione/sinergie tra diversi </a:t>
            </a:r>
            <a:r>
              <a:rPr b="0" lang="it-IT" sz="2800" spc="-1" strike="noStrike">
                <a:solidFill>
                  <a:srgbClr val="00b050"/>
                </a:solidFill>
                <a:latin typeface="Arial"/>
              </a:rPr>
              <a:t>settor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ll’Informatica e della Ricerca Ope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5856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050"/>
                </a:solidFill>
                <a:latin typeface="Arial"/>
              </a:rPr>
              <a:t>ricerca@DE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nei vari </a:t>
            </a:r>
            <a:r>
              <a:rPr b="0" lang="it-IT" sz="2800" spc="-1" strike="noStrike">
                <a:solidFill>
                  <a:srgbClr val="00b050"/>
                </a:solidFill>
                <a:latin typeface="Arial"/>
              </a:rPr>
              <a:t>set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58560">
              <a:spcBef>
                <a:spcPts val="700"/>
              </a:spcBef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offerta didattic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rrispondente nella Laurea Magistrale in Ingegneria Informa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Compet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l’Ingegnere Informa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1FBA5-E278-4650-A306-D8AF48057FB0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79160" y="309600"/>
            <a:ext cx="609444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pplicazione Cult 1: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magine 4" descr="google_logo.jpg"/>
          <p:cNvPicPr/>
          <p:nvPr/>
        </p:nvPicPr>
        <p:blipFill>
          <a:blip r:embed="rId1"/>
          <a:stretch/>
        </p:blipFill>
        <p:spPr>
          <a:xfrm>
            <a:off x="5778360" y="379440"/>
            <a:ext cx="2313000" cy="961920"/>
          </a:xfrm>
          <a:prstGeom prst="rect">
            <a:avLst/>
          </a:prstGeom>
          <a:ln w="0">
            <a:noFill/>
          </a:ln>
        </p:spPr>
      </p:pic>
      <p:grpSp>
        <p:nvGrpSpPr>
          <p:cNvPr id="528" name="Gruppo 13"/>
          <p:cNvGrpSpPr/>
          <p:nvPr/>
        </p:nvGrpSpPr>
        <p:grpSpPr>
          <a:xfrm>
            <a:off x="819000" y="1135080"/>
            <a:ext cx="8325000" cy="2628720"/>
            <a:chOff x="819000" y="1135080"/>
            <a:chExt cx="8325000" cy="2628720"/>
          </a:xfrm>
        </p:grpSpPr>
        <p:pic>
          <p:nvPicPr>
            <p:cNvPr id="529" name="Immagine 6" descr="BrinPage460.jpg"/>
            <p:cNvPicPr/>
            <p:nvPr/>
          </p:nvPicPr>
          <p:blipFill>
            <a:blip r:embed="rId2"/>
            <a:stretch/>
          </p:blipFill>
          <p:spPr>
            <a:xfrm>
              <a:off x="819000" y="1135080"/>
              <a:ext cx="43815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CasellaDiTesto 7"/>
            <p:cNvSpPr/>
            <p:nvPr/>
          </p:nvSpPr>
          <p:spPr>
            <a:xfrm>
              <a:off x="5197320" y="1242720"/>
              <a:ext cx="3946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70c0"/>
                  </a:solidFill>
                  <a:latin typeface="Arial"/>
                </a:rPr>
                <a:t>Brin</a:t>
              </a:r>
              <a:r>
                <a:rPr b="0" lang="it-IT" sz="2800" spc="-1" strike="noStrike">
                  <a:solidFill>
                    <a:srgbClr val="000000"/>
                  </a:solidFill>
                  <a:latin typeface="Arial"/>
                </a:rPr>
                <a:t> e </a:t>
              </a:r>
              <a:r>
                <a:rPr b="0" lang="it-IT" sz="2800" spc="-1" strike="noStrike">
                  <a:solidFill>
                    <a:srgbClr val="ff0000"/>
                  </a:solidFill>
                  <a:latin typeface="Arial"/>
                </a:rPr>
                <a:t>Page</a:t>
              </a:r>
              <a:r>
                <a:rPr b="0" lang="it-IT" sz="2800" spc="-1" strike="noStrike">
                  <a:solidFill>
                    <a:srgbClr val="000000"/>
                  </a:solidFill>
                  <a:latin typeface="Arial"/>
                </a:rPr>
                <a:t>, studenti di Informatica a Stanford, concepiscono Google a 23 an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uppo 11"/>
          <p:cNvGrpSpPr/>
          <p:nvPr/>
        </p:nvGrpSpPr>
        <p:grpSpPr>
          <a:xfrm>
            <a:off x="1395360" y="1208160"/>
            <a:ext cx="3308400" cy="2205720"/>
            <a:chOff x="1395360" y="1208160"/>
            <a:chExt cx="3308400" cy="2205720"/>
          </a:xfrm>
        </p:grpSpPr>
        <p:pic>
          <p:nvPicPr>
            <p:cNvPr id="532" name="Picture 5" descr=""/>
            <p:cNvPicPr/>
            <p:nvPr/>
          </p:nvPicPr>
          <p:blipFill>
            <a:blip r:embed="rId3"/>
            <a:stretch/>
          </p:blipFill>
          <p:spPr>
            <a:xfrm>
              <a:off x="1395360" y="1231200"/>
              <a:ext cx="135252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6" descr=""/>
            <p:cNvPicPr/>
            <p:nvPr/>
          </p:nvPicPr>
          <p:blipFill>
            <a:blip r:embed="rId4"/>
            <a:stretch/>
          </p:blipFill>
          <p:spPr>
            <a:xfrm>
              <a:off x="3351240" y="1208160"/>
              <a:ext cx="13525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CasellaDiTesto 10"/>
            <p:cNvSpPr/>
            <p:nvPr/>
          </p:nvSpPr>
          <p:spPr>
            <a:xfrm>
              <a:off x="1539000" y="2893320"/>
              <a:ext cx="3032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3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en-US" sz="2800" spc="-1" strike="noStrike">
                  <a:solidFill>
                    <a:srgbClr val="ffc000"/>
                  </a:solidFill>
                  <a:latin typeface="Arial"/>
                </a:rPr>
                <a:t>0.0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00</a:t>
              </a:r>
              <a:r>
                <a:rPr b="1" lang="en-US" sz="2800" spc="-1" strike="noStrike">
                  <a:solidFill>
                    <a:srgbClr val="00b050"/>
                  </a:solidFill>
                  <a:latin typeface="Arial"/>
                </a:rPr>
                <a:t>.00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$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CasellaDiTesto 12"/>
          <p:cNvSpPr/>
          <p:nvPr/>
        </p:nvSpPr>
        <p:spPr>
          <a:xfrm>
            <a:off x="660240" y="3959280"/>
            <a:ext cx="510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uccesso di Google non è basato sulla tecnologia m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sull’algoritm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ivoluzionario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ageRan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™) che  cattura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matematicam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concetto d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opolarit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una p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5"/>
          <a:stretch/>
        </p:blipFill>
        <p:spPr>
          <a:xfrm>
            <a:off x="5915160" y="3962520"/>
            <a:ext cx="2857320" cy="19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CDBF6-C93E-4C98-9993-2FB7ACA09578}" type="slidenum">
              <a:t>4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uppo 28"/>
          <p:cNvGrpSpPr/>
          <p:nvPr/>
        </p:nvGrpSpPr>
        <p:grpSpPr>
          <a:xfrm>
            <a:off x="3784680" y="3056040"/>
            <a:ext cx="2789280" cy="1168200"/>
            <a:chOff x="3784680" y="3056040"/>
            <a:chExt cx="2789280" cy="1168200"/>
          </a:xfrm>
        </p:grpSpPr>
        <p:pic>
          <p:nvPicPr>
            <p:cNvPr id="538" name="Immagine 4" descr="google_logo.jpg"/>
            <p:cNvPicPr/>
            <p:nvPr/>
          </p:nvPicPr>
          <p:blipFill>
            <a:blip r:embed="rId1"/>
            <a:stretch/>
          </p:blipFill>
          <p:spPr>
            <a:xfrm>
              <a:off x="4052880" y="3179880"/>
              <a:ext cx="2313000" cy="96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Rettangolo arrotondato 13"/>
            <p:cNvSpPr/>
            <p:nvPr/>
          </p:nvSpPr>
          <p:spPr>
            <a:xfrm>
              <a:off x="3784680" y="3056040"/>
              <a:ext cx="2789280" cy="11682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Segnaposto numero diapositiva 4"/>
          <p:cNvSpPr/>
          <p:nvPr/>
        </p:nvSpPr>
        <p:spPr>
          <a:xfrm>
            <a:off x="8361360" y="6308640"/>
            <a:ext cx="5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65B2-6BA5-4422-AB96-087C71098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96880" y="344520"/>
            <a:ext cx="654696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Il contributo dei vari settor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uppo 19"/>
          <p:cNvGrpSpPr/>
          <p:nvPr/>
        </p:nvGrpSpPr>
        <p:grpSpPr>
          <a:xfrm>
            <a:off x="1363680" y="1220760"/>
            <a:ext cx="3252600" cy="2811600"/>
            <a:chOff x="1363680" y="1220760"/>
            <a:chExt cx="3252600" cy="2811600"/>
          </a:xfrm>
        </p:grpSpPr>
        <p:sp>
          <p:nvSpPr>
            <p:cNvPr id="543" name="Esplosione 1 15"/>
            <p:cNvSpPr/>
            <p:nvPr/>
          </p:nvSpPr>
          <p:spPr>
            <a:xfrm>
              <a:off x="1363680" y="1220760"/>
              <a:ext cx="3252600" cy="2811600"/>
            </a:xfrm>
            <a:prstGeom prst="irregularSeal1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CasellaDiTesto 19"/>
            <p:cNvSpPr/>
            <p:nvPr/>
          </p:nvSpPr>
          <p:spPr>
            <a:xfrm>
              <a:off x="1928160" y="2076480"/>
              <a:ext cx="21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eoria e Algorit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CasellaDiTesto 20"/>
            <p:cNvSpPr/>
            <p:nvPr/>
          </p:nvSpPr>
          <p:spPr>
            <a:xfrm>
              <a:off x="2137320" y="2400480"/>
              <a:ext cx="1851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lgoritmi su Graf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nalisi Spettr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Grandi Moli di Da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uppo 23"/>
          <p:cNvGrpSpPr/>
          <p:nvPr/>
        </p:nvGrpSpPr>
        <p:grpSpPr>
          <a:xfrm>
            <a:off x="4191120" y="966960"/>
            <a:ext cx="3019320" cy="2339640"/>
            <a:chOff x="4191120" y="966960"/>
            <a:chExt cx="3019320" cy="2339640"/>
          </a:xfrm>
        </p:grpSpPr>
        <p:sp>
          <p:nvSpPr>
            <p:cNvPr id="547" name="Esplosione 1 16"/>
            <p:cNvSpPr/>
            <p:nvPr/>
          </p:nvSpPr>
          <p:spPr>
            <a:xfrm>
              <a:off x="4191120" y="966960"/>
              <a:ext cx="3019320" cy="2339640"/>
            </a:xfrm>
            <a:prstGeom prst="irregularSeal1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CasellaDiTesto 21"/>
            <p:cNvSpPr/>
            <p:nvPr/>
          </p:nvSpPr>
          <p:spPr>
            <a:xfrm>
              <a:off x="5103000" y="168012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rchitet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CasellaDiTesto 22"/>
            <p:cNvSpPr/>
            <p:nvPr/>
          </p:nvSpPr>
          <p:spPr>
            <a:xfrm>
              <a:off x="5033160" y="2016720"/>
              <a:ext cx="193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Calcolo Parallelo 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Distribui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uppo 21"/>
          <p:cNvGrpSpPr/>
          <p:nvPr/>
        </p:nvGrpSpPr>
        <p:grpSpPr>
          <a:xfrm>
            <a:off x="1098360" y="3416400"/>
            <a:ext cx="3635640" cy="2334960"/>
            <a:chOff x="1098360" y="3416400"/>
            <a:chExt cx="3635640" cy="2334960"/>
          </a:xfrm>
        </p:grpSpPr>
        <p:sp>
          <p:nvSpPr>
            <p:cNvPr id="551" name="Esplosione 1 17"/>
            <p:cNvSpPr/>
            <p:nvPr/>
          </p:nvSpPr>
          <p:spPr>
            <a:xfrm>
              <a:off x="1687680" y="3416400"/>
              <a:ext cx="3046320" cy="2334960"/>
            </a:xfrm>
            <a:prstGeom prst="irregularSeal1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CasellaDiTesto 24"/>
            <p:cNvSpPr/>
            <p:nvPr/>
          </p:nvSpPr>
          <p:spPr>
            <a:xfrm>
              <a:off x="1098360" y="3919680"/>
              <a:ext cx="352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perimento dell’Inform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CasellaDiTesto 25"/>
            <p:cNvSpPr/>
            <p:nvPr/>
          </p:nvSpPr>
          <p:spPr>
            <a:xfrm>
              <a:off x="2263680" y="4341600"/>
              <a:ext cx="175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Arial"/>
                </a:rPr>
                <a:t>Ricerche Testu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Arial"/>
                </a:rPr>
                <a:t>Mining/Craw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uppo 22"/>
          <p:cNvGrpSpPr/>
          <p:nvPr/>
        </p:nvGrpSpPr>
        <p:grpSpPr>
          <a:xfrm>
            <a:off x="4327560" y="3673440"/>
            <a:ext cx="2951280" cy="2451240"/>
            <a:chOff x="4327560" y="3673440"/>
            <a:chExt cx="2951280" cy="2451240"/>
          </a:xfrm>
        </p:grpSpPr>
        <p:sp>
          <p:nvSpPr>
            <p:cNvPr id="555" name="Esplosione 1 18"/>
            <p:cNvSpPr/>
            <p:nvPr/>
          </p:nvSpPr>
          <p:spPr>
            <a:xfrm>
              <a:off x="4327560" y="3673440"/>
              <a:ext cx="2951280" cy="2451240"/>
            </a:xfrm>
            <a:prstGeom prst="irregularSeal1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CasellaDiTesto 26"/>
            <p:cNvSpPr/>
            <p:nvPr/>
          </p:nvSpPr>
          <p:spPr>
            <a:xfrm>
              <a:off x="5389200" y="44384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CasellaDiTesto 27"/>
            <p:cNvSpPr/>
            <p:nvPr/>
          </p:nvSpPr>
          <p:spPr>
            <a:xfrm>
              <a:off x="5022360" y="470628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Internet e 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Sicurez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uppo 22"/>
          <p:cNvGrpSpPr/>
          <p:nvPr/>
        </p:nvGrpSpPr>
        <p:grpSpPr>
          <a:xfrm>
            <a:off x="6192720" y="2333520"/>
            <a:ext cx="2951280" cy="2451240"/>
            <a:chOff x="6192720" y="2333520"/>
            <a:chExt cx="2951280" cy="2451240"/>
          </a:xfrm>
        </p:grpSpPr>
        <p:sp>
          <p:nvSpPr>
            <p:cNvPr id="559" name="Esplosione 1 24"/>
            <p:cNvSpPr/>
            <p:nvPr/>
          </p:nvSpPr>
          <p:spPr>
            <a:xfrm>
              <a:off x="6192720" y="2333520"/>
              <a:ext cx="2951280" cy="2451240"/>
            </a:xfrm>
            <a:prstGeom prst="irregularSeal1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CasellaDiTesto 26"/>
            <p:cNvSpPr/>
            <p:nvPr/>
          </p:nvSpPr>
          <p:spPr>
            <a:xfrm>
              <a:off x="7161840" y="304848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obo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CasellaDiTesto 27"/>
            <p:cNvSpPr/>
            <p:nvPr/>
          </p:nvSpPr>
          <p:spPr>
            <a:xfrm>
              <a:off x="6525360" y="3366360"/>
              <a:ext cx="232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Arial"/>
                </a:rPr>
                <a:t>Vision (Streetvie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Arial"/>
                </a:rPr>
                <a:t>Motion Planning (Map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887FA-7E74-40DC-8522-A5FCB2796932}" type="slidenum">
              <a:t>5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egnaposto numero diapositiva 4"/>
          <p:cNvSpPr/>
          <p:nvPr/>
        </p:nvSpPr>
        <p:spPr>
          <a:xfrm>
            <a:off x="8361360" y="6308640"/>
            <a:ext cx="5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FE72-D0F4-4209-BBC1-BE7F4051D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9520" y="309600"/>
            <a:ext cx="880272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pplicazione Cult 2:  Genoma Uman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asellaDiTesto 7"/>
          <p:cNvSpPr/>
          <p:nvPr/>
        </p:nvSpPr>
        <p:spPr>
          <a:xfrm>
            <a:off x="4121280" y="1192320"/>
            <a:ext cx="50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 comple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ò il sequenziamento nel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846000" y="1181160"/>
            <a:ext cx="3205440" cy="24033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4121280" y="1138320"/>
            <a:ext cx="1733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567" name="Gruppo 16"/>
          <p:cNvGrpSpPr/>
          <p:nvPr/>
        </p:nvGrpSpPr>
        <p:grpSpPr>
          <a:xfrm>
            <a:off x="706320" y="3274920"/>
            <a:ext cx="3252960" cy="2813040"/>
            <a:chOff x="706320" y="3274920"/>
            <a:chExt cx="3252960" cy="2813040"/>
          </a:xfrm>
        </p:grpSpPr>
        <p:sp>
          <p:nvSpPr>
            <p:cNvPr id="568" name="Esplosione 1 15"/>
            <p:cNvSpPr/>
            <p:nvPr/>
          </p:nvSpPr>
          <p:spPr>
            <a:xfrm>
              <a:off x="706320" y="3274920"/>
              <a:ext cx="3252960" cy="2813040"/>
            </a:xfrm>
            <a:prstGeom prst="irregularSeal1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CasellaDiTesto 16"/>
            <p:cNvSpPr/>
            <p:nvPr/>
          </p:nvSpPr>
          <p:spPr>
            <a:xfrm>
              <a:off x="1270800" y="4132080"/>
              <a:ext cx="21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eoria e Algorit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CasellaDiTesto 17"/>
            <p:cNvSpPr/>
            <p:nvPr/>
          </p:nvSpPr>
          <p:spPr>
            <a:xfrm>
              <a:off x="928800" y="4491000"/>
              <a:ext cx="278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Arial"/>
                </a:rPr>
                <a:t>Combinatorica delle String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Arial"/>
                </a:rPr>
                <a:t>Visione Computazion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Arial"/>
                </a:rPr>
                <a:t>Compress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uppo 17"/>
          <p:cNvGrpSpPr/>
          <p:nvPr/>
        </p:nvGrpSpPr>
        <p:grpSpPr>
          <a:xfrm>
            <a:off x="3324240" y="2038320"/>
            <a:ext cx="3252600" cy="2813040"/>
            <a:chOff x="3324240" y="2038320"/>
            <a:chExt cx="3252600" cy="2813040"/>
          </a:xfrm>
        </p:grpSpPr>
        <p:sp>
          <p:nvSpPr>
            <p:cNvPr id="572" name="Esplosione 1 18"/>
            <p:cNvSpPr/>
            <p:nvPr/>
          </p:nvSpPr>
          <p:spPr>
            <a:xfrm>
              <a:off x="3324240" y="2038320"/>
              <a:ext cx="3252600" cy="2813040"/>
            </a:xfrm>
            <a:prstGeom prst="irregularSeal1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CasellaDiTesto 19"/>
            <p:cNvSpPr/>
            <p:nvPr/>
          </p:nvSpPr>
          <p:spPr>
            <a:xfrm>
              <a:off x="4235040" y="290664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rchitet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CasellaDiTesto 20"/>
            <p:cNvSpPr/>
            <p:nvPr/>
          </p:nvSpPr>
          <p:spPr>
            <a:xfrm>
              <a:off x="3971880" y="3219480"/>
              <a:ext cx="259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Supercalcolat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Griglie Computazion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uppo 19"/>
          <p:cNvGrpSpPr/>
          <p:nvPr/>
        </p:nvGrpSpPr>
        <p:grpSpPr>
          <a:xfrm>
            <a:off x="3487680" y="4044960"/>
            <a:ext cx="3252960" cy="2813040"/>
            <a:chOff x="3487680" y="4044960"/>
            <a:chExt cx="3252960" cy="2813040"/>
          </a:xfrm>
        </p:grpSpPr>
        <p:sp>
          <p:nvSpPr>
            <p:cNvPr id="576" name="Esplosione 1 21"/>
            <p:cNvSpPr/>
            <p:nvPr/>
          </p:nvSpPr>
          <p:spPr>
            <a:xfrm>
              <a:off x="3487680" y="4044960"/>
              <a:ext cx="3252960" cy="2813040"/>
            </a:xfrm>
            <a:prstGeom prst="irregularSeal1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CasellaDiTesto 22"/>
            <p:cNvSpPr/>
            <p:nvPr/>
          </p:nvSpPr>
          <p:spPr>
            <a:xfrm>
              <a:off x="4044600" y="5038560"/>
              <a:ext cx="21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icerca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CasellaDiTesto 23"/>
            <p:cNvSpPr/>
            <p:nvPr/>
          </p:nvSpPr>
          <p:spPr>
            <a:xfrm>
              <a:off x="3938400" y="537516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Programmazione Int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uppo 21"/>
          <p:cNvGrpSpPr/>
          <p:nvPr/>
        </p:nvGrpSpPr>
        <p:grpSpPr>
          <a:xfrm>
            <a:off x="5603760" y="3422520"/>
            <a:ext cx="3522960" cy="2335320"/>
            <a:chOff x="5603760" y="3422520"/>
            <a:chExt cx="3522960" cy="2335320"/>
          </a:xfrm>
        </p:grpSpPr>
        <p:sp>
          <p:nvSpPr>
            <p:cNvPr id="580" name="Esplosione 1 20"/>
            <p:cNvSpPr/>
            <p:nvPr/>
          </p:nvSpPr>
          <p:spPr>
            <a:xfrm>
              <a:off x="5848920" y="3422520"/>
              <a:ext cx="3046320" cy="2335320"/>
            </a:xfrm>
            <a:prstGeom prst="irregularSeal1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CasellaDiTesto 24"/>
            <p:cNvSpPr/>
            <p:nvPr/>
          </p:nvSpPr>
          <p:spPr>
            <a:xfrm>
              <a:off x="5603760" y="3966840"/>
              <a:ext cx="352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perimento dell’Inform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asellaDiTesto 25"/>
            <p:cNvSpPr/>
            <p:nvPr/>
          </p:nvSpPr>
          <p:spPr>
            <a:xfrm>
              <a:off x="6440040" y="4348080"/>
              <a:ext cx="20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Arial"/>
                </a:rPr>
                <a:t>Librerie di Sequen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333399"/>
                  </a:solidFill>
                  <a:latin typeface="Arial"/>
                </a:rPr>
                <a:t>M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DF806-49FA-4109-A693-59D98608368F}" type="slidenum">
              <a:t>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egnaposto numero diapositiva 4"/>
          <p:cNvSpPr/>
          <p:nvPr/>
        </p:nvSpPr>
        <p:spPr>
          <a:xfrm>
            <a:off x="8361360" y="6308640"/>
            <a:ext cx="5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491E-C81A-4D8C-8B59-E4FB46868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9520" y="309600"/>
            <a:ext cx="880272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formatica e Ricerca Operativa al DE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CasellaDiTesto 25"/>
          <p:cNvSpPr/>
          <p:nvPr/>
        </p:nvSpPr>
        <p:spPr>
          <a:xfrm>
            <a:off x="903240" y="1149480"/>
            <a:ext cx="76485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lcolo Avanzat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Bilardi, Pietracaprina, Pucci, Peserico, Fantozz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o su architetture parallele e gerarch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ning di pattern frequenti/signific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pporto alle scienze computazionali (sc. materiali, astrono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ti peer-to-peer (progetto PARIP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udi topologici per reti wir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CasellaDiTesto 27"/>
          <p:cNvSpPr/>
          <p:nvPr/>
        </p:nvSpPr>
        <p:spPr>
          <a:xfrm>
            <a:off x="903240" y="3579840"/>
            <a:ext cx="76485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Bioinformat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Apostolico, Guerra, Ferrari, Comi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erca e classificazione di motivi in sequenze di D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uttura delle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compr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visione computazionale applicate alla b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iglie comput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CasellaDiTesto 5"/>
          <p:cNvSpPr/>
          <p:nvPr/>
        </p:nvSpPr>
        <p:spPr>
          <a:xfrm>
            <a:off x="6468480" y="2685960"/>
            <a:ext cx="2204640" cy="916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i e Algoritmi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olo Parall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i Moli di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CasellaDiTesto 6"/>
          <p:cNvSpPr/>
          <p:nvPr/>
        </p:nvSpPr>
        <p:spPr>
          <a:xfrm>
            <a:off x="5413320" y="4308480"/>
            <a:ext cx="3268800" cy="916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io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lab. di Dati tridimen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stemi Distribu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0D8CB-E870-45CF-8EAF-AD99E14CC0CF}" type="slidenum">
              <a:t>7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egnaposto numero diapositiva 4"/>
          <p:cNvSpPr/>
          <p:nvPr/>
        </p:nvSpPr>
        <p:spPr>
          <a:xfrm>
            <a:off x="8361360" y="6308640"/>
            <a:ext cx="5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5A0D-231C-4F55-B0A8-0FF8D9D4B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79520" y="309600"/>
            <a:ext cx="880272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formatica e Ricerca Operativa al DE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CasellaDiTesto 25"/>
          <p:cNvSpPr/>
          <p:nvPr/>
        </p:nvSpPr>
        <p:spPr>
          <a:xfrm>
            <a:off x="703440" y="1230480"/>
            <a:ext cx="862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eperimento dell’Inform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Agosti, Melucci, Di Nunzio, Ferro, Or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blioteche e archivi digitali distribu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stemi di reperimento distribuito (intranet, reti P2P, disp. mobi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a-motori di ric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ltraggio e classificazione di docu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asellaDiTesto 4"/>
          <p:cNvSpPr/>
          <p:nvPr/>
        </p:nvSpPr>
        <p:spPr>
          <a:xfrm>
            <a:off x="5254560" y="2400480"/>
            <a:ext cx="37483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 di Dati (corso avanz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rimento dell’In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CasellaDiTesto 5"/>
          <p:cNvSpPr/>
          <p:nvPr/>
        </p:nvSpPr>
        <p:spPr>
          <a:xfrm>
            <a:off x="7791480" y="3722760"/>
            <a:ext cx="1211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o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CasellaDiTesto 6"/>
          <p:cNvSpPr/>
          <p:nvPr/>
        </p:nvSpPr>
        <p:spPr>
          <a:xfrm>
            <a:off x="5254560" y="5143680"/>
            <a:ext cx="37483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ca Mus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ca per la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CasellaDiTesto 8"/>
          <p:cNvSpPr/>
          <p:nvPr/>
        </p:nvSpPr>
        <p:spPr>
          <a:xfrm>
            <a:off x="703440" y="4711680"/>
            <a:ext cx="86230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formatica Music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Depoli, Avanzi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facce multimodali e real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à virt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umenti musicali virtu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auro di documenti audio (rimozione del rumor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asellaDiTesto 9"/>
          <p:cNvSpPr/>
          <p:nvPr/>
        </p:nvSpPr>
        <p:spPr>
          <a:xfrm>
            <a:off x="703440" y="338760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obot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Pagello, Menegat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one robotica cooperativa e omnidire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botica umanoide (ROBOC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0D495-700D-4655-BCC5-FAA9C03CEA67}" type="slidenum">
              <a:t>8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egnaposto numero diapositiva 4"/>
          <p:cNvSpPr/>
          <p:nvPr/>
        </p:nvSpPr>
        <p:spPr>
          <a:xfrm>
            <a:off x="8361360" y="6308640"/>
            <a:ext cx="554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95F1-834E-40C5-BD4E-6A87221B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79520" y="309600"/>
            <a:ext cx="880272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formatica e Ricerca Operativa al DE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CasellaDiTesto 25"/>
          <p:cNvSpPr/>
          <p:nvPr/>
        </p:nvSpPr>
        <p:spPr>
          <a:xfrm>
            <a:off x="671400" y="1214280"/>
            <a:ext cx="79628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telligenza Artifici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Satta, Badal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gionamento temporale in bi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aborazione del linguaggio natu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ia dei linguaggi for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CasellaDiTesto 4"/>
          <p:cNvSpPr/>
          <p:nvPr/>
        </p:nvSpPr>
        <p:spPr>
          <a:xfrm>
            <a:off x="5732640" y="1863720"/>
            <a:ext cx="25668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za Artifi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asellaDiTesto 5"/>
          <p:cNvSpPr/>
          <p:nvPr/>
        </p:nvSpPr>
        <p:spPr>
          <a:xfrm>
            <a:off x="5952960" y="3824280"/>
            <a:ext cx="2346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erca Operativ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CasellaDiTesto 6"/>
          <p:cNvSpPr/>
          <p:nvPr/>
        </p:nvSpPr>
        <p:spPr>
          <a:xfrm>
            <a:off x="671400" y="4417920"/>
            <a:ext cx="79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et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Maresca, Migliardi, Zingiria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zioni veicolari con tecnologia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izi integrati voce/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CasellaDiTesto 7"/>
          <p:cNvSpPr/>
          <p:nvPr/>
        </p:nvSpPr>
        <p:spPr>
          <a:xfrm>
            <a:off x="671400" y="3024360"/>
            <a:ext cx="79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icerca Operativ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Fischetti, Monac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i di railway scheduling e vehicle routing (Dutch Timetab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grammazione intera e m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DEI-DAY, 3 marzo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55E6A-38C4-4B07-9051-34D923494D9C}" type="slidenum">
              <a:t>9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16:03Z</dcterms:created>
  <dc:creator>DEI</dc:creator>
  <dc:description/>
  <dc:language>en-US</dc:language>
  <cp:lastModifiedBy>Andrea Pietracaprina</cp:lastModifiedBy>
  <dcterms:modified xsi:type="dcterms:W3CDTF">2009-03-02T15:49:06Z</dcterms:modified>
  <cp:revision>170</cp:revision>
  <dc:subject/>
  <dc:title>BIOENGINEERING  Claudio Cobelli</dc:title>
</cp:coreProperties>
</file>