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642000" cy="9777240"/>
          </a:xfrm>
          <a:custGeom>
            <a:avLst/>
            <a:gdLst>
              <a:gd name="textAreaLeft" fmla="*/ 360 w 6642000"/>
              <a:gd name="textAreaRight" fmla="*/ 6641640 w 6642000"/>
              <a:gd name="textAreaTop" fmla="*/ 360 h 9777240"/>
              <a:gd name="textAreaBottom" fmla="*/ 9776880 h 9777240"/>
            </a:gdLst>
            <a:ahLst/>
            <a:rect l="textAreaLeft" t="textAreaTop" r="textAreaRight" b="textAreaBottom"/>
            <a:pathLst>
              <a:path w="21600" h="31795">
                <a:moveTo>
                  <a:pt x="5" y="0"/>
                </a:moveTo>
                <a:arcTo wR="5" hR="5" stAng="16200000" swAng="-5400000"/>
                <a:lnTo>
                  <a:pt x="0" y="31790"/>
                </a:lnTo>
                <a:arcTo wR="5" hR="5" stAng="10800000" swAng="-5400000"/>
                <a:lnTo>
                  <a:pt x="21595" y="3179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642000" cy="9777240"/>
          </a:xfrm>
          <a:custGeom>
            <a:avLst/>
            <a:gdLst>
              <a:gd name="textAreaLeft" fmla="*/ 360 w 6642000"/>
              <a:gd name="textAreaRight" fmla="*/ 6641640 w 6642000"/>
              <a:gd name="textAreaTop" fmla="*/ 360 h 9777240"/>
              <a:gd name="textAreaBottom" fmla="*/ 9776880 h 9777240"/>
            </a:gdLst>
            <a:ahLst/>
            <a:rect l="textAreaLeft" t="textAreaTop" r="textAreaRight" b="textAreaBottom"/>
            <a:pathLst>
              <a:path w="21600" h="31795">
                <a:moveTo>
                  <a:pt x="5" y="0"/>
                </a:moveTo>
                <a:arcTo wR="5" hR="5" stAng="16200000" swAng="-5400000"/>
                <a:lnTo>
                  <a:pt x="0" y="31790"/>
                </a:lnTo>
                <a:arcTo wR="5" hR="5" stAng="10800000" swAng="-5400000"/>
                <a:lnTo>
                  <a:pt x="21595" y="3179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642000" cy="9777240"/>
          </a:xfrm>
          <a:custGeom>
            <a:avLst/>
            <a:gdLst>
              <a:gd name="textAreaLeft" fmla="*/ 360 w 6642000"/>
              <a:gd name="textAreaRight" fmla="*/ 6641640 w 6642000"/>
              <a:gd name="textAreaTop" fmla="*/ 360 h 9777240"/>
              <a:gd name="textAreaBottom" fmla="*/ 9776880 h 9777240"/>
            </a:gdLst>
            <a:ahLst/>
            <a:rect l="textAreaLeft" t="textAreaTop" r="textAreaRight" b="textAreaBottom"/>
            <a:pathLst>
              <a:path w="21600" h="31795">
                <a:moveTo>
                  <a:pt x="5" y="0"/>
                </a:moveTo>
                <a:arcTo wR="5" hR="5" stAng="16200000" swAng="-5400000"/>
                <a:lnTo>
                  <a:pt x="0" y="31790"/>
                </a:lnTo>
                <a:arcTo wR="5" hR="5" stAng="10800000" swAng="-5400000"/>
                <a:lnTo>
                  <a:pt x="21595" y="3179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642000" cy="9777240"/>
          </a:xfrm>
          <a:custGeom>
            <a:avLst/>
            <a:gdLst>
              <a:gd name="textAreaLeft" fmla="*/ 360 w 6642000"/>
              <a:gd name="textAreaRight" fmla="*/ 6641640 w 6642000"/>
              <a:gd name="textAreaTop" fmla="*/ 360 h 9777240"/>
              <a:gd name="textAreaBottom" fmla="*/ 9776880 h 9777240"/>
            </a:gdLst>
            <a:ahLst/>
            <a:rect l="textAreaLeft" t="textAreaTop" r="textAreaRight" b="textAreaBottom"/>
            <a:pathLst>
              <a:path w="21600" h="31795">
                <a:moveTo>
                  <a:pt x="5" y="0"/>
                </a:moveTo>
                <a:arcTo wR="5" hR="5" stAng="16200000" swAng="-5400000"/>
                <a:lnTo>
                  <a:pt x="0" y="31790"/>
                </a:lnTo>
                <a:arcTo wR="5" hR="5" stAng="10800000" swAng="-5400000"/>
                <a:lnTo>
                  <a:pt x="21595" y="3179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1720" cy="482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762000" y="-360"/>
            <a:ext cx="2871720" cy="482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880560" y="735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63480" y="4643280"/>
            <a:ext cx="5308560" cy="4391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871720" cy="482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762000" y="9283320"/>
            <a:ext cx="2871720" cy="482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0A6B-7396-44CD-A389-EEED8BC1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88840" y="733320"/>
            <a:ext cx="486576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63120" y="4642920"/>
            <a:ext cx="53103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88840" y="733320"/>
            <a:ext cx="48643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63120" y="4638240"/>
            <a:ext cx="5310360" cy="441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90640" y="735120"/>
            <a:ext cx="4863960" cy="36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63120" y="4642920"/>
            <a:ext cx="53103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90640" y="735120"/>
            <a:ext cx="4863960" cy="36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63120" y="4642920"/>
            <a:ext cx="53103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90640" y="735120"/>
            <a:ext cx="4863960" cy="36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63120" y="4642920"/>
            <a:ext cx="53103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88840" y="733320"/>
            <a:ext cx="48643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63120" y="4638240"/>
            <a:ext cx="5310360" cy="441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88840" y="733320"/>
            <a:ext cx="48643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63120" y="4638240"/>
            <a:ext cx="5310360" cy="441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8070-D788-455F-B936-22066D51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87631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2120" y="3806640"/>
            <a:ext cx="87631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A3FC-4799-42DD-A372-1D1EF9FA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14300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120" y="380664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80664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AF2D-E832-4208-A1F7-E29CD5F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28213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4920" y="1143000"/>
            <a:ext cx="28213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8213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2120" y="3806640"/>
            <a:ext cx="28213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4920" y="3806640"/>
            <a:ext cx="28213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3806640"/>
            <a:ext cx="28213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35BE-2052-49B6-AE76-1A7DBC31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2120" y="1143000"/>
            <a:ext cx="876312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AC8D-F89A-42A9-A880-F5B967B7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87631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D2D6-3F55-4805-91E4-0B1A1E59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42760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143000"/>
            <a:ext cx="42760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FDCC-C61D-42A6-BC02-B176079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0610-65C1-4685-ACE5-4E9A5F3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5760" y="-163440"/>
            <a:ext cx="8778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F651-683C-4AF0-9AE6-C881CAD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143000"/>
            <a:ext cx="42760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2120" y="380664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8D5F-89C7-4337-A089-0056B0C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427608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14300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80664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62DB-9F41-470E-942B-BA59AF1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43000"/>
            <a:ext cx="427608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2120" y="3806640"/>
            <a:ext cx="87631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68AC-3389-4524-AF79-A596FE7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e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dee7e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22120" y="1143000"/>
            <a:ext cx="87631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61280" y="6498720"/>
            <a:ext cx="9223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sv-SE" sz="10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4559-9960-420E-9A18-3007798FC371}" type="slidenum">
              <a:rPr b="1" i="1" lang="sv-SE" sz="10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2"/>
          </p:nvPr>
        </p:nvSpPr>
        <p:spPr>
          <a:xfrm>
            <a:off x="423720" y="6498720"/>
            <a:ext cx="9734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0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a5002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1600200" y="6498720"/>
            <a:ext cx="65469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sv-SE" sz="10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1000" spc="-1" strike="noStrike">
                <a:solidFill>
                  <a:srgbClr val="a5002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85760" y="-163440"/>
            <a:ext cx="8778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7.wmf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055600"/>
            <a:ext cx="86868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4000" spc="-1" strike="noStrike">
                <a:solidFill>
                  <a:srgbClr val="a50021"/>
                </a:solidFill>
                <a:latin typeface="Arial"/>
              </a:rPr>
              <a:t>TCP Performance Enhancements </a:t>
            </a:r>
            <a:br>
              <a:rPr sz="4000"/>
            </a:br>
            <a:r>
              <a:rPr b="1" i="1" lang="sv-SE" sz="2000" spc="-1" strike="noStrike">
                <a:solidFill>
                  <a:srgbClr val="a50021"/>
                </a:solidFill>
                <a:latin typeface="Arial"/>
              </a:rPr>
              <a:t>in Wireless Mesh Networks,</a:t>
            </a:r>
            <a:br>
              <a:rPr sz="2000"/>
            </a:br>
            <a:r>
              <a:rPr b="1" i="1" lang="sv-SE" sz="2000" spc="-1" strike="noStrike">
                <a:solidFill>
                  <a:srgbClr val="a50021"/>
                </a:solidFill>
                <a:latin typeface="Arial"/>
              </a:rPr>
              <a:t>problems, ongoing work and future</a:t>
            </a:r>
            <a:br>
              <a:rPr sz="2000"/>
            </a:b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a50021"/>
                </a:solidFill>
                <a:latin typeface="Arial"/>
                <a:ea typeface="DejaVu Sans"/>
              </a:rPr>
              <a:t>Presenter: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  <a:ea typeface="DejaVu Sans"/>
              </a:rPr>
              <a:t>Jonas Karl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  <a:ea typeface="DejaVu Sans"/>
              </a:rPr>
              <a:t>Karlsta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  <a:ea typeface="DejaVu Sans"/>
              </a:rPr>
              <a:t>jonas.karlsson@kau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6553080"/>
            <a:ext cx="693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com++ Summer School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essan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Italy – 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73920" y="3494160"/>
            <a:ext cx="363240" cy="726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34080" y="3909960"/>
            <a:ext cx="744480" cy="689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5760" y="-168120"/>
            <a:ext cx="87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4000" spc="-1" strike="noStrike">
                <a:solidFill>
                  <a:srgbClr val="a50021"/>
                </a:solidFill>
                <a:latin typeface="Arial"/>
              </a:rPr>
              <a:t>Wireless Mesh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23720" y="1044720"/>
            <a:ext cx="676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Wireless mesh networks (community st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ixed wireless backbone, nodes can turn on/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obile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1 or more gateways to connect to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17640" y="3040200"/>
            <a:ext cx="24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SE" sz="1600" spc="-1" strike="noStrike" u="sng">
                <a:solidFill>
                  <a:srgbClr val="000000"/>
                </a:solidFill>
                <a:uFillTx/>
                <a:latin typeface="Arial"/>
              </a:rPr>
              <a:t>Wireless Mesh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837480" y="2579400"/>
            <a:ext cx="1195200" cy="11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39000" y="1163520"/>
            <a:ext cx="1305000" cy="1743120"/>
          </a:xfrm>
          <a:custGeom>
            <a:avLst/>
            <a:gdLst/>
            <a:ahLst/>
            <a:rect l="l" t="t" r="r" b="b"/>
            <a:pathLst>
              <a:path w="1124" h="1611">
                <a:moveTo>
                  <a:pt x="949" y="0"/>
                </a:moveTo>
                <a:cubicBezTo>
                  <a:pt x="605" y="120"/>
                  <a:pt x="262" y="240"/>
                  <a:pt x="131" y="401"/>
                </a:cubicBezTo>
                <a:cubicBezTo>
                  <a:pt x="0" y="562"/>
                  <a:pt x="100" y="797"/>
                  <a:pt x="164" y="969"/>
                </a:cubicBezTo>
                <a:cubicBezTo>
                  <a:pt x="228" y="1141"/>
                  <a:pt x="355" y="1329"/>
                  <a:pt x="515" y="1436"/>
                </a:cubicBezTo>
                <a:cubicBezTo>
                  <a:pt x="675" y="1543"/>
                  <a:pt x="899" y="1577"/>
                  <a:pt x="1124" y="16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1680" y="1611360"/>
            <a:ext cx="18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6600" indent="-336600" algn="ctr"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922480" y="4929120"/>
            <a:ext cx="625680" cy="57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V="1">
            <a:off x="3268800" y="4044960"/>
            <a:ext cx="904680" cy="890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38520" y="4959360"/>
            <a:ext cx="725760" cy="67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4606920" y="4106520"/>
            <a:ext cx="263520" cy="901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611360" y="4282920"/>
            <a:ext cx="625320" cy="579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164280" y="4863960"/>
            <a:ext cx="673200" cy="62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1936800" y="3592440"/>
            <a:ext cx="136440" cy="674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438960" y="4202280"/>
            <a:ext cx="33120" cy="760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78560" y="3786120"/>
            <a:ext cx="35892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5080" y="3643200"/>
            <a:ext cx="555840" cy="5778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6600" indent="-336600" algn="ctr"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602080" y="3503520"/>
            <a:ext cx="1511280" cy="371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921200" y="3903480"/>
            <a:ext cx="1224000" cy="177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299120" y="3772080"/>
            <a:ext cx="363240" cy="72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2136600" y="3376440"/>
            <a:ext cx="363600" cy="72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2152800" y="3621240"/>
            <a:ext cx="368280" cy="2328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3962520" y="4017960"/>
            <a:ext cx="745920" cy="68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5270400" y="5332320"/>
            <a:ext cx="925560" cy="1634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EWCOM++ Summer school, Bressanone Italy 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7E52-0409-419B-ACED-B76084AAC8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7/2008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5400" y="-766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4000" spc="-1" strike="noStrike">
                <a:solidFill>
                  <a:srgbClr val="a50021"/>
                </a:solidFill>
                <a:latin typeface="Arial"/>
              </a:rPr>
              <a:t>Overview WMN’s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2120" y="1142640"/>
            <a:ext cx="876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 be ”expens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1 radio, mimo , medium size antenna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mited” power/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bil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up time is not crucial (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size (commun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expect same performance as wired internet connection (10/24/100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figuration (commun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the Shelf hardware, mainly means phy and mac layer are “untouchab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widely used protocol on Internet (TCP) is not working very well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in multi-hop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EWCOM++ Summer school, Bressanone Italy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8DB5-DACB-40E0-86A1-B8B72CDA96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7/2008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400" y="-766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4000" spc="-1" strike="noStrike">
                <a:solidFill>
                  <a:srgbClr val="a50021"/>
                </a:solidFill>
                <a:latin typeface="Arial"/>
              </a:rPr>
              <a:t>Overview Research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876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able” Wireless Mesh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performance/robust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Us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/Deploy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uto-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pics/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's performance is not adequate for gener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causes severe contention of the wireless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/installation of the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flexible/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network requires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s on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”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”network” should be self-aware and adapt to chang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EWCOM++ Summer school, Bressanone Italy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7643-CDE1-4FC2-9600-6F4482815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7/2008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-766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4000" spc="-1" strike="noStrike">
                <a:solidFill>
                  <a:srgbClr val="a50021"/>
                </a:solidFill>
                <a:latin typeface="Arial"/>
              </a:rPr>
              <a:t>Ongoing work and future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packets cause contention (ong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aggregation (ns 2 and Linux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window scaling/limit (auto-configu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MSS adjustment (packet loss causes retransmi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/inter flow interference (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oblem really in the transport lay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worth optimizing 10-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% at transport layer when 50% are already dropped at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data and ack collision, network co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channel/radio network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power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867280"/>
            <a:ext cx="634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638680"/>
            <a:ext cx="8229600" cy="520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is cause</a:t>
            </a:r>
            <a:r>
              <a:rPr b="0" i="1" lang="sv-SE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what is effect and where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EWCOM++ Summer school, Bressanone Italy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0CF8-7D47-47F4-8802-4530C58270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7/2008</a:t>
            </a: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22640" y="1066680"/>
            <a:ext cx="5121360" cy="3051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400" y="-766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4000" spc="-1" strike="noStrike">
                <a:solidFill>
                  <a:srgbClr val="a50021"/>
                </a:solidFill>
                <a:latin typeface="Arial"/>
              </a:rPr>
              <a:t>Packet Aggregation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2120" y="1143000"/>
            <a:ext cx="430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o fully exploit the availabl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ggregation needs to be adaptive to changing         channe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n a multi-hop scenario this must be done on a hop-by-hop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4292640"/>
          <a:ext cx="820908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292640"/>
                    <a:ext cx="8209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EWCOM++ Summer school, Bressanone Italy 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3467-5D94-43BA-9D72-FABB2DDEB0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7/2008</a:t>
            </a: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5400" y="-766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v-SE" sz="4000" spc="-1" strike="noStrike">
                <a:solidFill>
                  <a:srgbClr val="a50021"/>
                </a:solidFill>
                <a:latin typeface="Arial"/>
              </a:rPr>
              <a:t>Results </a:t>
            </a:r>
            <a:endParaRPr b="1" i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86407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EWCOM++ Summer school, Bressanone Italy 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3AD5-AE1A-4510-BDBD-783A9F1CFE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2/07/2008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s Karlsson</dc:creator>
  <dc:description/>
  <dc:language>en-US</dc:language>
  <cp:lastModifiedBy>a</cp:lastModifiedBy>
  <dcterms:modified xsi:type="dcterms:W3CDTF">2008-07-02T07:10:24Z</dcterms:modified>
  <cp:revision>1</cp:revision>
  <dc:subject/>
  <dc:title>Newcom++ summerschool Bressanone</dc:title>
</cp:coreProperties>
</file>