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10080625" cy="7559675"/>
  <p:notesSz cx="6854825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EA4E6-497A-4046-8D53-A06DFE54E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80800" y="160200"/>
            <a:ext cx="857412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0800" y="1557360"/>
            <a:ext cx="8574120" cy="2612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0800" y="4419000"/>
            <a:ext cx="8574120" cy="2612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5AE91-4C4F-45AF-8EC5-7B564BDC2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80800" y="160200"/>
            <a:ext cx="857412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0800" y="1557360"/>
            <a:ext cx="4183920" cy="2612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574240" y="1557360"/>
            <a:ext cx="4183920" cy="2612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0800" y="4419000"/>
            <a:ext cx="4183920" cy="2612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574240" y="4419000"/>
            <a:ext cx="4183920" cy="2612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D5434-784D-4D9E-B5D6-9CF8651B2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80800" y="160200"/>
            <a:ext cx="857412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0800" y="1557360"/>
            <a:ext cx="2760480" cy="2612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079520" y="1557360"/>
            <a:ext cx="2760480" cy="2612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978600" y="1557360"/>
            <a:ext cx="2760480" cy="2612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0800" y="4419000"/>
            <a:ext cx="2760480" cy="2612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4079520" y="4419000"/>
            <a:ext cx="2760480" cy="2612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978600" y="4419000"/>
            <a:ext cx="2760480" cy="2612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98A7E-E914-474D-8EDB-ED3F88E73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58FF1-F153-4676-9F33-5661D0073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80800" y="160200"/>
            <a:ext cx="857412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180800" y="1557360"/>
            <a:ext cx="8574120" cy="547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E3F17-7DCF-405A-9792-961277DC0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80800" y="160200"/>
            <a:ext cx="857412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80800" y="1557360"/>
            <a:ext cx="8574120" cy="547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85F9F-BFD3-4593-AB23-3004524D2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80800" y="160200"/>
            <a:ext cx="857412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0800" y="1557360"/>
            <a:ext cx="4183920" cy="547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574240" y="1557360"/>
            <a:ext cx="4183920" cy="547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39406-7933-4A60-919F-BBAB396E4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80800" y="160200"/>
            <a:ext cx="857412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0FBD7-51FE-4590-A763-6262D67DE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180800" y="160200"/>
            <a:ext cx="8574120" cy="58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DF230-97EC-4255-8FDD-879E88670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80800" y="160200"/>
            <a:ext cx="857412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80800" y="1557360"/>
            <a:ext cx="4183920" cy="2612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574240" y="1557360"/>
            <a:ext cx="4183920" cy="547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180800" y="4419000"/>
            <a:ext cx="4183920" cy="2612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11713-D516-4ABF-ACBD-DDFF23BBB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80800" y="160200"/>
            <a:ext cx="857412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0800" y="1557360"/>
            <a:ext cx="8574120" cy="547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8DDC0-E2B6-4F7D-B8CA-3DF7779CC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80800" y="160200"/>
            <a:ext cx="857412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80800" y="1557360"/>
            <a:ext cx="4183920" cy="547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574240" y="1557360"/>
            <a:ext cx="4183920" cy="2612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574240" y="4419000"/>
            <a:ext cx="4183920" cy="2612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2F907-8390-4F62-A81A-C81E85E2D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80800" y="160200"/>
            <a:ext cx="857412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80800" y="1557360"/>
            <a:ext cx="4183920" cy="2612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574240" y="1557360"/>
            <a:ext cx="4183920" cy="2612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180800" y="4419000"/>
            <a:ext cx="8574120" cy="2612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E36B2-B537-4C7C-BA65-F25534EB8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80800" y="160200"/>
            <a:ext cx="857412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180800" y="1557360"/>
            <a:ext cx="8574120" cy="2612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1180800" y="4419000"/>
            <a:ext cx="8574120" cy="2612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A5047-B67C-41EF-8A85-AACDAADC3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80800" y="160200"/>
            <a:ext cx="857412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80800" y="1557360"/>
            <a:ext cx="4183920" cy="2612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574240" y="1557360"/>
            <a:ext cx="4183920" cy="2612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180800" y="4419000"/>
            <a:ext cx="4183920" cy="2612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574240" y="4419000"/>
            <a:ext cx="4183920" cy="2612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84D9E-903D-4910-9B4C-9E1B6CC1F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80800" y="160200"/>
            <a:ext cx="857412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80800" y="1557360"/>
            <a:ext cx="2760480" cy="2612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079520" y="1557360"/>
            <a:ext cx="2760480" cy="2612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978600" y="1557360"/>
            <a:ext cx="2760480" cy="2612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1180800" y="4419000"/>
            <a:ext cx="2760480" cy="2612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4079520" y="4419000"/>
            <a:ext cx="2760480" cy="2612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978600" y="4419000"/>
            <a:ext cx="2760480" cy="2612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13FC9-BBC8-414E-A6D3-F4870BA3E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80800" y="160200"/>
            <a:ext cx="857412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0800" y="1557360"/>
            <a:ext cx="8574120" cy="547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09A6A-149A-4F58-A558-08F48FCD1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80800" y="160200"/>
            <a:ext cx="857412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0800" y="1557360"/>
            <a:ext cx="4183920" cy="547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574240" y="1557360"/>
            <a:ext cx="4183920" cy="547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D3C81-C808-4BE7-AC26-F7AD52E14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80800" y="160200"/>
            <a:ext cx="857412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70676-00A3-4883-9701-84BEE1D59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80800" y="160200"/>
            <a:ext cx="8574120" cy="58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221B2-A7CF-4FB9-AD00-A5A1602E3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80800" y="160200"/>
            <a:ext cx="857412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0800" y="1557360"/>
            <a:ext cx="4183920" cy="2612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574240" y="1557360"/>
            <a:ext cx="4183920" cy="547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0800" y="4419000"/>
            <a:ext cx="4183920" cy="2612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F07FF-7854-4A10-BEA9-146987AA2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80800" y="160200"/>
            <a:ext cx="857412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0800" y="1557360"/>
            <a:ext cx="4183920" cy="547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574240" y="1557360"/>
            <a:ext cx="4183920" cy="2612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574240" y="4419000"/>
            <a:ext cx="4183920" cy="2612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35777-95D8-42D7-B8EE-A714B2545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80800" y="160200"/>
            <a:ext cx="857412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0800" y="1557360"/>
            <a:ext cx="4183920" cy="2612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574240" y="1557360"/>
            <a:ext cx="4183920" cy="2612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0800" y="4419000"/>
            <a:ext cx="8574120" cy="2612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782DB-414E-49CB-9993-45FCF4261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1527120" y="444600"/>
            <a:ext cx="7137360" cy="711504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853920" y="7094520"/>
            <a:ext cx="9226800" cy="457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00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180800" y="160200"/>
            <a:ext cx="857412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80800" y="1557360"/>
            <a:ext cx="8574120" cy="547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649"/>
              </a:spcBef>
              <a:buSzPct val="100000"/>
              <a:buBlip>
                <a:blip r:embed="rId3"/>
              </a:buBlip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9000" indent="-315720">
              <a:spcBef>
                <a:spcPts val="649"/>
              </a:spcBef>
              <a:buClr>
                <a:srgbClr val="105107"/>
              </a:buClr>
              <a:buSzPct val="80000"/>
              <a:buFont typeface="Wingdings" charset="2"/>
              <a:buChar char="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60360" indent="-252360">
              <a:spcBef>
                <a:spcPts val="649"/>
              </a:spcBef>
              <a:buClr>
                <a:srgbClr val="105107"/>
              </a:buClr>
              <a:buFont typeface="Wingdings" charset="2"/>
              <a:buChar char="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63640" indent="-253800">
              <a:spcBef>
                <a:spcPts val="649"/>
              </a:spcBef>
              <a:buClr>
                <a:srgbClr val="105107"/>
              </a:buClr>
              <a:buFont typeface="Wingdings" charset="2"/>
              <a:buChar char="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68360" indent="-252360">
              <a:spcBef>
                <a:spcPts val="649"/>
              </a:spcBef>
              <a:buClr>
                <a:srgbClr val="105107"/>
              </a:buClr>
              <a:buFont typeface="Wingdings" charset="2"/>
              <a:buChar char="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68360" indent="-25236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68360" indent="-25236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504360" y="6885000"/>
            <a:ext cx="235116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marL="216000"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444840" y="6885000"/>
            <a:ext cx="319104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marL="216000"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16120" y="1414440"/>
            <a:ext cx="9246960" cy="157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28d511">
                  <a:alpha val="85098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4"/>
          <a:srcRect l="71783" t="0" r="0" b="0"/>
          <a:stretch/>
        </p:blipFill>
        <p:spPr>
          <a:xfrm>
            <a:off x="9583560" y="6402240"/>
            <a:ext cx="497160" cy="1159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790560" y="7068960"/>
            <a:ext cx="937260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2600"/>
                <a:tab algn="l" pos="3619440"/>
                <a:tab algn="l" pos="4343400"/>
                <a:tab algn="l" pos="5064120"/>
                <a:tab algn="l" pos="5791320"/>
                <a:tab algn="l" pos="6512040"/>
                <a:tab algn="l" pos="7238880"/>
                <a:tab algn="l" pos="7962840"/>
                <a:tab algn="l" pos="868356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Bitstream Vera Sans"/>
              </a:rPr>
              <a:t>Federico Librino – SIGNET Group - University of Padov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2600"/>
                <a:tab algn="l" pos="3619440"/>
                <a:tab algn="l" pos="4343400"/>
                <a:tab algn="l" pos="5064120"/>
                <a:tab algn="l" pos="5791320"/>
                <a:tab algn="l" pos="6512040"/>
                <a:tab algn="l" pos="7238880"/>
                <a:tab algn="l" pos="7962840"/>
                <a:tab algn="l" pos="868356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Bitstream Vera Sans"/>
              </a:rPr>
              <a:t>N++ Summer School 2008 – Cooperative Techniques in Wireless Networ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-11160" y="6480"/>
            <a:ext cx="833400" cy="7561080"/>
          </a:xfrm>
          <a:prstGeom prst="rect">
            <a:avLst/>
          </a:prstGeom>
          <a:solidFill>
            <a:srgbClr val="23b50f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-1708200" y="287280"/>
            <a:ext cx="23526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1" lang="en-US" sz="2400" spc="-1" strike="noStrike">
                <a:solidFill>
                  <a:srgbClr val="ffffff"/>
                </a:solidFill>
                <a:latin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fld id="{C27507E7-CDA7-4C23-B58D-DDA5EEE7BC6E}" type="slidenum">
              <a:rPr b="1" lang="en-US" sz="2400" spc="-1" strike="noStrike">
                <a:solidFill>
                  <a:srgbClr val="ffffff"/>
                </a:solidFill>
                <a:latin typeface="Arial Unicode MS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" name="" descr=""/>
          <p:cNvPicPr/>
          <p:nvPr/>
        </p:nvPicPr>
        <p:blipFill>
          <a:blip r:embed="rId5"/>
          <a:stretch/>
        </p:blipFill>
        <p:spPr>
          <a:xfrm>
            <a:off x="9129600" y="0"/>
            <a:ext cx="951120" cy="950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527120" y="444600"/>
            <a:ext cx="7137360" cy="71150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81160" y="2349000"/>
            <a:ext cx="8569440" cy="1621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504360" y="6885000"/>
            <a:ext cx="235116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marL="216000"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444840" y="6885000"/>
            <a:ext cx="319104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marL="216000"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833400" cy="7561440"/>
          </a:xfrm>
          <a:prstGeom prst="rect">
            <a:avLst/>
          </a:prstGeom>
          <a:solidFill>
            <a:srgbClr val="23b50f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92320" y="2076480"/>
            <a:ext cx="8558280" cy="125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26ca10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7224480" y="6885000"/>
            <a:ext cx="23526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1" lang="en-US" sz="2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fld id="{46C9EDF5-2FFE-47B3-A2E2-F4C053057631}" type="slidenum">
              <a:rPr b="1" lang="en-US" sz="2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944640" y="95400"/>
            <a:ext cx="950760" cy="9507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8215200" y="0"/>
            <a:ext cx="1865520" cy="12286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1407960" y="4213080"/>
            <a:ext cx="8558280" cy="125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26ca10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853920" y="7094520"/>
            <a:ext cx="9226800" cy="457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00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90560" y="7051680"/>
            <a:ext cx="937260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2600"/>
                <a:tab algn="l" pos="3619440"/>
                <a:tab algn="l" pos="4343400"/>
                <a:tab algn="l" pos="5064120"/>
                <a:tab algn="l" pos="5791320"/>
                <a:tab algn="l" pos="6512040"/>
                <a:tab algn="l" pos="7238880"/>
                <a:tab algn="l" pos="7962840"/>
                <a:tab algn="l" pos="868356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Bitstream Vera Sans"/>
              </a:rPr>
              <a:t>Federico Librino – SIGNET Group - University of Padov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2600"/>
                <a:tab algn="l" pos="3619440"/>
                <a:tab algn="l" pos="4343400"/>
                <a:tab algn="l" pos="5064120"/>
                <a:tab algn="l" pos="5791320"/>
                <a:tab algn="l" pos="6512040"/>
                <a:tab algn="l" pos="7238880"/>
                <a:tab algn="l" pos="7962840"/>
                <a:tab algn="l" pos="868356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Bitstream Vera Sans"/>
              </a:rPr>
              <a:t>N++ Summer School 2008 – Cooperative Techniques in Wireless Networ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504000" y="1769040"/>
            <a:ext cx="90716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lfae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Sylfaen"/>
            </a:endParaRPr>
          </a:p>
          <a:p>
            <a:pPr lvl="2" marL="914400" indent="93600" algn="ctr">
              <a:spcBef>
                <a:spcPts val="550"/>
              </a:spcBef>
              <a:buClr>
                <a:srgbClr val="105107"/>
              </a:buClr>
              <a:buFont typeface="Wingdings" charset="2"/>
              <a:buChar char="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ylfaen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Sylfaen"/>
            </a:endParaRPr>
          </a:p>
          <a:p>
            <a:pPr lvl="3" marL="1371600" indent="139680" algn="ctr">
              <a:spcBef>
                <a:spcPts val="499"/>
              </a:spcBef>
              <a:buClr>
                <a:srgbClr val="105107"/>
              </a:buClr>
              <a:buFont typeface="Wingdings" charset="2"/>
              <a:buChar char=""/>
              <a:tabLst>
                <a:tab algn="l" pos="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lfae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Sylfaen"/>
            </a:endParaRPr>
          </a:p>
          <a:p>
            <a:pPr lvl="4" marL="1828800" indent="187200" algn="ctr">
              <a:spcBef>
                <a:spcPts val="499"/>
              </a:spcBef>
              <a:buClr>
                <a:srgbClr val="105107"/>
              </a:buClr>
              <a:buFont typeface="Wingdings" charset="2"/>
              <a:buChar char=""/>
              <a:tabLst>
                <a:tab algn="l" pos="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lfae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Sylfaen"/>
            </a:endParaRPr>
          </a:p>
          <a:p>
            <a:pPr lvl="5" marL="1828800" indent="1872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lfae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Sylfaen"/>
            </a:endParaRPr>
          </a:p>
          <a:p>
            <a:pPr lvl="6" marL="1828800" indent="1872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lfae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Sylfae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8215200" y="0"/>
            <a:ext cx="1865520" cy="122868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81160" y="2349000"/>
            <a:ext cx="8569440" cy="1621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i="1" lang="it-IT" sz="4000" spc="-1" strike="noStrike">
                <a:solidFill>
                  <a:srgbClr val="000000"/>
                </a:solidFill>
                <a:latin typeface="Tahoma"/>
              </a:rPr>
              <a:t>Cooperative Techniques in Wireless Network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863280" y="4530240"/>
            <a:ext cx="9217080" cy="193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Viner Hand ITC"/>
              </a:rPr>
              <a:t>Federico Librino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264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it-IT" sz="2100" spc="-1" strike="noStrike">
                <a:solidFill>
                  <a:srgbClr val="000000"/>
                </a:solidFill>
                <a:latin typeface="Courier New"/>
              </a:rPr>
              <a:t>E.mail:federico.librino@dei.unipd.it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264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it-IT" sz="2100" spc="-1" strike="noStrike">
                <a:solidFill>
                  <a:srgbClr val="000000"/>
                </a:solidFill>
                <a:latin typeface="Courier New"/>
              </a:rPr>
              <a:t>SIGNET Group - Department of Information Engineering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264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it-IT" sz="2100" spc="-1" strike="noStrike">
                <a:solidFill>
                  <a:srgbClr val="000000"/>
                </a:solidFill>
                <a:latin typeface="Courier New"/>
              </a:rPr>
              <a:t>University of Padova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80800" y="160200"/>
            <a:ext cx="857412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Cooperation in Wireless Network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80800" y="1557360"/>
            <a:ext cx="8574120" cy="547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lvl="1" marL="819000" indent="-315720">
              <a:lnSpc>
                <a:spcPct val="125000"/>
              </a:lnSpc>
              <a:spcBef>
                <a:spcPts val="601"/>
              </a:spcBef>
              <a:buClr>
                <a:srgbClr val="105107"/>
              </a:buClr>
              <a:buSzPct val="80000"/>
              <a:buFont typeface="Wingdings" charset="2"/>
              <a:buChar char="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in ide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an (idle) node, which listens to the communication between a source and a destination, can help the former in delivering the message</a:t>
            </a:r>
            <a:endParaRPr b="0" lang="en-US" sz="2400" spc="-1" strike="noStrike">
              <a:solidFill>
                <a:srgbClr val="000000"/>
              </a:solidFill>
              <a:latin typeface="Sylfaen"/>
            </a:endParaRPr>
          </a:p>
          <a:p>
            <a:pPr lvl="1" marL="819000" indent="-315720">
              <a:lnSpc>
                <a:spcPct val="125000"/>
              </a:lnSpc>
              <a:spcBef>
                <a:spcPts val="601"/>
              </a:spcBef>
              <a:buClr>
                <a:srgbClr val="105107"/>
              </a:buClr>
              <a:buSzPct val="80000"/>
              <a:buFont typeface="Wingdings" charset="2"/>
              <a:buChar char="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literature several different techniques:</a:t>
            </a:r>
            <a:endParaRPr b="0" lang="en-US" sz="2400" spc="-1" strike="noStrike">
              <a:solidFill>
                <a:srgbClr val="000000"/>
              </a:solidFill>
              <a:latin typeface="Sylfaen"/>
            </a:endParaRPr>
          </a:p>
          <a:p>
            <a:pPr lvl="2" marL="1260360" indent="-252360">
              <a:lnSpc>
                <a:spcPct val="125000"/>
              </a:lnSpc>
              <a:spcBef>
                <a:spcPts val="550"/>
              </a:spcBef>
              <a:buClr>
                <a:srgbClr val="105107"/>
              </a:buClr>
              <a:buFont typeface="Wingdings" charset="2"/>
              <a:buChar char=""/>
              <a:tabLst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mplify &amp; Forward (A&amp;F)</a:t>
            </a:r>
            <a:endParaRPr b="0" lang="en-US" sz="2200" spc="-1" strike="noStrike">
              <a:solidFill>
                <a:srgbClr val="000000"/>
              </a:solidFill>
              <a:latin typeface="Sylfaen"/>
            </a:endParaRPr>
          </a:p>
          <a:p>
            <a:pPr lvl="2" marL="1260360" indent="-252360">
              <a:lnSpc>
                <a:spcPct val="125000"/>
              </a:lnSpc>
              <a:spcBef>
                <a:spcPts val="550"/>
              </a:spcBef>
              <a:buClr>
                <a:srgbClr val="105107"/>
              </a:buClr>
              <a:buFont typeface="Wingdings" charset="2"/>
              <a:buChar char=""/>
              <a:tabLst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code &amp; Forward (D&amp;F)</a:t>
            </a:r>
            <a:endParaRPr b="0" lang="en-US" sz="2200" spc="-1" strike="noStrike">
              <a:solidFill>
                <a:srgbClr val="000000"/>
              </a:solidFill>
              <a:latin typeface="Sylfaen"/>
            </a:endParaRPr>
          </a:p>
          <a:p>
            <a:pPr lvl="2" marL="1260360" indent="-252360">
              <a:lnSpc>
                <a:spcPct val="125000"/>
              </a:lnSpc>
              <a:spcBef>
                <a:spcPts val="550"/>
              </a:spcBef>
              <a:buClr>
                <a:srgbClr val="105107"/>
              </a:buClr>
              <a:buFont typeface="Wingdings" charset="2"/>
              <a:buChar char=""/>
              <a:tabLst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pace-Time Block Codes (STBC)</a:t>
            </a:r>
            <a:endParaRPr b="0" lang="en-US" sz="2200" spc="-1" strike="noStrike">
              <a:solidFill>
                <a:srgbClr val="000000"/>
              </a:solidFill>
              <a:latin typeface="Sylfaen"/>
            </a:endParaRPr>
          </a:p>
          <a:p>
            <a:pPr lvl="2" marL="1260360" indent="-252360">
              <a:lnSpc>
                <a:spcPct val="125000"/>
              </a:lnSpc>
              <a:spcBef>
                <a:spcPts val="550"/>
              </a:spcBef>
              <a:buClr>
                <a:srgbClr val="105107"/>
              </a:buClr>
              <a:buFont typeface="Wingdings" charset="2"/>
              <a:buChar char=""/>
              <a:tabLst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ded Cooperation</a:t>
            </a:r>
            <a:endParaRPr b="0" lang="en-US" sz="2200" spc="-1" strike="noStrike">
              <a:solidFill>
                <a:srgbClr val="000000"/>
              </a:solidFill>
              <a:latin typeface="Sylfaen"/>
            </a:endParaRPr>
          </a:p>
          <a:p>
            <a:pPr lvl="1" marL="819000" indent="-315720">
              <a:lnSpc>
                <a:spcPct val="125000"/>
              </a:lnSpc>
              <a:spcBef>
                <a:spcPts val="601"/>
              </a:spcBef>
              <a:buClr>
                <a:srgbClr val="105107"/>
              </a:buClr>
              <a:buSzPct val="80000"/>
              <a:buFont typeface="Wingdings" charset="2"/>
              <a:buChar char="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this work,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ded Cooper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as used in ad hoc networks, whereas A&amp;F and D&amp;F were investigated in cellular networks</a:t>
            </a:r>
            <a:endParaRPr b="0" lang="en-US" sz="2400" spc="-1" strike="noStrike">
              <a:solidFill>
                <a:srgbClr val="000000"/>
              </a:solidFill>
              <a:latin typeface="Sylfaen"/>
            </a:endParaRPr>
          </a:p>
        </p:txBody>
      </p:sp>
      <p:sp>
        <p:nvSpPr>
          <p:cNvPr id="102" name=""/>
          <p:cNvSpPr/>
          <p:nvPr/>
        </p:nvSpPr>
        <p:spPr>
          <a:xfrm>
            <a:off x="6762600" y="3514680"/>
            <a:ext cx="2978280" cy="205596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23160" y="3638520"/>
            <a:ext cx="390600" cy="390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9105840" y="4556160"/>
            <a:ext cx="390600" cy="390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653240" y="5048280"/>
            <a:ext cx="390600" cy="390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453440" y="3902040"/>
            <a:ext cx="1566720" cy="67932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8183520" y="4819320"/>
            <a:ext cx="784440" cy="26676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288200" y="4156200"/>
            <a:ext cx="423720" cy="8316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80800" y="160200"/>
            <a:ext cx="857412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Ad Hoc Wireless Network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0800" y="1557360"/>
            <a:ext cx="8499240" cy="2340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munications performed in a decentralized fashio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37800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ulti hop transmission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37800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hannel contentio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37800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l nodes share the same (or similar) capabiliti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37800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ultiple sources, multiple destination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70080" y="3719520"/>
            <a:ext cx="789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51c0b"/>
                </a:solidFill>
                <a:latin typeface="Arial"/>
              </a:rPr>
              <a:t>Cooperation in Ad Hoc Wireless Networ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066680" y="4186080"/>
            <a:ext cx="8610840" cy="24418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rmAutofit fontScale="93000"/>
          </a:bodyPr>
          <a:p>
            <a:pPr marL="351360" indent="-351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ross layer protocols can be designed to fully exploit the advantages granted by cooper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1400" indent="-293400">
              <a:lnSpc>
                <a:spcPct val="100000"/>
              </a:lnSpc>
              <a:spcBef>
                <a:spcPts val="550"/>
              </a:spcBef>
              <a:buClr>
                <a:srgbClr val="105107"/>
              </a:buClr>
              <a:buSzPct val="80000"/>
              <a:buFont typeface="Wingdings" charset="2"/>
              <a:buChar char="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ylfaen"/>
              </a:rPr>
              <a:t>Trade-off between cooperative traffic and non cooperative o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61400" indent="-293400">
              <a:lnSpc>
                <a:spcPct val="100000"/>
              </a:lnSpc>
              <a:spcBef>
                <a:spcPts val="550"/>
              </a:spcBef>
              <a:buClr>
                <a:srgbClr val="105107"/>
              </a:buClr>
              <a:buSzPct val="80000"/>
              <a:buFont typeface="Wingdings" charset="2"/>
              <a:buChar char="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ylfaen"/>
              </a:rPr>
              <a:t>Cooperator(s) selection in a distributed fash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61400" indent="-293400">
              <a:lnSpc>
                <a:spcPct val="100000"/>
              </a:lnSpc>
              <a:spcBef>
                <a:spcPts val="550"/>
              </a:spcBef>
              <a:buClr>
                <a:srgbClr val="105107"/>
              </a:buClr>
              <a:buSzPct val="80000"/>
              <a:buFont typeface="Wingdings" charset="2"/>
              <a:buChar char="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ylfaen"/>
              </a:rPr>
              <a:t>Increased Interfere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61400" indent="-293400">
              <a:lnSpc>
                <a:spcPct val="100000"/>
              </a:lnSpc>
              <a:spcBef>
                <a:spcPts val="550"/>
              </a:spcBef>
              <a:buClr>
                <a:srgbClr val="105107"/>
              </a:buClr>
              <a:buSzPct val="80000"/>
              <a:buFont typeface="Wingdings" charset="2"/>
              <a:buChar char="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ylfaen"/>
              </a:rPr>
              <a:t>PHY and MAC layers properly design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80800" y="160200"/>
            <a:ext cx="857412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A cooperativ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ross layer protocol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1600" y="1557000"/>
            <a:ext cx="9248760" cy="423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lnSpc>
                <a:spcPct val="90000"/>
              </a:lnSpc>
              <a:spcBef>
                <a:spcPts val="550"/>
              </a:spcBef>
              <a:buSzPct val="100000"/>
              <a:buBlip>
                <a:blip r:embed="rId1"/>
              </a:buBlip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A cooperative cross layer protocol was developed and studied: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990720" y="1976400"/>
            <a:ext cx="8499240" cy="1324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rmAutofit fontScale="90000"/>
          </a:bodyPr>
          <a:p>
            <a:pPr lvl="1" marL="736920" indent="-284040">
              <a:lnSpc>
                <a:spcPct val="100000"/>
              </a:lnSpc>
              <a:spcBef>
                <a:spcPts val="550"/>
              </a:spcBef>
              <a:buClr>
                <a:srgbClr val="105107"/>
              </a:buClr>
              <a:buSzPct val="80000"/>
              <a:buFont typeface="Wingdings" charset="2"/>
              <a:buChar char="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ylfaen"/>
              </a:rPr>
              <a:t>PHY layer: MIMO techniques, Multiuser Detection, CDM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6920" indent="-284040">
              <a:lnSpc>
                <a:spcPct val="100000"/>
              </a:lnSpc>
              <a:spcBef>
                <a:spcPts val="550"/>
              </a:spcBef>
              <a:buClr>
                <a:srgbClr val="105107"/>
              </a:buClr>
              <a:buSzPct val="80000"/>
              <a:buFont typeface="Wingdings" charset="2"/>
              <a:buChar char="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ylfaen"/>
              </a:rPr>
              <a:t>MAC layer: Distributed HARQ, Linear Erasure Cod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6920" indent="-284040">
              <a:lnSpc>
                <a:spcPct val="100000"/>
              </a:lnSpc>
              <a:spcBef>
                <a:spcPts val="550"/>
              </a:spcBef>
              <a:buClr>
                <a:srgbClr val="105107"/>
              </a:buClr>
              <a:buSzPct val="80000"/>
              <a:buFont typeface="Wingdings" charset="2"/>
              <a:buChar char="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ylfaen"/>
              </a:rPr>
              <a:t>Routing layer: opportunistic relaying, cooperative forward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038240" y="6119640"/>
            <a:ext cx="8388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99"/>
                </a:solidFill>
                <a:latin typeface="Arial"/>
              </a:rPr>
              <a:t>Cooperation offers </a:t>
            </a:r>
            <a:r>
              <a:rPr b="1" lang="it-IT" sz="2000" spc="-1" strike="noStrike">
                <a:solidFill>
                  <a:srgbClr val="333399"/>
                </a:solidFill>
                <a:latin typeface="Arial"/>
              </a:rPr>
              <a:t>diversity gain</a:t>
            </a:r>
            <a:r>
              <a:rPr b="0" lang="it-IT" sz="2000" spc="-1" strike="noStrike">
                <a:solidFill>
                  <a:srgbClr val="333399"/>
                </a:solidFill>
                <a:latin typeface="Arial"/>
              </a:rPr>
              <a:t>, thus leading to a </a:t>
            </a:r>
            <a:r>
              <a:rPr b="1" lang="it-IT" sz="2000" spc="-1" strike="noStrike">
                <a:solidFill>
                  <a:srgbClr val="333399"/>
                </a:solidFill>
                <a:latin typeface="Arial"/>
              </a:rPr>
              <a:t>delay reduction</a:t>
            </a:r>
            <a:r>
              <a:rPr b="0" lang="it-IT" sz="2000" spc="-1" strike="noStrike">
                <a:solidFill>
                  <a:srgbClr val="333399"/>
                </a:solidFill>
                <a:latin typeface="Arial"/>
              </a:rPr>
              <a:t> and a </a:t>
            </a:r>
            <a:r>
              <a:rPr b="1" lang="it-IT" sz="2000" spc="-1" strike="noStrike">
                <a:solidFill>
                  <a:srgbClr val="333399"/>
                </a:solidFill>
                <a:latin typeface="Arial"/>
              </a:rPr>
              <a:t>throughput increase</a:t>
            </a:r>
            <a:r>
              <a:rPr b="0" lang="it-IT" sz="2000" spc="-1" strike="noStrike">
                <a:solidFill>
                  <a:srgbClr val="333399"/>
                </a:solidFill>
                <a:latin typeface="Arial"/>
              </a:rPr>
              <a:t>, whereas efficiency in multi hop paths is improved by opportunistic relaying and cooperative forwar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1477800" y="3483000"/>
            <a:ext cx="3783240" cy="25686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5307120" y="3483000"/>
            <a:ext cx="3728880" cy="27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80800" y="160200"/>
            <a:ext cx="857412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ellular Network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"/>
          <p:cNvSpPr/>
          <p:nvPr/>
        </p:nvSpPr>
        <p:spPr>
          <a:xfrm>
            <a:off x="341280" y="2176560"/>
            <a:ext cx="9228240" cy="100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rmAutofit/>
          </a:bodyPr>
          <a:p>
            <a:pPr lvl="1" marL="960480" indent="-457200">
              <a:lnSpc>
                <a:spcPct val="100000"/>
              </a:lnSpc>
              <a:spcBef>
                <a:spcPts val="499"/>
              </a:spcBef>
              <a:buClr>
                <a:srgbClr val="105107"/>
              </a:buClr>
              <a:buSzPct val="80000"/>
              <a:buFont typeface="Wingdings" charset="2"/>
              <a:buChar char="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181160" y="1557360"/>
            <a:ext cx="8899560" cy="22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rmAutofit/>
          </a:bodyPr>
          <a:p>
            <a:pPr marL="378000" indent="-37800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entralized commun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ngle hop transmis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fferent channels (data and control), previously assig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ase Stations and Mobile Terminals have different capabi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ultiple sources, single destination (uplink within a single cel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270080" y="3745080"/>
            <a:ext cx="789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51c0b"/>
                </a:solidFill>
                <a:latin typeface="Arial"/>
              </a:rPr>
              <a:t>Cooperation in Cellular Networ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066680" y="4211640"/>
            <a:ext cx="8610840" cy="27972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rmAutofit fontScale="96000"/>
          </a:bodyPr>
          <a:p>
            <a:pPr marL="362880" indent="-36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operation should be integrated in existing standards, with few modif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6240" indent="-302760">
              <a:lnSpc>
                <a:spcPct val="100000"/>
              </a:lnSpc>
              <a:spcBef>
                <a:spcPts val="550"/>
              </a:spcBef>
              <a:buClr>
                <a:srgbClr val="105107"/>
              </a:buClr>
              <a:buSzPct val="80000"/>
              <a:buFont typeface="Wingdings" charset="2"/>
              <a:buChar char="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ylfaen"/>
              </a:rPr>
              <a:t>Channel assignment to both source and cooperat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86240" indent="-302760">
              <a:lnSpc>
                <a:spcPct val="100000"/>
              </a:lnSpc>
              <a:spcBef>
                <a:spcPts val="550"/>
              </a:spcBef>
              <a:buClr>
                <a:srgbClr val="105107"/>
              </a:buClr>
              <a:buSzPct val="80000"/>
              <a:buFont typeface="Wingdings" charset="2"/>
              <a:buChar char="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ylfaen"/>
              </a:rPr>
              <a:t>Cooperator(s) selection in a centralized fash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86240" indent="-302760">
              <a:lnSpc>
                <a:spcPct val="100000"/>
              </a:lnSpc>
              <a:spcBef>
                <a:spcPts val="550"/>
              </a:spcBef>
              <a:buClr>
                <a:srgbClr val="105107"/>
              </a:buClr>
              <a:buSzPct val="80000"/>
              <a:buFont typeface="Wingdings" charset="2"/>
              <a:buChar char="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ylfaen"/>
              </a:rPr>
              <a:t>Cooperative power allocation policy, to reduce interfere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86240" indent="-302760">
              <a:lnSpc>
                <a:spcPct val="100000"/>
              </a:lnSpc>
              <a:spcBef>
                <a:spcPts val="550"/>
              </a:spcBef>
              <a:buClr>
                <a:srgbClr val="105107"/>
              </a:buClr>
              <a:buSzPct val="80000"/>
              <a:buFont typeface="Wingdings" charset="2"/>
              <a:buChar char="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ylfaen"/>
              </a:rPr>
              <a:t>Integration with handover schem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86240" indent="-302760">
              <a:lnSpc>
                <a:spcPct val="100000"/>
              </a:lnSpc>
              <a:spcBef>
                <a:spcPts val="550"/>
              </a:spcBef>
              <a:buClr>
                <a:srgbClr val="105107"/>
              </a:buClr>
              <a:buSzPct val="80000"/>
              <a:buFont typeface="Wingdings" charset="2"/>
              <a:buChar char="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ylfaen"/>
              </a:rPr>
              <a:t>Security issues if other MTs serve as cooperato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80800" y="160200"/>
            <a:ext cx="857412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ooperative schemes i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a UMTS environmen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0800" y="1557000"/>
            <a:ext cx="8574120" cy="703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lnSpc>
                <a:spcPct val="90000"/>
              </a:lnSpc>
              <a:spcBef>
                <a:spcPts val="550"/>
              </a:spcBef>
              <a:buSzPct val="100000"/>
              <a:buBlip>
                <a:blip r:embed="rId1"/>
              </a:buBlip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Outage probability studied for a cooperative communication within a single cell: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5175360" y="2235240"/>
            <a:ext cx="3909960" cy="27288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825480" y="4871880"/>
            <a:ext cx="8929800" cy="22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rmAutofit/>
          </a:bodyPr>
          <a:p>
            <a:pPr lvl="1" marL="819000" indent="-315720">
              <a:lnSpc>
                <a:spcPct val="90000"/>
              </a:lnSpc>
              <a:spcBef>
                <a:spcPts val="499"/>
              </a:spcBef>
              <a:buClr>
                <a:srgbClr val="105107"/>
              </a:buClr>
              <a:buSzPct val="80000"/>
              <a:buFont typeface="Wingdings" charset="2"/>
              <a:buChar char="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Sylfaen"/>
              </a:rPr>
              <a:t>Cooperation grants a </a:t>
            </a:r>
            <a:r>
              <a:rPr b="1" lang="en-US" sz="2000" spc="-1" strike="noStrike">
                <a:solidFill>
                  <a:srgbClr val="333399"/>
                </a:solidFill>
                <a:latin typeface="Sylfaen"/>
              </a:rPr>
              <a:t>lower outage probability</a:t>
            </a:r>
            <a:r>
              <a:rPr b="0" lang="en-US" sz="2000" spc="-1" strike="noStrike">
                <a:solidFill>
                  <a:srgbClr val="333399"/>
                </a:solidFill>
                <a:latin typeface="Sylfaen"/>
              </a:rPr>
              <a:t>, thus leading to an </a:t>
            </a:r>
            <a:r>
              <a:rPr b="1" lang="en-US" sz="2000" spc="-1" strike="noStrike">
                <a:solidFill>
                  <a:srgbClr val="333399"/>
                </a:solidFill>
                <a:latin typeface="Sylfaen"/>
              </a:rPr>
              <a:t>increased transmission range</a:t>
            </a:r>
            <a:r>
              <a:rPr b="0" lang="en-US" sz="2000" spc="-1" strike="noStrike">
                <a:solidFill>
                  <a:srgbClr val="333399"/>
                </a:solidFill>
                <a:latin typeface="Sylfae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lnSpc>
                <a:spcPct val="90000"/>
              </a:lnSpc>
              <a:spcBef>
                <a:spcPts val="499"/>
              </a:spcBef>
              <a:buClr>
                <a:srgbClr val="105107"/>
              </a:buClr>
              <a:buSzPct val="80000"/>
              <a:buFont typeface="Wingdings" charset="2"/>
              <a:buChar char="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Sylfaen"/>
              </a:rPr>
              <a:t>Benefits strongly dependent on the </a:t>
            </a:r>
            <a:r>
              <a:rPr b="1" lang="en-US" sz="2000" spc="-1" strike="noStrike">
                <a:solidFill>
                  <a:srgbClr val="333399"/>
                </a:solidFill>
                <a:latin typeface="Sylfaen"/>
              </a:rPr>
              <a:t>position</a:t>
            </a:r>
            <a:r>
              <a:rPr b="0" lang="en-US" sz="2000" spc="-1" strike="noStrike">
                <a:solidFill>
                  <a:srgbClr val="333399"/>
                </a:solidFill>
                <a:latin typeface="Sylfaen"/>
              </a:rPr>
              <a:t> of the cooperator and on its </a:t>
            </a:r>
            <a:r>
              <a:rPr b="1" lang="en-US" sz="2000" spc="-1" strike="noStrike">
                <a:solidFill>
                  <a:srgbClr val="333399"/>
                </a:solidFill>
                <a:latin typeface="Sylfaen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lnSpc>
                <a:spcPct val="90000"/>
              </a:lnSpc>
              <a:spcBef>
                <a:spcPts val="499"/>
              </a:spcBef>
              <a:buClr>
                <a:srgbClr val="105107"/>
              </a:buClr>
              <a:buSzPct val="80000"/>
              <a:buFont typeface="Wingdings" charset="2"/>
              <a:buChar char="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Sylfaen"/>
              </a:rPr>
              <a:t>A&amp;F requires less complexity and less del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lnSpc>
                <a:spcPct val="90000"/>
              </a:lnSpc>
              <a:spcBef>
                <a:spcPts val="499"/>
              </a:spcBef>
              <a:buClr>
                <a:srgbClr val="105107"/>
              </a:buClr>
              <a:buSzPct val="80000"/>
              <a:buFont typeface="Wingdings" charset="2"/>
              <a:buChar char="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Sylfaen"/>
              </a:rPr>
              <a:t>D&amp;F reduces noise, and can be improved if feedback is avail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1419120" y="2257560"/>
            <a:ext cx="3814920" cy="263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80800" y="160200"/>
            <a:ext cx="857412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Still open problem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0800" y="1747440"/>
            <a:ext cx="8574120" cy="5303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6000"/>
          </a:bodyPr>
          <a:p>
            <a:pPr marL="362880" indent="-3628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2400" spc="-1" strike="noStrike">
                <a:solidFill>
                  <a:srgbClr val="f51c0b"/>
                </a:solidFill>
                <a:latin typeface="Times New Roman"/>
              </a:rPr>
              <a:t>Ad Hoc Network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240" indent="-302760">
              <a:lnSpc>
                <a:spcPct val="90000"/>
              </a:lnSpc>
              <a:spcBef>
                <a:spcPts val="550"/>
              </a:spcBef>
              <a:buClr>
                <a:srgbClr val="f51c0b"/>
              </a:buClr>
              <a:buSzPct val="80000"/>
              <a:buFont typeface="Wingdings" charset="2"/>
              <a:buChar char="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ylfaen"/>
              </a:rPr>
              <a:t>Performance analysis of cooperative schemes, from a network perspective, is still to be done</a:t>
            </a:r>
            <a:endParaRPr b="0" lang="en-US" sz="2200" spc="-1" strike="noStrike">
              <a:solidFill>
                <a:srgbClr val="000000"/>
              </a:solidFill>
              <a:latin typeface="Sylfaen"/>
            </a:endParaRPr>
          </a:p>
          <a:p>
            <a:pPr lvl="1" marL="786240" indent="-302760">
              <a:lnSpc>
                <a:spcPct val="90000"/>
              </a:lnSpc>
              <a:spcBef>
                <a:spcPts val="550"/>
              </a:spcBef>
              <a:buClr>
                <a:srgbClr val="f51c0b"/>
              </a:buClr>
              <a:buSzPct val="80000"/>
              <a:buFont typeface="Wingdings" charset="2"/>
              <a:buChar char="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ylfaen"/>
              </a:rPr>
              <a:t>Energy constraints were not considered</a:t>
            </a:r>
            <a:endParaRPr b="0" lang="en-US" sz="2200" spc="-1" strike="noStrike">
              <a:solidFill>
                <a:srgbClr val="000000"/>
              </a:solidFill>
              <a:latin typeface="Sylfaen"/>
            </a:endParaRPr>
          </a:p>
          <a:p>
            <a:pPr lvl="1" marL="786240" indent="-302760">
              <a:lnSpc>
                <a:spcPct val="90000"/>
              </a:lnSpc>
              <a:spcBef>
                <a:spcPts val="550"/>
              </a:spcBef>
              <a:buClr>
                <a:srgbClr val="f51c0b"/>
              </a:buClr>
              <a:buSzPct val="80000"/>
              <a:buFont typeface="Wingdings" charset="2"/>
              <a:buChar char="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ylfaen"/>
              </a:rPr>
              <a:t>Many other solutions (routing schemes, coding techniques) appear feasible for cooperation and should be investigated</a:t>
            </a:r>
            <a:endParaRPr b="0" lang="en-US" sz="2200" spc="-1" strike="noStrike">
              <a:solidFill>
                <a:srgbClr val="000000"/>
              </a:solidFill>
              <a:latin typeface="Sylfaen"/>
            </a:endParaRPr>
          </a:p>
          <a:p>
            <a:pPr lvl="1" marL="786240" indent="-302760">
              <a:lnSpc>
                <a:spcPct val="90000"/>
              </a:lnSpc>
              <a:spcBef>
                <a:spcPts val="550"/>
              </a:spcBef>
              <a:buClr>
                <a:srgbClr val="f51c0b"/>
              </a:buClr>
              <a:buSzPct val="80000"/>
              <a:buFont typeface="Wingdings" charset="2"/>
              <a:buChar char="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ylfaen"/>
              </a:rPr>
              <a:t>High mobility was not considered up to now</a:t>
            </a:r>
            <a:endParaRPr b="0" lang="en-US" sz="2200" spc="-1" strike="noStrike">
              <a:solidFill>
                <a:srgbClr val="000000"/>
              </a:solidFill>
              <a:latin typeface="Sylfaen"/>
            </a:endParaRPr>
          </a:p>
          <a:p>
            <a:pPr lvl="1" marL="786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200" spc="-1" strike="noStrike">
              <a:solidFill>
                <a:srgbClr val="000000"/>
              </a:solidFill>
              <a:latin typeface="Sylfaen"/>
            </a:endParaRPr>
          </a:p>
          <a:p>
            <a:pPr marL="362880" indent="-3628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Cellular Network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240" indent="-302760">
              <a:lnSpc>
                <a:spcPct val="90000"/>
              </a:lnSpc>
              <a:spcBef>
                <a:spcPts val="550"/>
              </a:spcBef>
              <a:buClr>
                <a:srgbClr val="0000ff"/>
              </a:buClr>
              <a:buSzPct val="80000"/>
              <a:buFont typeface="Wingdings" charset="2"/>
              <a:buChar char="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ylfaen"/>
              </a:rPr>
              <a:t>Cooperative communication setup and channel assignment</a:t>
            </a:r>
            <a:endParaRPr b="0" lang="en-US" sz="2200" spc="-1" strike="noStrike">
              <a:solidFill>
                <a:srgbClr val="000000"/>
              </a:solidFill>
              <a:latin typeface="Sylfaen"/>
            </a:endParaRPr>
          </a:p>
          <a:p>
            <a:pPr lvl="1" marL="786240" indent="-302760">
              <a:lnSpc>
                <a:spcPct val="90000"/>
              </a:lnSpc>
              <a:spcBef>
                <a:spcPts val="550"/>
              </a:spcBef>
              <a:buClr>
                <a:srgbClr val="0000ff"/>
              </a:buClr>
              <a:buSzPct val="80000"/>
              <a:buFont typeface="Wingdings" charset="2"/>
              <a:buChar char="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ylfaen"/>
              </a:rPr>
              <a:t>Handover in cooperative communications</a:t>
            </a:r>
            <a:endParaRPr b="0" lang="en-US" sz="2200" spc="-1" strike="noStrike">
              <a:solidFill>
                <a:srgbClr val="000000"/>
              </a:solidFill>
              <a:latin typeface="Sylfaen"/>
            </a:endParaRPr>
          </a:p>
          <a:p>
            <a:pPr lvl="1" marL="786240" indent="-302760">
              <a:lnSpc>
                <a:spcPct val="90000"/>
              </a:lnSpc>
              <a:spcBef>
                <a:spcPts val="550"/>
              </a:spcBef>
              <a:buClr>
                <a:srgbClr val="0000ff"/>
              </a:buClr>
              <a:buSzPct val="80000"/>
              <a:buFont typeface="Wingdings" charset="2"/>
              <a:buChar char="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ylfaen"/>
              </a:rPr>
              <a:t>Power Control algorithms for cooperative transmission</a:t>
            </a:r>
            <a:endParaRPr b="0" lang="en-US" sz="2200" spc="-1" strike="noStrike">
              <a:solidFill>
                <a:srgbClr val="000000"/>
              </a:solidFill>
              <a:latin typeface="Sylfaen"/>
            </a:endParaRPr>
          </a:p>
          <a:p>
            <a:pPr lvl="1" marL="786240" indent="-302760">
              <a:lnSpc>
                <a:spcPct val="90000"/>
              </a:lnSpc>
              <a:spcBef>
                <a:spcPts val="550"/>
              </a:spcBef>
              <a:buClr>
                <a:srgbClr val="0000ff"/>
              </a:buClr>
              <a:buSzPct val="80000"/>
              <a:buFont typeface="Wingdings" charset="2"/>
              <a:buChar char="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ylfaen"/>
              </a:rPr>
              <a:t>Cooperation impact should be tested in a wider scenario, where several MTs are deployed</a:t>
            </a:r>
            <a:endParaRPr b="0" lang="en-US" sz="2200" spc="-1" strike="noStrike">
              <a:solidFill>
                <a:srgbClr val="000000"/>
              </a:solidFill>
              <a:latin typeface="Sylfae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5T23:32:17Z</dcterms:created>
  <dc:creator>Federico</dc:creator>
  <dc:description/>
  <dc:language>en-US</dc:language>
  <cp:lastModifiedBy> </cp:lastModifiedBy>
  <dcterms:modified xsi:type="dcterms:W3CDTF">2008-07-02T01:00:10Z</dcterms:modified>
  <cp:revision>74</cp:revision>
  <dc:subject/>
  <dc:title>Diapositiva 1</dc:title>
</cp:coreProperties>
</file>