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DBE-5F5A-4E04-AE6F-B92B343A5A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EE8-AA66-4CFD-98A4-8E79362E77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FC43-1A39-4219-9944-97483F14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3FFF-7FE7-45D5-925A-D08EEA7A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1184-1CBF-4EE2-BAAD-347A5EE8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2C2C-F0BB-4F58-B524-48B3ABC0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831960"/>
            <a:ext cx="914400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E935-DE74-4913-A146-838D726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34960"/>
            <a:ext cx="264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44EE-7701-4F61-8BF4-CD18263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341C-BDB9-477B-B113-D017962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1921-E51F-4A29-A69A-B355BFA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831960"/>
            <a:ext cx="914400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2E0E-522A-477D-B429-DBC0CFD3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AE7D-10F5-4460-9D53-268744B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3496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3F7F-C102-4A66-A65E-4C717F7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82296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2E39-A8F7-443F-A0B8-B9AA621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1920" y="6548400"/>
            <a:ext cx="2514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USC, February 8</a:t>
            </a:r>
            <a:r>
              <a:rPr b="1" lang="it-IT" sz="1400" spc="-1" strike="noStrike" baseline="30000">
                <a:solidFill>
                  <a:srgbClr val="333333"/>
                </a:solidFill>
                <a:latin typeface="Arial"/>
              </a:rPr>
              <a:t>th</a:t>
            </a: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962520" y="6576840"/>
            <a:ext cx="76176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2D1-9321-4320-8D28-8AAC33C29E00}" type="slidenum">
              <a:rPr b="1" lang="it-IT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6227640" y="6564240"/>
            <a:ext cx="2941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Michele Zorzi, zorzi@dei.unipd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4594320" y="6469200"/>
            <a:ext cx="73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a0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6" name="Picture 15" descr="DEI_completo"/>
          <p:cNvPicPr/>
          <p:nvPr/>
        </p:nvPicPr>
        <p:blipFill>
          <a:blip r:embed="rId2"/>
          <a:srcRect l="0" t="0" r="77432" b="0"/>
          <a:stretch/>
        </p:blipFill>
        <p:spPr>
          <a:xfrm>
            <a:off x="0" y="0"/>
            <a:ext cx="206388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DEI_completo"/>
          <p:cNvPicPr/>
          <p:nvPr/>
        </p:nvPicPr>
        <p:blipFill>
          <a:blip r:embed="rId3"/>
          <a:srcRect l="38889" t="0" r="0" b="0"/>
          <a:stretch/>
        </p:blipFill>
        <p:spPr>
          <a:xfrm>
            <a:off x="3556080" y="0"/>
            <a:ext cx="5587920" cy="7650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0" y="549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68360" y="1341360"/>
            <a:ext cx="82170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90f4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4594320" y="6469200"/>
            <a:ext cx="73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48" name="Picture 10" descr="unipd"/>
          <p:cNvPicPr/>
          <p:nvPr/>
        </p:nvPicPr>
        <p:blipFill>
          <a:blip r:embed="rId2"/>
          <a:stretch/>
        </p:blipFill>
        <p:spPr>
          <a:xfrm>
            <a:off x="108000" y="287280"/>
            <a:ext cx="83664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Line 12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38160">
            <a:solidFill>
              <a:srgbClr val="ca0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8360" y="1484280"/>
            <a:ext cx="82170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90f4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4929120"/>
            <a:ext cx="851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SIGNET Group,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Department of Information Engineering – University of Padova – Ital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chiarot@dei.unipd.it</a:t>
            </a:r>
            <a:endParaRPr b="1" i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95280" y="1916280"/>
            <a:ext cx="8353440" cy="1739880"/>
          </a:xfrm>
          <a:prstGeom prst="rect">
            <a:avLst/>
          </a:prstGeom>
          <a:noFill/>
          <a:ln w="69840">
            <a:solidFill>
              <a:srgbClr val="ca02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a0236"/>
                </a:solidFill>
                <a:latin typeface="Tahoma"/>
              </a:rPr>
              <a:t>Robustness Against Channel Estimation Inaccuracies in MIMO Ad Hoc Networks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4005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Davide Chiarott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data 3"/>
          <p:cNvSpPr/>
          <p:nvPr/>
        </p:nvSpPr>
        <p:spPr>
          <a:xfrm>
            <a:off x="152280" y="6548400"/>
            <a:ext cx="2514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Brixen, July 1</a:t>
            </a:r>
            <a:r>
              <a:rPr b="1" lang="it-IT" sz="14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Segnaposto numero diapositiva 4"/>
          <p:cNvSpPr/>
          <p:nvPr/>
        </p:nvSpPr>
        <p:spPr>
          <a:xfrm>
            <a:off x="3962520" y="6576840"/>
            <a:ext cx="7617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118-CB1E-41D9-9C18-4C446527881D}" type="slidenum">
              <a:rPr b="1" lang="it-IT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Segnaposto piè di pagina 5"/>
          <p:cNvSpPr/>
          <p:nvPr/>
        </p:nvSpPr>
        <p:spPr>
          <a:xfrm>
            <a:off x="5572080" y="6564240"/>
            <a:ext cx="3597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Davide Chiarotto, SIGNET Group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i="1" lang="it-IT" sz="2600" spc="-1" strike="noStrike">
                <a:solidFill>
                  <a:srgbClr val="333333"/>
                </a:solidFill>
                <a:latin typeface="Tahoma"/>
              </a:rPr>
              <a:t>Introduction</a:t>
            </a:r>
            <a:endParaRPr b="1" i="1" lang="en-US" sz="2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920" y="1599840"/>
            <a:ext cx="8858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Previous work: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IMO ad hoc network based on Spatial Multiplexing (SM), in which the receivers implement the Bell labs layered space time (BLAST) technique to cancel interference and improve detection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Hp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: Perfect CSI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im of study: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evaluating robustness of ad hoc networking protocols against estimation inaccura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cies, where terminals use a low-complexity estimation technique based on training sequence correlation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2989440" y="5715000"/>
                <a:ext cx="3165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J</m:t>
                    </m:r>
                    <m:r>
                      <m:t xml:space="preserve">+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33"/>
                </a:solidFill>
                <a:latin typeface="Tahoma"/>
              </a:rPr>
              <a:t>System Description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4200" y="1599840"/>
            <a:ext cx="8715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b050"/>
                </a:solidFill>
                <a:latin typeface="Tahoma"/>
              </a:rPr>
              <a:t>Policy: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exploits the potential of SM while keeping interference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under contro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b050"/>
                </a:solidFill>
                <a:latin typeface="Tahoma"/>
              </a:rPr>
              <a:t>Handshake procedure - Backoff strategy – Training sequenc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Segnaposto data 3"/>
          <p:cNvSpPr/>
          <p:nvPr/>
        </p:nvSpPr>
        <p:spPr>
          <a:xfrm>
            <a:off x="152280" y="6548400"/>
            <a:ext cx="2514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Brixen, July 1</a:t>
            </a:r>
            <a:r>
              <a:rPr b="1" lang="it-IT" sz="14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Segnaposto numero diapositiva 4"/>
          <p:cNvSpPr/>
          <p:nvPr/>
        </p:nvSpPr>
        <p:spPr>
          <a:xfrm>
            <a:off x="3962520" y="6576840"/>
            <a:ext cx="7617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B888-5BAD-4E04-9068-2CE9CFB5EE89}" type="slidenum">
              <a:rPr b="1" lang="it-IT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Segnaposto piè di pagina 5"/>
          <p:cNvSpPr/>
          <p:nvPr/>
        </p:nvSpPr>
        <p:spPr>
          <a:xfrm>
            <a:off x="5500800" y="6564240"/>
            <a:ext cx="3668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Davide Chiarotto, SIGNET Group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0" name="Gruppo 35"/>
          <p:cNvGrpSpPr/>
          <p:nvPr/>
        </p:nvGrpSpPr>
        <p:grpSpPr>
          <a:xfrm>
            <a:off x="928800" y="3643200"/>
            <a:ext cx="7243560" cy="1398240"/>
            <a:chOff x="928800" y="3643200"/>
            <a:chExt cx="7243560" cy="1398240"/>
          </a:xfrm>
        </p:grpSpPr>
        <p:sp>
          <p:nvSpPr>
            <p:cNvPr id="111" name="Rettangolo 10"/>
            <p:cNvSpPr/>
            <p:nvPr/>
          </p:nvSpPr>
          <p:spPr>
            <a:xfrm>
              <a:off x="972000" y="3643200"/>
              <a:ext cx="1317600" cy="85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2" name="Rettangolo 14"/>
            <p:cNvSpPr/>
            <p:nvPr/>
          </p:nvSpPr>
          <p:spPr>
            <a:xfrm>
              <a:off x="2279160" y="3643200"/>
              <a:ext cx="1317600" cy="85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3" name="Rettangolo 15"/>
            <p:cNvSpPr/>
            <p:nvPr/>
          </p:nvSpPr>
          <p:spPr>
            <a:xfrm>
              <a:off x="3586680" y="3643200"/>
              <a:ext cx="3294000" cy="85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4" name="Rettangolo 16"/>
            <p:cNvSpPr/>
            <p:nvPr/>
          </p:nvSpPr>
          <p:spPr>
            <a:xfrm>
              <a:off x="6854760" y="3643200"/>
              <a:ext cx="1317600" cy="85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5" name="Rettangolo 18"/>
            <p:cNvSpPr/>
            <p:nvPr/>
          </p:nvSpPr>
          <p:spPr>
            <a:xfrm>
              <a:off x="1288440" y="38242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Tahoma"/>
                </a:rPr>
                <a:t>RTS</a:t>
              </a: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6" name="Rettangolo 19"/>
            <p:cNvSpPr/>
            <p:nvPr/>
          </p:nvSpPr>
          <p:spPr>
            <a:xfrm>
              <a:off x="2575440" y="382428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Tahoma"/>
                </a:rPr>
                <a:t>CTS</a:t>
              </a: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7" name="Rettangolo 20"/>
            <p:cNvSpPr/>
            <p:nvPr/>
          </p:nvSpPr>
          <p:spPr>
            <a:xfrm>
              <a:off x="7202160" y="382428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sp>
          <p:nvSpPr>
            <p:cNvPr id="118" name="Rettangolo 21"/>
            <p:cNvSpPr/>
            <p:nvPr/>
          </p:nvSpPr>
          <p:spPr>
            <a:xfrm>
              <a:off x="4827600" y="38242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Tahoma"/>
                </a:rPr>
                <a:t>DATA</a:t>
              </a:r>
              <a:endParaRPr b="0" lang="en-US" sz="24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cxnSp>
          <p:nvCxnSpPr>
            <p:cNvPr id="119" name="Connettore 2 23"/>
            <p:cNvCxnSpPr/>
            <p:nvPr/>
          </p:nvCxnSpPr>
          <p:spPr>
            <a:xfrm>
              <a:off x="1000080" y="4572000"/>
              <a:ext cx="1286640" cy="216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20" name="Rettangolo 24"/>
            <p:cNvSpPr/>
            <p:nvPr/>
          </p:nvSpPr>
          <p:spPr>
            <a:xfrm>
              <a:off x="928800" y="4600800"/>
              <a:ext cx="13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b050"/>
                  </a:solidFill>
                  <a:latin typeface="Tahoma"/>
                </a:rPr>
                <a:t>200 + N</a:t>
              </a:r>
              <a:r>
                <a:rPr b="0" lang="it-IT" sz="2000" spc="-1" strike="noStrike" baseline="-25000">
                  <a:solidFill>
                    <a:srgbClr val="00b050"/>
                  </a:solidFill>
                  <a:latin typeface="Tahoma"/>
                </a:rPr>
                <a:t>sig</a:t>
              </a:r>
              <a:endParaRPr b="0" lang="en-US" sz="20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cxnSp>
          <p:nvCxnSpPr>
            <p:cNvPr id="121" name="Connettore 2 25"/>
            <p:cNvCxnSpPr/>
            <p:nvPr/>
          </p:nvCxnSpPr>
          <p:spPr>
            <a:xfrm>
              <a:off x="2286000" y="4572000"/>
              <a:ext cx="1286640" cy="216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22" name="Rettangolo 26"/>
            <p:cNvSpPr/>
            <p:nvPr/>
          </p:nvSpPr>
          <p:spPr>
            <a:xfrm>
              <a:off x="2214720" y="4600800"/>
              <a:ext cx="13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b050"/>
                  </a:solidFill>
                  <a:latin typeface="Tahoma"/>
                </a:rPr>
                <a:t>200 + N</a:t>
              </a:r>
              <a:r>
                <a:rPr b="0" lang="it-IT" sz="2000" spc="-1" strike="noStrike" baseline="-25000">
                  <a:solidFill>
                    <a:srgbClr val="00b050"/>
                  </a:solidFill>
                  <a:latin typeface="Tahoma"/>
                </a:rPr>
                <a:t>sig</a:t>
              </a:r>
              <a:endParaRPr b="0" lang="en-US" sz="20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cxnSp>
          <p:nvCxnSpPr>
            <p:cNvPr id="123" name="Connettore 2 27"/>
            <p:cNvCxnSpPr/>
            <p:nvPr/>
          </p:nvCxnSpPr>
          <p:spPr>
            <a:xfrm>
              <a:off x="6858360" y="4572000"/>
              <a:ext cx="1286640" cy="216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24" name="Rettangolo 28"/>
            <p:cNvSpPr/>
            <p:nvPr/>
          </p:nvSpPr>
          <p:spPr>
            <a:xfrm>
              <a:off x="6787080" y="46008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b05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99"/>
                </a:solidFill>
                <a:latin typeface="Tahoma"/>
              </a:endParaRPr>
            </a:p>
          </p:txBody>
        </p:sp>
        <p:cxnSp>
          <p:nvCxnSpPr>
            <p:cNvPr id="125" name="Connettore 2 29"/>
            <p:cNvCxnSpPr/>
            <p:nvPr/>
          </p:nvCxnSpPr>
          <p:spPr>
            <a:xfrm>
              <a:off x="3571920" y="4571640"/>
              <a:ext cx="328680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26" name="Rettangolo 30"/>
            <p:cNvSpPr/>
            <p:nvPr/>
          </p:nvSpPr>
          <p:spPr>
            <a:xfrm>
              <a:off x="3643560" y="4600800"/>
              <a:ext cx="3000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b050"/>
                  </a:solidFill>
                  <a:latin typeface="Tahoma"/>
                </a:rPr>
                <a:t>1000+ N</a:t>
              </a:r>
              <a:r>
                <a:rPr b="0" lang="it-IT" sz="2000" spc="-1" strike="noStrike" baseline="-25000">
                  <a:solidFill>
                    <a:srgbClr val="00b05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99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33"/>
                </a:solidFill>
                <a:latin typeface="Tahoma"/>
              </a:rPr>
              <a:t>Results (1/2)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8" name="Segnaposto data 3"/>
          <p:cNvSpPr/>
          <p:nvPr/>
        </p:nvSpPr>
        <p:spPr>
          <a:xfrm>
            <a:off x="152280" y="6548400"/>
            <a:ext cx="2514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Brixen, July 1</a:t>
            </a:r>
            <a:r>
              <a:rPr b="1" lang="it-IT" sz="14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Segnaposto numero diapositiva 4"/>
          <p:cNvSpPr/>
          <p:nvPr/>
        </p:nvSpPr>
        <p:spPr>
          <a:xfrm>
            <a:off x="3962520" y="6576840"/>
            <a:ext cx="7617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746A-1D48-4F4A-9700-58FAEE3B3D96}" type="slidenum">
              <a:rPr b="1" lang="it-IT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Segnaposto piè di pagina 5"/>
          <p:cNvSpPr/>
          <p:nvPr/>
        </p:nvSpPr>
        <p:spPr>
          <a:xfrm>
            <a:off x="5214960" y="6564240"/>
            <a:ext cx="395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Davide Chiarotto, SIGNET Group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1" name="Immagine 7" descr="Fig_Th_Eff_NDiff_16W_600Lambda.bmp"/>
          <p:cNvPicPr/>
          <p:nvPr/>
        </p:nvPicPr>
        <p:blipFill>
          <a:blip r:embed="rId1"/>
          <a:stretch/>
        </p:blipFill>
        <p:spPr>
          <a:xfrm>
            <a:off x="0" y="1343160"/>
            <a:ext cx="9144000" cy="47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0" y="5857920"/>
                <a:ext cx="9144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ream_suc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ream_se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AT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S_sen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S_sen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K_sent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g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914400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3333"/>
                </a:solidFill>
                <a:latin typeface="Tahoma"/>
              </a:rPr>
              <a:t>Results and Conclusions</a:t>
            </a:r>
            <a:endParaRPr b="1" i="1" lang="en-US" sz="3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Segnaposto data 3"/>
          <p:cNvSpPr/>
          <p:nvPr/>
        </p:nvSpPr>
        <p:spPr>
          <a:xfrm>
            <a:off x="152280" y="6548400"/>
            <a:ext cx="2514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Brixen, July 1</a:t>
            </a:r>
            <a:r>
              <a:rPr b="1" lang="it-IT" sz="14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Segnaposto numero diapositiva 4"/>
          <p:cNvSpPr/>
          <p:nvPr/>
        </p:nvSpPr>
        <p:spPr>
          <a:xfrm>
            <a:off x="3962520" y="6576840"/>
            <a:ext cx="7617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83FF-59D3-41D1-B8B8-8F238DE340C9}" type="slidenum">
              <a:rPr b="1" lang="it-IT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Segnaposto piè di pagina 5"/>
          <p:cNvSpPr/>
          <p:nvPr/>
        </p:nvSpPr>
        <p:spPr>
          <a:xfrm>
            <a:off x="5429160" y="6564240"/>
            <a:ext cx="3740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33"/>
                </a:solidFill>
                <a:latin typeface="Arial"/>
              </a:rPr>
              <a:t>Davide Chiarotto, SIGNET Group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CasellaDiTesto 8"/>
          <p:cNvSpPr/>
          <p:nvPr/>
        </p:nvSpPr>
        <p:spPr>
          <a:xfrm>
            <a:off x="0" y="507204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BLAST receiver can separate only a few number of incoming stream </a:t>
            </a:r>
            <a:r>
              <a:rPr b="0" lang="it-IT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→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contain the traffic of data stream </a:t>
            </a:r>
            <a:r>
              <a:rPr b="0" lang="it-IT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→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set the network traffic with N</a:t>
            </a:r>
            <a:r>
              <a:rPr b="0" lang="it-IT" sz="2400" spc="-1" strike="noStrike" baseline="-25000">
                <a:solidFill>
                  <a:srgbClr val="000099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8" name="Immagine 7" descr="Fig_AvCorrectTx_AvStreamSucc_NDiff_16W_600Lambda.bmp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7:55:30Z</dcterms:created>
  <dc:creator>Teo</dc:creator>
  <dc:description/>
  <dc:language>en-US</dc:language>
  <cp:lastModifiedBy>pupolin</cp:lastModifiedBy>
  <dcterms:modified xsi:type="dcterms:W3CDTF">2008-07-18T11:03:28Z</dcterms:modified>
  <cp:revision>263</cp:revision>
  <dc:subject/>
  <dc:title>Diapositiva 1</dc:title>
</cp:coreProperties>
</file>