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3B10-CCDB-4419-9D64-6AB10B84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B079-297E-444D-BC1F-0011C147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BE50-199E-45E4-8B9D-F3C59D97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A17-2F9C-4B73-8BCA-17F3BE62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000D-E8B7-4B2F-9A62-49403452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9980-9BFE-4525-BF16-0CDD8E82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FF38-81DB-4D68-8C5D-0AF14552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80D4-2C5D-43B7-BF51-5C731FD9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EA10-4C17-4EB7-AD29-6A5C6140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4DC9-1D12-4844-BD10-1607A16A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FB54-35EA-4616-BC0D-4C6AE87F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2C0A-9C29-4B26-BAF4-CBE937AB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098D-30E5-45FC-8DF0-AC71B25D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2B15-F2DF-4F20-A64F-AE491E47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1F30-8FE7-4562-956B-EF1E248C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33D8-39BF-449D-B8C7-B29145EB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5080-75EC-47DA-93F8-3120CC30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F5A-AA96-437E-BB34-771EE2B1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B3A7-DDDC-4F49-A9CF-41CF0604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1FBC-F3CA-445E-90E7-65660D4F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2D96-9970-46AC-9FDA-C33BDB30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1D9A-14D5-4E79-ADB5-24CD554C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26F-1E2C-41B8-9074-C1B7CE95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72C8-56D6-4A25-9D44-CC8EB2A3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19BC-7D73-4627-B287-64E3486595FF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mmer School in Wireless Sensor Networks, Bressanone, July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6CD0-AEA4-4E77-89FE-168EAEC718E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3" descr="Logo Roma3"/>
          <p:cNvPicPr/>
          <p:nvPr/>
        </p:nvPicPr>
        <p:blipFill>
          <a:blip r:embed="rId2"/>
          <a:stretch/>
        </p:blipFill>
        <p:spPr>
          <a:xfrm>
            <a:off x="285840" y="285840"/>
            <a:ext cx="8429400" cy="1071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C6C3-EB09-44DE-BBDD-637BE2F332E8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mmer School in Wireless Sensor Networks, Bressanone, July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5C46-3206-4D23-9EB3-3C714E22523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palma1@uniroma3.it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Biometric security systems </a:t>
            </a: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 in wireless network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libri"/>
              </a:rPr>
              <a:t>Veronica Pal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898989"/>
                </a:solidFill>
                <a:latin typeface="Calibri"/>
              </a:rPr>
              <a:t>Department of Applied Electronics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898989"/>
                </a:solidFill>
                <a:latin typeface="Calibri"/>
              </a:rPr>
              <a:t>University of Roma T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898989"/>
                </a:solidFill>
                <a:latin typeface="Calibri"/>
              </a:rPr>
              <a:t>via della Vasca Navale, 84, 00146 Roma, Ita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e-mail: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palma1@uniroma3.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357120" y="6000840"/>
            <a:ext cx="1666800" cy="847800"/>
          </a:xfrm>
          <a:prstGeom prst="rect">
            <a:avLst/>
          </a:prstGeom>
          <a:ln w="0">
            <a:noFill/>
          </a:ln>
        </p:spPr>
      </p:pic>
      <p:sp>
        <p:nvSpPr>
          <p:cNvPr id="86" name="Segnaposto piè di pagina 4"/>
          <p:cNvSpPr/>
          <p:nvPr/>
        </p:nvSpPr>
        <p:spPr>
          <a:xfrm>
            <a:off x="4214880" y="628668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mmer School in Wireless Sensor Networks, Bressanone, July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cur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important issue for network access contro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posed solu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Laguerre-Gauss technique is a new deal for biometric security system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uture wor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roduction of Security in Wireless Sensor Network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Immagine 13" descr="Logo Roma3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1071720"/>
          </a:xfrm>
          <a:prstGeom prst="rect">
            <a:avLst/>
          </a:prstGeom>
          <a:ln w="0">
            <a:noFill/>
          </a:ln>
        </p:spPr>
      </p:pic>
      <p:sp>
        <p:nvSpPr>
          <p:cNvPr id="136" name="Segnaposto piè di pagina 4"/>
          <p:cNvSpPr/>
          <p:nvPr/>
        </p:nvSpPr>
        <p:spPr>
          <a:xfrm>
            <a:off x="4214880" y="628668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mmer School in Wireless Sensor Networks, Bressanone, July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859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Immagine 13" descr="Logo Roma3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1071720"/>
          </a:xfrm>
          <a:prstGeom prst="rect">
            <a:avLst/>
          </a:prstGeom>
          <a:ln w="0">
            <a:noFill/>
          </a:ln>
        </p:spPr>
      </p:pic>
      <p:sp>
        <p:nvSpPr>
          <p:cNvPr id="141" name="Segnaposto piè di pagina 5"/>
          <p:cNvSpPr/>
          <p:nvPr/>
        </p:nvSpPr>
        <p:spPr>
          <a:xfrm>
            <a:off x="4071960" y="649296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mmer School in Wireless Sensor Networks, Bressanone, July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What is Biometri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ecurity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iometric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ris recognition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guerre-Gauss tech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uture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how do you consider security in WS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magine 13" descr="Logo Roma3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1071720"/>
          </a:xfrm>
          <a:prstGeom prst="rect">
            <a:avLst/>
          </a:prstGeom>
          <a:ln w="0">
            <a:noFill/>
          </a:ln>
        </p:spPr>
      </p:pic>
      <p:sp>
        <p:nvSpPr>
          <p:cNvPr id="89" name="Segnaposto piè di pagina 4"/>
          <p:cNvSpPr/>
          <p:nvPr/>
        </p:nvSpPr>
        <p:spPr>
          <a:xfrm>
            <a:off x="4214880" y="628668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mmer School in Wireless Sensor Networks, Bressanone, July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security is the most fundamental step for ensuring that only authorized users have access to wireless computer equi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security combines such measures as access controls, personnel identification, and external boundary prot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magine 13" descr="Logo Roma3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1071720"/>
          </a:xfrm>
          <a:prstGeom prst="rect">
            <a:avLst/>
          </a:prstGeom>
          <a:ln w="0">
            <a:noFill/>
          </a:ln>
        </p:spPr>
      </p:pic>
      <p:sp>
        <p:nvSpPr>
          <p:cNvPr id="93" name="Segnaposto piè di pagina 4"/>
          <p:cNvSpPr/>
          <p:nvPr/>
        </p:nvSpPr>
        <p:spPr>
          <a:xfrm>
            <a:off x="4214880" y="628668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mmer School in Wireless Sensor Networks, Bressanone, July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Wireless networks need physic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contro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minimize the risk of improper penetration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l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hoto identification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ard badge reader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iometrics dev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magine 13" descr="Logo Roma3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1071720"/>
          </a:xfrm>
          <a:prstGeom prst="rect">
            <a:avLst/>
          </a:prstGeom>
          <a:ln w="0">
            <a:noFill/>
          </a:ln>
        </p:spPr>
      </p:pic>
      <p:sp>
        <p:nvSpPr>
          <p:cNvPr id="97" name="Segnaposto piè di pagina 4"/>
          <p:cNvSpPr/>
          <p:nvPr/>
        </p:nvSpPr>
        <p:spPr>
          <a:xfrm>
            <a:off x="4214880" y="628668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mmer School in Wireless Sensor Networks, Bressanone, July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iometric systems for physical access control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alm s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Hand geo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ris s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etina s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Voice pat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magine 13" descr="Logo Roma3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1071720"/>
          </a:xfrm>
          <a:prstGeom prst="rect">
            <a:avLst/>
          </a:prstGeom>
          <a:ln w="0">
            <a:noFill/>
          </a:ln>
        </p:spPr>
      </p:pic>
      <p:sp>
        <p:nvSpPr>
          <p:cNvPr id="101" name="Segnaposto piè di pagina 4"/>
          <p:cNvSpPr/>
          <p:nvPr/>
        </p:nvSpPr>
        <p:spPr>
          <a:xfrm>
            <a:off x="4214880" y="628668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mmer School in Wireless Sensor Networks, Bressanone, July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Biometric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Why the human iris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Immagine 13" descr="Logo Roma3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1071720"/>
          </a:xfrm>
          <a:prstGeom prst="rect">
            <a:avLst/>
          </a:prstGeom>
          <a:ln w="0">
            <a:noFill/>
          </a:ln>
        </p:spPr>
      </p:pic>
      <p:pic>
        <p:nvPicPr>
          <p:cNvPr id="105" name="Immagine 5" descr="dn_0303.gif"/>
          <p:cNvPicPr/>
          <p:nvPr/>
        </p:nvPicPr>
        <p:blipFill>
          <a:blip r:embed="rId2"/>
          <a:stretch/>
        </p:blipFill>
        <p:spPr>
          <a:xfrm>
            <a:off x="500040" y="2714760"/>
            <a:ext cx="4857840" cy="2928960"/>
          </a:xfrm>
          <a:prstGeom prst="rect">
            <a:avLst/>
          </a:prstGeom>
          <a:ln w="0">
            <a:noFill/>
          </a:ln>
        </p:spPr>
      </p:pic>
      <p:sp>
        <p:nvSpPr>
          <p:cNvPr id="106" name="CasellaDiTesto 6"/>
          <p:cNvSpPr/>
          <p:nvPr/>
        </p:nvSpPr>
        <p:spPr>
          <a:xfrm>
            <a:off x="5572080" y="2428920"/>
            <a:ext cx="32860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t has a unique pattern for each individual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t has a time-permanent pattern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t is extremely difficult to surgically tamper the texture of the ir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he image can be taken even without the will of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egnaposto piè di pagina 4"/>
          <p:cNvSpPr/>
          <p:nvPr/>
        </p:nvSpPr>
        <p:spPr>
          <a:xfrm>
            <a:off x="4214880" y="628668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mmer School in Wireless Sensor Networks, Bressanone, July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Iris recognition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ris recognition system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Immagine 13" descr="Logo Roma3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1071720"/>
          </a:xfrm>
          <a:prstGeom prst="rect">
            <a:avLst/>
          </a:prstGeom>
          <a:ln w="0">
            <a:noFill/>
          </a:ln>
        </p:spPr>
      </p:pic>
      <p:sp>
        <p:nvSpPr>
          <p:cNvPr id="112" name="Rettangolo 10"/>
          <p:cNvSpPr/>
          <p:nvPr/>
        </p:nvSpPr>
        <p:spPr>
          <a:xfrm>
            <a:off x="1857240" y="2357280"/>
            <a:ext cx="5572440" cy="3857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asellaDiTesto 11"/>
          <p:cNvSpPr/>
          <p:nvPr/>
        </p:nvSpPr>
        <p:spPr>
          <a:xfrm>
            <a:off x="1857240" y="2515320"/>
            <a:ext cx="53578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ris image acquis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ture extr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Connettore 4 13"/>
          <p:cNvCxnSpPr/>
          <p:nvPr/>
        </p:nvCxnSpPr>
        <p:spPr>
          <a:xfrm rot="5400000">
            <a:off x="4429080" y="3142080"/>
            <a:ext cx="42948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Connettore 4 15"/>
          <p:cNvCxnSpPr/>
          <p:nvPr/>
        </p:nvCxnSpPr>
        <p:spPr>
          <a:xfrm rot="5400000">
            <a:off x="4429080" y="3858120"/>
            <a:ext cx="429120" cy="2520"/>
          </a:xfrm>
          <a:prstGeom prst="bentConnector3">
            <a:avLst>
              <a:gd name="adj1" fmla="val 49958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Connettore 4 19"/>
          <p:cNvCxnSpPr/>
          <p:nvPr/>
        </p:nvCxnSpPr>
        <p:spPr>
          <a:xfrm rot="5400000">
            <a:off x="4464720" y="5321160"/>
            <a:ext cx="357840" cy="2520"/>
          </a:xfrm>
          <a:prstGeom prst="bentConnector3">
            <a:avLst>
              <a:gd name="adj1" fmla="val 49949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Connettore 4 22"/>
          <p:cNvCxnSpPr/>
          <p:nvPr/>
        </p:nvCxnSpPr>
        <p:spPr>
          <a:xfrm rot="5400000">
            <a:off x="4429080" y="4572360"/>
            <a:ext cx="42948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8" name="Segnaposto piè di pagina 4"/>
          <p:cNvSpPr/>
          <p:nvPr/>
        </p:nvSpPr>
        <p:spPr>
          <a:xfrm>
            <a:off x="4214880" y="628668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ummer School in Wireless Sensor Networks, Bressanone, July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59984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 novel feature extractor technique based on Laguerre-Gauss function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Immagine 13" descr="Logo Roma3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1071720"/>
          </a:xfrm>
          <a:prstGeom prst="rect">
            <a:avLst/>
          </a:prstGeom>
          <a:ln w="0">
            <a:noFill/>
          </a:ln>
        </p:spPr>
      </p:pic>
      <p:sp>
        <p:nvSpPr>
          <p:cNvPr id="121" name="CasellaDiTesto 5"/>
          <p:cNvSpPr/>
          <p:nvPr/>
        </p:nvSpPr>
        <p:spPr>
          <a:xfrm>
            <a:off x="642960" y="2786040"/>
            <a:ext cx="785808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The Laguerre-Gauss functions belong to the Circular Harmonic Functions . They are complex, polar separable filters characterised by harmonic angular shape, a useful property to build rotationally invariant descrip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CHF with different order are natural detector for different classes of fea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4" descr=""/>
          <p:cNvPicPr/>
          <p:nvPr/>
        </p:nvPicPr>
        <p:blipFill>
          <a:blip r:embed="rId2"/>
          <a:stretch/>
        </p:blipFill>
        <p:spPr>
          <a:xfrm>
            <a:off x="3643200" y="4572000"/>
            <a:ext cx="2149560" cy="2038320"/>
          </a:xfrm>
          <a:prstGeom prst="rect">
            <a:avLst/>
          </a:prstGeom>
          <a:ln w="0">
            <a:noFill/>
          </a:ln>
        </p:spPr>
      </p:pic>
      <p:cxnSp>
        <p:nvCxnSpPr>
          <p:cNvPr id="123" name="Connettore 4 8"/>
          <p:cNvCxnSpPr/>
          <p:nvPr/>
        </p:nvCxnSpPr>
        <p:spPr>
          <a:xfrm>
            <a:off x="3499920" y="4500720"/>
            <a:ext cx="264420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4" name="Connettore 4 10"/>
          <p:cNvCxnSpPr/>
          <p:nvPr/>
        </p:nvCxnSpPr>
        <p:spPr>
          <a:xfrm rot="5400000">
            <a:off x="2427480" y="5572800"/>
            <a:ext cx="214380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5" name="CasellaDiTesto 11"/>
          <p:cNvSpPr/>
          <p:nvPr/>
        </p:nvSpPr>
        <p:spPr>
          <a:xfrm>
            <a:off x="6215040" y="43578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sellaDiTesto 12"/>
          <p:cNvSpPr/>
          <p:nvPr/>
        </p:nvSpPr>
        <p:spPr>
          <a:xfrm>
            <a:off x="3000240" y="63579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Laguerre-Gauss techn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a-class Match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Immagine 13" descr="Logo Roma3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1071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285840" y="1857240"/>
            <a:ext cx="2593800" cy="5185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3"/>
          <a:stretch/>
        </p:blipFill>
        <p:spPr>
          <a:xfrm>
            <a:off x="3214800" y="2357280"/>
            <a:ext cx="2008080" cy="4248360"/>
          </a:xfrm>
          <a:prstGeom prst="rect">
            <a:avLst/>
          </a:prstGeom>
          <a:ln w="0">
            <a:noFill/>
          </a:ln>
        </p:spPr>
      </p:pic>
      <p:sp>
        <p:nvSpPr>
          <p:cNvPr id="133" name="CasellaDiTesto 7"/>
          <p:cNvSpPr/>
          <p:nvPr/>
        </p:nvSpPr>
        <p:spPr>
          <a:xfrm>
            <a:off x="5643720" y="2643120"/>
            <a:ext cx="3000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he algorithm decides for exact correspondence between two images when keypoint set i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t fails to identify the correspondence if the keypoint sets are different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11:11:01Z</dcterms:created>
  <dc:creator>Veronica</dc:creator>
  <dc:description/>
  <dc:language>en-US</dc:language>
  <cp:lastModifiedBy>Anna Maria Vegni</cp:lastModifiedBy>
  <dcterms:modified xsi:type="dcterms:W3CDTF">2008-07-02T08:31:01Z</dcterms:modified>
  <cp:revision>31</cp:revision>
  <dc:subject/>
  <dc:title>Diapositiva 1</dc:title>
</cp:coreProperties>
</file>