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8E4-955A-4CD5-87B5-E41918D6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388-B17A-44E0-8A8E-D5E4F0C8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498-7AF8-4A47-8ABA-414F2EDF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945-2D11-4D92-932D-B4D7664B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986-C36C-44EB-BD4C-6FD89353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3CD-3B5C-4D72-9825-4F3878F4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A2D5-BCF2-4D16-B063-BE0FAC23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160E-FF3C-475C-9A05-5A141906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7869-6FAB-429A-A9B7-057B167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560" y="277920"/>
            <a:ext cx="7859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F78B-E295-465B-A92F-B64E6570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734-248F-417B-97E1-7471964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F24-5CBF-4D19-8B2C-F0A3313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46E3-A8B9-4A70-A5AB-5B10FA6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8D51-FF4C-42C9-AC29-8C1774E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4F1-040B-404B-983A-C87BF004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7975-7457-467D-9D7B-624C93B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28A4-3873-46E2-AA8F-2C0F7D5D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48A-A8EE-4251-A580-20366CAA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5EB-B357-45CE-8DAD-1D0A8588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E18-3B11-4D49-B53B-0F055468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77920"/>
            <a:ext cx="78598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767-2B55-4C1C-A9C4-5F1E22A9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EB-4A50-4BA9-9E22-8AA9309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566-9A08-43D9-A95E-449C0E4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CBD-27B6-47A3-BB35-77A89FB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863640" cy="84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036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88E-BEE2-4A20-82DF-750F6B674D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6920" y="228600"/>
            <a:ext cx="7783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596360" y="333360"/>
            <a:ext cx="136836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0C62-056A-4937-B95D-8756D0CFF2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219320"/>
            <a:ext cx="763452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68360" cy="73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900360" cy="878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Garamond"/>
              </a:rPr>
              <a:t>A layered architecture for multicellular multi-carrier systems</a:t>
            </a:r>
            <a:endParaRPr b="0" lang="en-US" sz="44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iulio Dain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Pisa, Italy –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partimento Ingegneria dell’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iulio.dainelli@iet.unipi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Outline  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lti-cell OFDMA syste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requency reuse equal to 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Distribute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iterative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ynamic resource allocation (DRA) algorithm based on a linear programming (LP) approa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Layered DRA architecture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nflicting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ing frequency and multi-user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ed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ce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re are two separate mod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packet scheduler (PS) and resource allocator (RA), expressly designed to interact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213000"/>
            <a:ext cx="505080" cy="863640"/>
          </a:xfrm>
          <a:prstGeom prst="downArrow">
            <a:avLst>
              <a:gd name="adj1" fmla="val 50000"/>
              <a:gd name="adj2" fmla="val 4274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Layered DRA architecture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219640" y="2781360"/>
          <a:ext cx="1008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81360"/>
                    <a:ext cx="1008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700360" y="1341360"/>
            <a:ext cx="32400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365720"/>
            <a:ext cx="324000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93236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88000" y="3141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19640" y="314172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78136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 requirements per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557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458136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llo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34290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of the assign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11280" y="3500280"/>
          <a:ext cx="100836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500280"/>
                    <a:ext cx="1008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Layered DRA architecture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8595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 allocation problem: LP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63640" y="2133720"/>
          <a:ext cx="51753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1753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03240" y="3645000"/>
          <a:ext cx="13608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3240" y="3645000"/>
                    <a:ext cx="13608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148360" y="3789360"/>
                <a:ext cx="1081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63640" y="4508640"/>
          <a:ext cx="1916280" cy="72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508640"/>
                    <a:ext cx="1916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48360" y="4581360"/>
                <a:ext cx="9363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41320" y="5373720"/>
          <a:ext cx="198936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1320" y="5373720"/>
                    <a:ext cx="1989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97320" y="5580000"/>
          <a:ext cx="134136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7320" y="5580000"/>
                    <a:ext cx="13413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7280" y="5589720"/>
                <a:ext cx="115272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380360" y="5589720"/>
                <a:ext cx="969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781440" y="3141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300640"/>
            <a:ext cx="50472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5229360"/>
            <a:ext cx="180036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5013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ell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Garamond"/>
              </a:rPr>
              <a:t>Layered DRA architec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tral efficiency and SINR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d spectral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492280"/>
          <a:ext cx="273528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27352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35640" y="2133720"/>
          <a:ext cx="3095640" cy="11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133720"/>
                    <a:ext cx="30956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771640" y="4149720"/>
          <a:ext cx="30672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149720"/>
                    <a:ext cx="30672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5640" y="2565360"/>
            <a:ext cx="1081080" cy="358920"/>
          </a:xfrm>
          <a:prstGeom prst="leftRightArrow">
            <a:avLst>
              <a:gd name="adj1" fmla="val 50000"/>
              <a:gd name="adj2" fmla="val 5996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Result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553080" cy="573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Result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90680" y="574560"/>
            <a:ext cx="636264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allocation and power adaptation in the downlink of a multi-cell multi-carrier system distance equal to o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ered architecture that integrates a packet scheduler with an adaptive resource alloc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allocation and packet scheduling are performed by independent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show that high spectral efficiency is guaranteed both with cooperative and distributed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COM++ Emerging Topic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rixen - July 1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6:54:02Z</dcterms:created>
  <dc:creator> </dc:creator>
  <dc:description/>
  <dc:language>en-US</dc:language>
  <cp:lastModifiedBy>pupolin</cp:lastModifiedBy>
  <dcterms:modified xsi:type="dcterms:W3CDTF">2008-07-18T11:09:01Z</dcterms:modified>
  <cp:revision>35</cp:revision>
  <dc:subject/>
  <dc:title>A layered architecture for multicellular multi-carrier systems</dc:title>
</cp:coreProperties>
</file>