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0A00-0196-43D4-9E81-F14E1233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DDBD-41D2-4E24-A5DC-8F8FE3B4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9FA8-B1C5-44D1-927D-3A9F5283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E4B3-70F4-4E81-A572-05DCED7D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033A-9044-457B-9AFE-0DAC2534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E0F8-4497-4D37-A784-52284903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87A9-2C53-4373-8018-1D7595CF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D29F-4D78-4E6D-B472-D325F57B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D14D-02AC-4F4D-9BA2-BDBD755F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1733-7B47-436F-91DA-014F588B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75D9-21EA-454F-BFB3-00CC1060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8226-84D3-42AE-86C7-0D7940A3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E12C-6F3B-4892-87FA-0F60042E94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73360"/>
            <a:ext cx="9144000" cy="18000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308640"/>
            <a:ext cx="9144000" cy="36036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c0c0"/>
                </a:solidFill>
                <a:latin typeface="Comic Sans MS"/>
              </a:rPr>
              <a:t>On the Estimation of Buffer Overlap Between Two Nodes Which Perform Network Co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4076280"/>
            <a:ext cx="914400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Comic Sans MS"/>
              </a:rPr>
              <a:t>Riccardo Masier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PhD Student XXIII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Comic Sans MS"/>
              </a:rPr>
              <a:t>Daniele Munaret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DoCoMo Euro-Labs resear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308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Comic Sans MS"/>
              </a:rPr>
              <a:t>SIGNET group, University of Padova                                    Brixen  July,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33"/>
                </a:solidFill>
                <a:latin typeface="Comic Sans MS"/>
              </a:rPr>
              <a:t>Scenario Description</a:t>
            </a:r>
            <a:r>
              <a:rPr b="0" lang="en-US" sz="3600" spc="-1" strike="noStrike">
                <a:solidFill>
                  <a:srgbClr val="990033"/>
                </a:solidFill>
                <a:latin typeface="Comic Sans MS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Comic Sans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WSN </a:t>
            </a:r>
            <a:r>
              <a:rPr b="0" lang="en-US" sz="32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 N nod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Comic Sans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Each node has its own packet to sh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Comic Sans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Goal </a:t>
            </a:r>
            <a:r>
              <a:rPr b="0" lang="en-US" sz="32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 each node collects the overall   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information in the network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Comic Sans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Means </a:t>
            </a:r>
            <a:r>
              <a:rPr b="0" lang="en-US" sz="32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 Network Coding is per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013360"/>
            <a:ext cx="914400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  <a:ea typeface="Arial"/>
              </a:rPr>
              <a:t>*</a:t>
            </a:r>
            <a:r>
              <a:rPr b="0" lang="en-GB" sz="1400" spc="-1" strike="noStrike">
                <a:solidFill>
                  <a:srgbClr val="808080"/>
                </a:solidFill>
                <a:latin typeface="Comic Sans MS"/>
              </a:rPr>
              <a:t>See E. Fasolo, M. Rossi, J. Widmer and M. Zorzi </a:t>
            </a:r>
            <a:r>
              <a:rPr b="0" i="1" lang="en-GB" sz="1400" spc="-1" strike="noStrike">
                <a:solidFill>
                  <a:srgbClr val="808080"/>
                </a:solidFill>
                <a:latin typeface="Comic Sans MS"/>
              </a:rPr>
              <a:t>On MAC Scheduling and Packet Combination Strategies for Practical Network Coding, </a:t>
            </a:r>
            <a:r>
              <a:rPr b="0" lang="en-GB" sz="1400" spc="-1" strike="noStrike">
                <a:solidFill>
                  <a:srgbClr val="808080"/>
                </a:solidFill>
                <a:latin typeface="Comic Sans MS"/>
              </a:rPr>
              <a:t>in IEEE ICC 2007, Glasgow, UK, Jun.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Comic Sans MS"/>
              </a:rPr>
              <a:t>E. Fasolo, J. Widmer, M. Rossi and M. Zorzi </a:t>
            </a:r>
            <a:r>
              <a:rPr b="0" i="1" lang="en-GB" sz="1400" spc="-1" strike="noStrike">
                <a:solidFill>
                  <a:srgbClr val="808080"/>
                </a:solidFill>
                <a:latin typeface="Comic Sans MS"/>
              </a:rPr>
              <a:t>A Proactive Network Coding Strategy for Pervasive Wireless Network, </a:t>
            </a:r>
            <a:r>
              <a:rPr b="0" lang="en-GB" sz="1400" spc="-1" strike="noStrike">
                <a:solidFill>
                  <a:srgbClr val="808080"/>
                </a:solidFill>
                <a:latin typeface="Comic Sans MS"/>
              </a:rPr>
              <a:t>in IEEE GLOBCOM, Washington, DC, US, Nov.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Comic Sans MS"/>
              </a:rPr>
              <a:t>D. Munaretto, J. Widmer, M. Rossi and M. Zorzi </a:t>
            </a:r>
            <a:r>
              <a:rPr b="0" i="1" lang="en-GB" sz="1400" spc="-1" strike="noStrike">
                <a:solidFill>
                  <a:srgbClr val="808080"/>
                </a:solidFill>
                <a:latin typeface="Comic Sans MS"/>
              </a:rPr>
              <a:t>Resilient Coding Algorithms for Sensor Network Data Persistence, </a:t>
            </a:r>
            <a:r>
              <a:rPr b="0" lang="en-GB" sz="1400" spc="-1" strike="noStrike">
                <a:solidFill>
                  <a:srgbClr val="808080"/>
                </a:solidFill>
                <a:latin typeface="Comic Sans MS"/>
              </a:rPr>
              <a:t>in IEEE EWSN 2008, Bologna, IT, Jan/Feb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33"/>
                </a:solidFill>
                <a:latin typeface="Comic Sans MS"/>
              </a:rPr>
              <a:t>Scenario D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Network Coding: Transmitter point of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2492280"/>
            <a:ext cx="9144000" cy="3030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54450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Comic Sans MS"/>
              </a:rPr>
              <a:t>pck format -&gt; [</a:t>
            </a:r>
            <a:r>
              <a:rPr b="0" lang="en-GB" sz="2800" spc="-1" strike="noStrike">
                <a:solidFill>
                  <a:srgbClr val="990033"/>
                </a:solidFill>
                <a:latin typeface="Comic Sans MS"/>
              </a:rPr>
              <a:t>c </a:t>
            </a:r>
            <a:r>
              <a:rPr b="0" lang="en-GB" sz="2800" spc="-1" strike="noStrike">
                <a:solidFill>
                  <a:srgbClr val="808080"/>
                </a:solidFill>
                <a:latin typeface="Comic Sans MS"/>
              </a:rPr>
              <a:t>coefficients, </a:t>
            </a:r>
            <a:r>
              <a:rPr b="0" lang="en-GB" sz="2800" spc="-1" strike="noStrike">
                <a:solidFill>
                  <a:srgbClr val="990033"/>
                </a:solidFill>
                <a:latin typeface="Comic Sans MS"/>
              </a:rPr>
              <a:t>source pck </a:t>
            </a:r>
            <a:r>
              <a:rPr b="0" lang="en-GB" sz="2800" spc="-1" strike="noStrike">
                <a:solidFill>
                  <a:srgbClr val="808080"/>
                </a:solidFill>
                <a:latin typeface="Comic Sans MS"/>
              </a:rPr>
              <a:t>informat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Comic Sans MS"/>
              </a:rPr>
              <a:t>C1, …, Ci </a:t>
            </a:r>
            <a:r>
              <a:rPr b="0" lang="ru-RU" sz="2800" spc="-1" strike="noStrike">
                <a:solidFill>
                  <a:srgbClr val="808080"/>
                </a:solidFill>
                <a:latin typeface="Comic Sans MS"/>
              </a:rPr>
              <a:t>є</a:t>
            </a:r>
            <a:r>
              <a:rPr b="0" lang="it-IT" sz="2800" spc="-1" strike="noStrike">
                <a:solidFill>
                  <a:srgbClr val="808080"/>
                </a:solidFill>
                <a:latin typeface="Comic Sans MS"/>
              </a:rPr>
              <a:t> GF(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33"/>
                </a:solidFill>
                <a:latin typeface="Comic Sans MS"/>
              </a:rPr>
              <a:t>Scenario D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Network Coding: Receiver point of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51664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808080"/>
                </a:solidFill>
                <a:uFillTx/>
                <a:latin typeface="Comic Sans MS"/>
              </a:rPr>
              <a:t>C1</a:t>
            </a:r>
            <a:r>
              <a:rPr b="0" lang="en-GB" sz="2800" spc="-1" strike="noStrike">
                <a:solidFill>
                  <a:srgbClr val="808080"/>
                </a:solidFill>
                <a:latin typeface="Comic Sans MS"/>
              </a:rPr>
              <a:t>, …, </a:t>
            </a:r>
            <a:r>
              <a:rPr b="0" lang="en-GB" sz="2800" spc="-1" strike="noStrike" u="sng">
                <a:solidFill>
                  <a:srgbClr val="808080"/>
                </a:solidFill>
                <a:uFillTx/>
                <a:latin typeface="Comic Sans MS"/>
              </a:rPr>
              <a:t>CN</a:t>
            </a:r>
            <a:r>
              <a:rPr b="0" lang="en-GB" sz="2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808080"/>
                </a:solidFill>
                <a:latin typeface="Comic Sans MS"/>
              </a:rPr>
              <a:t>є</a:t>
            </a:r>
            <a:r>
              <a:rPr b="0" lang="it-IT" sz="2800" spc="-1" strike="noStrike">
                <a:solidFill>
                  <a:srgbClr val="808080"/>
                </a:solidFill>
                <a:latin typeface="Comic Sans MS"/>
              </a:rPr>
              <a:t> GF(q)^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2492280"/>
            <a:ext cx="9144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omic Sans MS"/>
              </a:rPr>
              <a:t>Overall 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Does an optimal policy performing Network Coding exist?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(i.e. # of pcks to merge, as regards network state and receiver nodes met, in order to minimize energy and time consumpt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Comic Sans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Overall # of pcks to send? Mean # of pcks to send per node? Overall overhead? Mean overhead per n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omic Sans MS"/>
              </a:rPr>
              <a:t>Mai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557360"/>
            <a:ext cx="9144000" cy="53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Comic Sans MS"/>
              </a:rPr>
              <a:t>How Node Buffer can be seen (distributed approach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a50021"/>
                </a:solidFill>
                <a:latin typeface="Lucida Sans Unicode"/>
              </a:rPr>
              <a:t> </a:t>
            </a:r>
            <a:r>
              <a:rPr b="0" lang="el-GR" sz="2400" spc="-1" strike="noStrike">
                <a:solidFill>
                  <a:srgbClr val="990033"/>
                </a:solidFill>
                <a:latin typeface="Lucida Sans Unicode"/>
              </a:rPr>
              <a:t>α</a:t>
            </a:r>
            <a:r>
              <a:rPr b="0" lang="it-IT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it-IT" sz="2400" spc="-1" strike="noStrike">
                <a:solidFill>
                  <a:srgbClr val="990033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990033"/>
                </a:solidFill>
                <a:latin typeface="Comic Sans MS"/>
              </a:rPr>
              <a:t> # of recovered p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990033"/>
                </a:solidFill>
                <a:latin typeface="Lucida Sans Unicode"/>
              </a:rPr>
              <a:t>γ</a:t>
            </a:r>
            <a:r>
              <a:rPr b="1" lang="it-IT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990033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990033"/>
                </a:solidFill>
                <a:latin typeface="Comic Sans MS"/>
              </a:rPr>
              <a:t> # of collected p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Comic Sans MS"/>
              </a:rPr>
              <a:t>Main problems to solve to understand how </a:t>
            </a:r>
            <a:r>
              <a:rPr b="0" lang="el-GR" sz="2400" spc="-1" strike="noStrike">
                <a:solidFill>
                  <a:srgbClr val="808080"/>
                </a:solidFill>
                <a:latin typeface="Lucida Sans Unicode"/>
              </a:rPr>
              <a:t>α</a:t>
            </a:r>
            <a:r>
              <a:rPr b="0" lang="it-IT" sz="2000" spc="-1" strike="noStrike">
                <a:solidFill>
                  <a:srgbClr val="808080"/>
                </a:solidFill>
                <a:latin typeface="Lucida Sans Unicode"/>
              </a:rPr>
              <a:t> </a:t>
            </a:r>
            <a:r>
              <a:rPr b="0" lang="it-IT" sz="2400" spc="-1" strike="noStrike">
                <a:solidFill>
                  <a:srgbClr val="808080"/>
                </a:solidFill>
                <a:latin typeface="Comic Sans MS"/>
              </a:rPr>
              <a:t>and</a:t>
            </a:r>
            <a:r>
              <a:rPr b="0" lang="it-IT" sz="2000" spc="-1" strike="noStrike">
                <a:solidFill>
                  <a:srgbClr val="808080"/>
                </a:solidFill>
                <a:latin typeface="Lucida Sans Unicode"/>
              </a:rPr>
              <a:t> </a:t>
            </a:r>
            <a:r>
              <a:rPr b="0" lang="el-GR" sz="2400" spc="-1" strike="noStrike">
                <a:solidFill>
                  <a:srgbClr val="808080"/>
                </a:solidFill>
                <a:latin typeface="Lucida Sans Unicode"/>
              </a:rPr>
              <a:t>γ</a:t>
            </a:r>
            <a:r>
              <a:rPr b="0" lang="en-GB" sz="2400" spc="-1" strike="noStrike">
                <a:solidFill>
                  <a:srgbClr val="808080"/>
                </a:solidFill>
                <a:latin typeface="Comic Sans MS"/>
              </a:rPr>
              <a:t> evol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ctr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Estimation of buffer overlap between two nodes which perform Network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808080"/>
                </a:solidFill>
                <a:latin typeface="Comic Sans MS"/>
              </a:rPr>
              <a:t> Innovative Packet Exchange Probabi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Comic Sans MS"/>
              </a:rPr>
              <a:t>ii) Random Matrices Distribution Character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808080"/>
                </a:solidFill>
                <a:latin typeface="Comic Sans MS"/>
              </a:rPr>
              <a:t> Early Decoding Probabilit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7886520" cy="5127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uffer Overlap Estimation:</a:t>
            </a:r>
            <a:br>
              <a:rPr sz="3200"/>
            </a:b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Simulation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55736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mic Sans MS"/>
              </a:rPr>
              <a:t>Grid 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33640" y="1649520"/>
            <a:ext cx="8010360" cy="52084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uffer Overlap Estimation:</a:t>
            </a:r>
            <a:br>
              <a:rPr sz="3200"/>
            </a:b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Simulation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1628640"/>
            <a:ext cx="23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mic Sans MS"/>
              </a:rPr>
              <a:t>Dynamic 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63640" y="2997360"/>
            <a:ext cx="5545080" cy="3605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1628640"/>
            <a:ext cx="9144000" cy="180036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308640"/>
            <a:ext cx="9144000" cy="36036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9144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c0c0"/>
                </a:solidFill>
                <a:latin typeface="Comic Sans MS"/>
              </a:rPr>
              <a:t>On the Estimation of Buffer Overlap Between Two Nodes Which Perform Network Co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308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c0c0c0"/>
                </a:solidFill>
                <a:latin typeface="Comic Sans MS"/>
              </a:rPr>
              <a:t>SIGNET group, University of Padova                                    Brixen  July,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0" y="4005000"/>
            <a:ext cx="91440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8080"/>
                </a:solidFill>
                <a:latin typeface="Comic Sans MS"/>
              </a:rPr>
              <a:t>Riccardo Masiero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masieror@dei.unipd.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5:26:32Z</dcterms:created>
  <dc:creator>Riccardo Masiero</dc:creator>
  <dc:description/>
  <dc:language>en-US</dc:language>
  <cp:lastModifiedBy>pupolin</cp:lastModifiedBy>
  <dcterms:modified xsi:type="dcterms:W3CDTF">2008-07-18T11:10:25Z</dcterms:modified>
  <cp:revision>80</cp:revision>
  <dc:subject/>
  <dc:title>RSSI Based Tracking Algorithms for Wireless Sensor Networks: Theoretical Aspects and Performance Evaluation</dc:title>
</cp:coreProperties>
</file>