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2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0F79630D-B3A2-4443-A9B0-F36B736054A6}" type="datetime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3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4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E91636C-C06C-4C0F-8576-C3E6E90D5FA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F5E18530-5490-4BC1-9480-D6FD0BE67CD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1D437101-C1CD-4A09-A5B3-CC158FED21A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1819ED99-A444-4F83-8AD5-2CE569AB41E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9B51CCB0-D8C4-45A7-907B-FA8CE38CB56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E23C586-FF48-4389-9BCD-6B31FCF7B3F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9B02FE27-6299-40E7-B88C-854F7CD5CDF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4A4541A-07B8-4D9C-BC18-475A7BCEE6C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7D9ED9D-7E2E-45F0-ABBB-F63A755F494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2CDE5D54-7579-4AB4-93E9-3604EAB19C0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4F9369B8-9840-4D47-B01E-D1A88E020DB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4DECA73-C3A9-453E-B28D-D05FD7C8AA9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9D7A5307-93E6-4321-8135-2A022D19F21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EA71903A-9C83-4FED-90E3-BD36069A0AD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5F37D473-8450-4655-9336-88D778B0425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F2FC29D4-DBA5-4CAB-A462-F147C069621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0EBDB3D-440E-4BB2-9690-036E271ECEB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2E02023-8F68-4937-A5D5-133AD9AD72E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BC0F54BA-6C05-451A-B57D-B153F439383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F82A83A-8A70-4930-A2E7-DFA52DD82B7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C381974E-08FB-45BA-B505-66EF7BC30CD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93AAA1E6-1802-4475-ADDC-4B225084087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5A0CA0D0-C1AA-4E29-B115-1A372DB2ABE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B3C87-393B-43C8-978E-4DCFF1FFB1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C6448-C9F7-4894-952B-BCC8A6E242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6D661-814D-44F5-8517-5944AD1AA3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0DC9D-9AD7-4D03-97ED-7D376B56C7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0A14D-8A38-4D0B-AAFA-3BAEEEF207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1202D-1682-41A4-84C5-8071348630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9A80A-64A3-4982-872C-D03BE9564F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CB9EE-9FA6-4191-ADE3-6B56925890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41D3C-3D6F-4419-B1A9-3C59D9A85F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03B9C-593B-40C1-A3A4-6E0EA88C6E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A8683-7B3D-40FF-A77E-BAFF4CFE1B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1FDF8-FA4F-4607-9BE1-FFBA3E6827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2771640" y="6524640"/>
            <a:ext cx="345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July 1st – 2008,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Flavio Fabbri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University of Bologna, Ita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Text Box 20"/>
          <p:cNvSpPr/>
          <p:nvPr/>
        </p:nvSpPr>
        <p:spPr>
          <a:xfrm>
            <a:off x="1529280" y="152280"/>
            <a:ext cx="210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WiLab @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niversity of Bolog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22" descr="logo"/>
          <p:cNvPicPr/>
          <p:nvPr/>
        </p:nvPicPr>
        <p:blipFill>
          <a:blip r:embed="rId2"/>
          <a:srcRect l="0" t="0" r="72690" b="0"/>
          <a:stretch/>
        </p:blipFill>
        <p:spPr>
          <a:xfrm>
            <a:off x="276120" y="154080"/>
            <a:ext cx="561960" cy="538200"/>
          </a:xfrm>
          <a:prstGeom prst="rect">
            <a:avLst/>
          </a:prstGeom>
          <a:ln w="0">
            <a:noFill/>
          </a:ln>
        </p:spPr>
      </p:pic>
      <p:sp>
        <p:nvSpPr>
          <p:cNvPr id="5" name="Line 24"/>
          <p:cNvSpPr/>
          <p:nvPr/>
        </p:nvSpPr>
        <p:spPr>
          <a:xfrm>
            <a:off x="304920" y="838080"/>
            <a:ext cx="6553080" cy="0"/>
          </a:xfrm>
          <a:prstGeom prst="line">
            <a:avLst/>
          </a:prstGeom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8"/>
          <p:cNvSpPr/>
          <p:nvPr/>
        </p:nvSpPr>
        <p:spPr>
          <a:xfrm flipH="1">
            <a:off x="250560" y="836640"/>
            <a:ext cx="828180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1" descr="cnitlogo"/>
          <p:cNvPicPr/>
          <p:nvPr/>
        </p:nvPicPr>
        <p:blipFill>
          <a:blip r:embed="rId3"/>
          <a:srcRect l="0" t="0" r="53729" b="0"/>
          <a:stretch/>
        </p:blipFill>
        <p:spPr>
          <a:xfrm>
            <a:off x="5257800" y="142920"/>
            <a:ext cx="1598760" cy="6192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3" descr="Cnrlogo36"/>
          <p:cNvPicPr/>
          <p:nvPr/>
        </p:nvPicPr>
        <p:blipFill>
          <a:blip r:embed="rId4"/>
          <a:stretch/>
        </p:blipFill>
        <p:spPr>
          <a:xfrm>
            <a:off x="905040" y="181080"/>
            <a:ext cx="618840" cy="51120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5" descr=""/>
          <p:cNvPicPr/>
          <p:nvPr/>
        </p:nvPicPr>
        <p:blipFill>
          <a:blip r:embed="rId5"/>
          <a:stretch/>
        </p:blipFill>
        <p:spPr>
          <a:xfrm>
            <a:off x="7086600" y="163440"/>
            <a:ext cx="1752480" cy="94464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6848640" y="64544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6702-5FC9-46A8-AA30-F23C1BB349C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>
            <a:off x="6848640" y="64548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6976-57AA-49DF-9651-F8D47062404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1258920" y="2986200"/>
            <a:ext cx="72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ummer School of Information Engineering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une 30- July 4, 2008, Bressanone (BZ), Ita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3274920" y="3846600"/>
            <a:ext cx="518472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lavio Fabb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flavio.fabbri@unibo.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http://www-csite.deis.unibo.it/Staff/ffabbri.h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8"/>
          <p:cNvSpPr/>
          <p:nvPr/>
        </p:nvSpPr>
        <p:spPr>
          <a:xfrm flipH="1" flipV="1">
            <a:off x="3133440" y="3754080"/>
            <a:ext cx="5210280" cy="324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468360" y="1004760"/>
            <a:ext cx="8244000" cy="17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0066ff"/>
                </a:solidFill>
                <a:latin typeface="Tahoma"/>
              </a:rPr>
              <a:t>Area Throughput for CSMA Based Wireless Sensor Network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9"/>
          <p:cNvSpPr/>
          <p:nvPr/>
        </p:nvSpPr>
        <p:spPr>
          <a:xfrm>
            <a:off x="595440" y="5267160"/>
            <a:ext cx="4601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A joint work with C. Buratti and R. Verd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WiLab - DE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University of Bologna, Ita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9"/>
          <p:cNvSpPr/>
          <p:nvPr/>
        </p:nvSpPr>
        <p:spPr>
          <a:xfrm>
            <a:off x="6848640" y="64548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10E1-F450-4850-847D-E2D49B9B51A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2233440" y="1417680"/>
            <a:ext cx="6602760" cy="49737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397800" y="1574640"/>
            <a:ext cx="2198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C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= 0.5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/ A = 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36360" y="83664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ff"/>
                </a:solidFill>
                <a:latin typeface="Tahoma"/>
              </a:rPr>
              <a:t>Multi Sin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9"/>
          <p:cNvSpPr/>
          <p:nvPr/>
        </p:nvSpPr>
        <p:spPr>
          <a:xfrm>
            <a:off x="6848640" y="64548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C202-7AD1-4F4E-96C6-2BEA240C41C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2956320" y="871560"/>
            <a:ext cx="29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ff"/>
                </a:solidFill>
                <a:latin typeface="Tahoma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46880" y="1779480"/>
            <a:ext cx="8173800" cy="43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n application-based throughput definition for WS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EEE802.15.4 MAC with finite pop. and query paradig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nnectivity with border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these issues jointly consid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ata Aggregation outperforms Dec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 useful tool for WSN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9"/>
          <p:cNvSpPr/>
          <p:nvPr/>
        </p:nvSpPr>
        <p:spPr>
          <a:xfrm>
            <a:off x="6848640" y="64548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BCEB-6CB3-48DF-89FE-172D62E4E7E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6360" y="83664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ahom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Group 13"/>
          <p:cNvGrpSpPr/>
          <p:nvPr/>
        </p:nvGrpSpPr>
        <p:grpSpPr>
          <a:xfrm>
            <a:off x="34920" y="1557360"/>
            <a:ext cx="8426520" cy="3680280"/>
            <a:chOff x="34920" y="1557360"/>
            <a:chExt cx="8426520" cy="3680280"/>
          </a:xfrm>
        </p:grpSpPr>
        <p:pic>
          <p:nvPicPr>
            <p:cNvPr id="63" name="Picture 11" descr="ew2008"/>
            <p:cNvPicPr/>
            <p:nvPr/>
          </p:nvPicPr>
          <p:blipFill>
            <a:blip r:embed="rId1"/>
            <a:stretch/>
          </p:blipFill>
          <p:spPr>
            <a:xfrm>
              <a:off x="395280" y="1557360"/>
              <a:ext cx="8066160" cy="33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2"/>
            <p:cNvSpPr/>
            <p:nvPr/>
          </p:nvSpPr>
          <p:spPr>
            <a:xfrm>
              <a:off x="34920" y="4149720"/>
              <a:ext cx="1944720" cy="10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ahoma"/>
                </a:rPr>
                <a:t>Isolated sens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ahoma"/>
                </a:rPr>
                <a:t>Connected sens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ahoma"/>
                </a:rPr>
                <a:t>Si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Text Box 5"/>
          <p:cNvSpPr/>
          <p:nvPr/>
        </p:nvSpPr>
        <p:spPr>
          <a:xfrm>
            <a:off x="3492360" y="4255920"/>
            <a:ext cx="5400720" cy="23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eneral Assum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inite Do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niformly random distribution of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ensors (</a:t>
            </a:r>
            <a:r>
              <a:rPr b="1" lang="en-GB" sz="2000" spc="-1" strike="noStrike">
                <a:solidFill>
                  <a:srgbClr val="0066ff"/>
                </a:solidFill>
                <a:latin typeface="Symbol"/>
                <a:ea typeface="Symbol"/>
              </a:rPr>
              <a:t></a:t>
            </a:r>
            <a:r>
              <a:rPr b="1" lang="en-GB" sz="2000" spc="-1" strike="noStrike" baseline="-25000">
                <a:solidFill>
                  <a:srgbClr val="0066ff"/>
                </a:solidFill>
                <a:latin typeface="Tahoma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) and Sinks (</a:t>
            </a:r>
            <a:r>
              <a:rPr b="1" lang="en-GB" sz="2000" spc="-1" strike="noStrike">
                <a:solidFill>
                  <a:srgbClr val="0066ff"/>
                </a:solidFill>
                <a:latin typeface="Symbol"/>
                <a:ea typeface="Symbol"/>
              </a:rPr>
              <a:t></a:t>
            </a:r>
            <a:r>
              <a:rPr b="1" lang="en-GB" sz="2000" spc="-1" strike="noStrike" baseline="-25000">
                <a:solidFill>
                  <a:srgbClr val="0066ff"/>
                </a:solidFill>
                <a:latin typeface="Tahoma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niform transmission ra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ingle hop 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9"/>
          <p:cNvSpPr/>
          <p:nvPr/>
        </p:nvSpPr>
        <p:spPr>
          <a:xfrm>
            <a:off x="6848640" y="64548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C4F2-00BB-47F8-B004-0A2690554B3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6360" y="83664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ff"/>
                </a:solidFill>
                <a:latin typeface="Tahoma"/>
              </a:rPr>
              <a:t>Appl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969840" y="1628640"/>
            <a:ext cx="758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eriodic estimation of </a:t>
            </a:r>
            <a:r>
              <a:rPr b="0" lang="en-GB" sz="2000" spc="-1" strike="noStrike">
                <a:solidFill>
                  <a:srgbClr val="0066ff"/>
                </a:solidFill>
                <a:latin typeface="Tahoma"/>
              </a:rPr>
              <a:t>space-time process realis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958680" y="2027160"/>
            <a:ext cx="727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target area is a </a:t>
            </a:r>
            <a:r>
              <a:rPr b="0" lang="en-GB" sz="2000" spc="-1" strike="noStrike">
                <a:solidFill>
                  <a:srgbClr val="0066ff"/>
                </a:solidFill>
                <a:latin typeface="Tahoma"/>
              </a:rPr>
              <a:t>smaller portion of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971640" y="4400640"/>
            <a:ext cx="727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collection of data from sensor fields is made by </a:t>
            </a:r>
            <a:r>
              <a:rPr b="0" lang="en-GB" sz="2000" spc="-1" strike="noStrike">
                <a:solidFill>
                  <a:srgbClr val="0066ff"/>
                </a:solidFill>
                <a:latin typeface="Tahoma"/>
              </a:rPr>
              <a:t>multiple sink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distributed in the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Gruppo 16"/>
          <p:cNvGrpSpPr/>
          <p:nvPr/>
        </p:nvGrpSpPr>
        <p:grpSpPr>
          <a:xfrm>
            <a:off x="2290680" y="2470320"/>
            <a:ext cx="4659120" cy="2094480"/>
            <a:chOff x="2290680" y="2470320"/>
            <a:chExt cx="4659120" cy="2094480"/>
          </a:xfrm>
        </p:grpSpPr>
        <p:grpSp>
          <p:nvGrpSpPr>
            <p:cNvPr id="72" name="Group 13"/>
            <p:cNvGrpSpPr/>
            <p:nvPr/>
          </p:nvGrpSpPr>
          <p:grpSpPr>
            <a:xfrm>
              <a:off x="2290680" y="2470320"/>
              <a:ext cx="4659120" cy="2094480"/>
              <a:chOff x="2290680" y="2470320"/>
              <a:chExt cx="4659120" cy="2094480"/>
            </a:xfrm>
          </p:grpSpPr>
          <p:pic>
            <p:nvPicPr>
              <p:cNvPr id="73" name="Picture 11" descr="ew2008"/>
              <p:cNvPicPr/>
              <p:nvPr/>
            </p:nvPicPr>
            <p:blipFill>
              <a:blip r:embed="rId1"/>
              <a:stretch/>
            </p:blipFill>
            <p:spPr>
              <a:xfrm>
                <a:off x="2489760" y="2470320"/>
                <a:ext cx="4460040" cy="183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Text Box 12"/>
              <p:cNvSpPr/>
              <p:nvPr/>
            </p:nvSpPr>
            <p:spPr>
              <a:xfrm>
                <a:off x="2290680" y="3904200"/>
                <a:ext cx="1075320" cy="66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7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800" spc="-1" strike="noStrike">
                    <a:solidFill>
                      <a:srgbClr val="000000"/>
                    </a:solidFill>
                    <a:latin typeface="Tahoma"/>
                  </a:rPr>
                  <a:t>Isolated senso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7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800" spc="-1" strike="noStrike">
                    <a:solidFill>
                      <a:srgbClr val="000000"/>
                    </a:solidFill>
                    <a:latin typeface="Tahoma"/>
                  </a:rPr>
                  <a:t>Connected senso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7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800" spc="-1" strike="noStrike">
                    <a:solidFill>
                      <a:srgbClr val="000000"/>
                    </a:solidFill>
                    <a:latin typeface="Tahoma"/>
                  </a:rPr>
                  <a:t>Sink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" name="Rettangolo 15"/>
            <p:cNvSpPr/>
            <p:nvPr/>
          </p:nvSpPr>
          <p:spPr>
            <a:xfrm>
              <a:off x="3552120" y="2815920"/>
              <a:ext cx="2231640" cy="674280"/>
            </a:xfrm>
            <a:prstGeom prst="rect">
              <a:avLst/>
            </a:prstGeom>
            <a:solidFill>
              <a:srgbClr val="ff0000">
                <a:alpha val="14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Text Box 36"/>
          <p:cNvSpPr/>
          <p:nvPr/>
        </p:nvSpPr>
        <p:spPr>
          <a:xfrm>
            <a:off x="1036800" y="5267160"/>
            <a:ext cx="77421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Sinks transmit synchronous periodic queries, with frequency f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Tahoma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Sensor nodes upon reception of a query take a sample, then they attach to the sink received    with largest power and send replies with duration of T seconds, with 1 / f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Tahoma"/>
              </a:rPr>
              <a:t>q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 = T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Tahoma"/>
              </a:rPr>
              <a:t>q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 = q 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Sensor nodes access the channel through a CSMA protoco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9"/>
          <p:cNvSpPr/>
          <p:nvPr/>
        </p:nvSpPr>
        <p:spPr>
          <a:xfrm>
            <a:off x="6848640" y="64548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A369-0405-4F32-A2AC-E8BEB10E115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36360" y="83664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ahoma"/>
              </a:rPr>
              <a:t>The Go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909720" y="1619280"/>
            <a:ext cx="758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ximize the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rea Throughpu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, i.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898560" y="2077920"/>
            <a:ext cx="72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umber of samples taken per unit of time from th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884160" y="2992320"/>
            <a:ext cx="7994880" cy="15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radeof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The larger the number of sensors, the larger the offered s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larger the number of sensors, the larger the number of colli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878040" y="4532400"/>
            <a:ext cx="799452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echniq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Dec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Data Aggreg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12" descr=""/>
          <p:cNvPicPr/>
          <p:nvPr/>
        </p:nvPicPr>
        <p:blipFill>
          <a:blip r:embed="rId1"/>
          <a:srcRect l="0" t="67429" r="0" b="0"/>
          <a:stretch/>
        </p:blipFill>
        <p:spPr>
          <a:xfrm>
            <a:off x="2916360" y="4324320"/>
            <a:ext cx="61848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9"/>
          <p:cNvSpPr/>
          <p:nvPr/>
        </p:nvSpPr>
        <p:spPr>
          <a:xfrm>
            <a:off x="6848640" y="64548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C4F0-8B07-4B18-AE99-4EB4C24ED4F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36360" y="83664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ahoma"/>
              </a:rPr>
              <a:t>Th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515880" y="2152800"/>
            <a:ext cx="369252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ahoma"/>
              </a:rPr>
              <a:t>Conne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 [dB]=k0 + k1 ln (d) +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ttangolo 11"/>
          <p:cNvSpPr/>
          <p:nvPr/>
        </p:nvSpPr>
        <p:spPr>
          <a:xfrm>
            <a:off x="4718160" y="2176560"/>
            <a:ext cx="3803400" cy="11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ahoma"/>
              </a:rPr>
              <a:t>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SMA -&gt; 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ahoma"/>
              </a:rPr>
              <a:t>MAC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Rettangolo 13" descr=""/>
          <p:cNvPicPr/>
          <p:nvPr/>
        </p:nvPicPr>
        <p:blipFill>
          <a:blip r:embed="rId1"/>
          <a:stretch/>
        </p:blipFill>
        <p:spPr>
          <a:xfrm>
            <a:off x="450720" y="1962000"/>
            <a:ext cx="3919680" cy="1482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76280" y="1987560"/>
            <a:ext cx="387648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Rettangolo 14"/>
          <p:cNvGrpSpPr/>
          <p:nvPr/>
        </p:nvGrpSpPr>
        <p:grpSpPr>
          <a:xfrm>
            <a:off x="4591080" y="1663560"/>
            <a:ext cx="4132080" cy="2133720"/>
            <a:chOff x="4591080" y="1663560"/>
            <a:chExt cx="4132080" cy="2133720"/>
          </a:xfrm>
        </p:grpSpPr>
        <p:pic>
          <p:nvPicPr>
            <p:cNvPr id="91" name="Rettangolo 14" descr=""/>
            <p:cNvPicPr/>
            <p:nvPr/>
          </p:nvPicPr>
          <p:blipFill>
            <a:blip r:embed="rId2"/>
            <a:stretch/>
          </p:blipFill>
          <p:spPr>
            <a:xfrm>
              <a:off x="4591080" y="1663560"/>
              <a:ext cx="413208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4614840" y="1689120"/>
              <a:ext cx="4091040" cy="20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Freccia a destra 15"/>
          <p:cNvSpPr/>
          <p:nvPr/>
        </p:nvSpPr>
        <p:spPr>
          <a:xfrm rot="7842600">
            <a:off x="5400720" y="4242240"/>
            <a:ext cx="1474920" cy="609480"/>
          </a:xfrm>
          <a:prstGeom prst="rightArrow">
            <a:avLst>
              <a:gd name="adj1" fmla="val 50000"/>
              <a:gd name="adj2" fmla="val 50001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reccia a destra 16"/>
          <p:cNvSpPr/>
          <p:nvPr/>
        </p:nvSpPr>
        <p:spPr>
          <a:xfrm rot="3245400">
            <a:off x="2299320" y="4056840"/>
            <a:ext cx="1950840" cy="609480"/>
          </a:xfrm>
          <a:prstGeom prst="rightArrow">
            <a:avLst>
              <a:gd name="adj1" fmla="val 50000"/>
              <a:gd name="adj2" fmla="val 50028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2959200" y="5464080"/>
            <a:ext cx="36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ahoma"/>
              </a:rPr>
              <a:t>Area Through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Rettangolo 20"/>
          <p:cNvGrpSpPr/>
          <p:nvPr/>
        </p:nvGrpSpPr>
        <p:grpSpPr>
          <a:xfrm>
            <a:off x="2895480" y="5291280"/>
            <a:ext cx="3780000" cy="1023840"/>
            <a:chOff x="2895480" y="5291280"/>
            <a:chExt cx="3780000" cy="1023840"/>
          </a:xfrm>
        </p:grpSpPr>
        <p:pic>
          <p:nvPicPr>
            <p:cNvPr id="97" name="Rettangolo 20" descr=""/>
            <p:cNvPicPr/>
            <p:nvPr/>
          </p:nvPicPr>
          <p:blipFill>
            <a:blip r:embed="rId3"/>
            <a:stretch/>
          </p:blipFill>
          <p:spPr>
            <a:xfrm>
              <a:off x="2895480" y="5291280"/>
              <a:ext cx="378000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2919240" y="5315040"/>
              <a:ext cx="3737160" cy="9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9"/>
          <p:cNvSpPr/>
          <p:nvPr/>
        </p:nvSpPr>
        <p:spPr>
          <a:xfrm>
            <a:off x="6848640" y="64548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9656-2C06-4E60-9335-34602B49BDE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0" y="302580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ff"/>
                </a:solidFill>
                <a:latin typeface="Tahoma"/>
              </a:rPr>
              <a:t>Some Math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9"/>
          <p:cNvSpPr/>
          <p:nvPr/>
        </p:nvSpPr>
        <p:spPr>
          <a:xfrm>
            <a:off x="6848640" y="64548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B574-208C-469E-91A9-843D56B181A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214200" y="1449360"/>
            <a:ext cx="864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IEEE802.15.4 Non-Beaconed Mode – A model realised in Bolog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285840" y="1803240"/>
            <a:ext cx="5545080" cy="44992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7"/>
          <p:cNvSpPr/>
          <p:nvPr/>
        </p:nvSpPr>
        <p:spPr>
          <a:xfrm>
            <a:off x="5902200" y="2224080"/>
            <a:ext cx="302580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Prob. of Su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V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High SN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Only MAC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No Connectivity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2510640" y="316080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3247200" y="349740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879000" y="277668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12"/>
          <p:cNvSpPr/>
          <p:nvPr/>
        </p:nvSpPr>
        <p:spPr>
          <a:xfrm>
            <a:off x="3238560" y="291924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2437560" y="236844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14"/>
          <p:cNvSpPr/>
          <p:nvPr/>
        </p:nvSpPr>
        <p:spPr>
          <a:xfrm>
            <a:off x="2733840" y="2633760"/>
            <a:ext cx="4330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15"/>
          <p:cNvSpPr/>
          <p:nvPr/>
        </p:nvSpPr>
        <p:spPr>
          <a:xfrm flipV="1">
            <a:off x="2878200" y="2992320"/>
            <a:ext cx="288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6"/>
          <p:cNvSpPr/>
          <p:nvPr/>
        </p:nvSpPr>
        <p:spPr>
          <a:xfrm flipH="1" flipV="1">
            <a:off x="3309480" y="3065040"/>
            <a:ext cx="73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7"/>
          <p:cNvSpPr/>
          <p:nvPr/>
        </p:nvSpPr>
        <p:spPr>
          <a:xfrm flipH="1">
            <a:off x="3454200" y="29923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2124000" y="2368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2160360" y="3160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21"/>
          <p:cNvSpPr/>
          <p:nvPr/>
        </p:nvSpPr>
        <p:spPr>
          <a:xfrm>
            <a:off x="3889080" y="3016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36360" y="83664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ff"/>
                </a:solidFill>
                <a:latin typeface="Tahoma"/>
              </a:rPr>
              <a:t>Single Sin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9"/>
          <p:cNvSpPr/>
          <p:nvPr/>
        </p:nvSpPr>
        <p:spPr>
          <a:xfrm>
            <a:off x="6848640" y="64548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53B8-CDB6-4244-9EF3-29931300B7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2201760" y="1380960"/>
            <a:ext cx="6294600" cy="51166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406080" y="1403280"/>
            <a:ext cx="129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C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36360" y="83664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ff"/>
                </a:solidFill>
                <a:latin typeface="Tahoma"/>
              </a:rPr>
              <a:t>Multi Sin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9"/>
          <p:cNvSpPr/>
          <p:nvPr/>
        </p:nvSpPr>
        <p:spPr>
          <a:xfrm>
            <a:off x="6848640" y="64548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D171-B2BD-49FA-A59E-150413CFDEA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2124000" y="1447920"/>
            <a:ext cx="6383520" cy="50878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406080" y="1574640"/>
            <a:ext cx="171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C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= 0.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7"/>
          <p:cNvSpPr/>
          <p:nvPr/>
        </p:nvSpPr>
        <p:spPr>
          <a:xfrm flipH="1">
            <a:off x="7235640" y="2492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5112360" y="2270160"/>
            <a:ext cx="195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 with [ P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C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1 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6360" y="83664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ff"/>
                </a:solidFill>
                <a:latin typeface="Tahoma"/>
              </a:rPr>
              <a:t>Multi Sin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0:49:27Z</dcterms:created>
  <dc:creator>cburatti</dc:creator>
  <dc:description/>
  <dc:language>en-US</dc:language>
  <cp:lastModifiedBy>pupolin</cp:lastModifiedBy>
  <dcterms:modified xsi:type="dcterms:W3CDTF">2008-07-18T11:11:32Z</dcterms:modified>
  <cp:revision>460</cp:revision>
  <dc:subject/>
  <dc:title>CLUSTER A  JA1: Optimised Network  Formation Mechanisms for IEEE802.15.4 Tree-Based Topologies  UoR - UniBo</dc:title>
</cp:coreProperties>
</file>