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EA97-7125-43B2-BC4A-BE76DDCC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8A29-89D9-4BEE-AF1B-A589C816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4B31-25B0-4E0D-BBC6-15FD15A2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523C-632D-4E0A-BE6C-9AC7D734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D8AA1-2BBD-4A41-B764-8C88D4E2C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7CD2-21C1-4C14-9465-450BD1EE5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1B46B-2743-4066-9082-9DB545DFE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DF493-0CAE-47AA-90AA-98E88915AA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2453A-F517-4033-A479-64E8D2B79C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75801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B0880-605E-42E2-BD45-13707DA663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262CC-CC8A-49D1-A1BB-6833197A5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033B-ECA0-408E-A73C-7ACEE40E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91F0E-6A92-4D8D-B71B-A5CA3C9FED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879C-6196-4F88-929F-AC8AF14F24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AE7E-B189-46CC-93F7-E76D43DA87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6AC7A-4C09-4736-80BD-8F5F0E23BA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B1985-DB96-4D12-92AB-FE66DFC7E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5A82-59CE-49ED-BC5E-F6580221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4B6E-05EC-45E7-B9F5-48A8098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6501-AE85-4B1E-A650-9042002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75801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255CE-47C3-4476-9227-439BCB8A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A84B-0423-49B8-AEDA-DC50C84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6C89-B4F8-46C9-BF78-64E50E7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6A05-F069-4977-8EE6-1FD5DD2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b011c"/>
                </a:solidFill>
                <a:latin typeface="Arial"/>
              </a:rPr>
              <a:t>Click to edit the title text format</a:t>
            </a:r>
            <a:endParaRPr b="0" i="1" lang="en-US" sz="1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38136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rixen  June, 30 – July, 4 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23700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3DE-233C-43CE-9E2B-3D941091DE9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0" y="6237360"/>
            <a:ext cx="9144000" cy="71280"/>
          </a:xfrm>
          <a:prstGeom prst="rect">
            <a:avLst/>
          </a:prstGeom>
          <a:gradFill rotWithShape="0">
            <a:gsLst>
              <a:gs pos="0">
                <a:srgbClr val="bb01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549000"/>
            <a:ext cx="9144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01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224000" cy="2491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211280" y="6453360"/>
            <a:ext cx="4032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EWCOM++   Summer School 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59280" y="24444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b011c"/>
                </a:solidFill>
                <a:latin typeface="Arial"/>
              </a:rPr>
              <a:t>Energy Efficiency of the IEEE 802.15.4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011c"/>
                </a:solidFill>
                <a:latin typeface="Arial"/>
              </a:rPr>
              <a:t>Click to edit the title text format</a:t>
            </a:r>
            <a:endParaRPr b="0" i="1" lang="en-US" sz="20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1979280" y="6381360"/>
            <a:ext cx="482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WCOM++ Summer School 08   Brixen  June,30 – July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453-CCBC-4F90-B166-C14141DC96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6237360"/>
            <a:ext cx="9144000" cy="71280"/>
          </a:xfrm>
          <a:prstGeom prst="rect">
            <a:avLst/>
          </a:prstGeom>
          <a:gradFill rotWithShape="0">
            <a:gsLst>
              <a:gs pos="0">
                <a:srgbClr val="bb011c"/>
              </a:gs>
              <a:gs pos="100000">
                <a:srgbClr val="99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667640" y="692280"/>
            <a:ext cx="820800" cy="277560"/>
            <a:chOff x="7667640" y="692280"/>
            <a:chExt cx="820800" cy="277560"/>
          </a:xfrm>
        </p:grpSpPr>
        <p:sp>
          <p:nvSpPr>
            <p:cNvPr id="50" name=""/>
            <p:cNvSpPr/>
            <p:nvPr/>
          </p:nvSpPr>
          <p:spPr>
            <a:xfrm>
              <a:off x="8263440" y="926280"/>
              <a:ext cx="225000" cy="4356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46" y="16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6" y="29"/>
                  </a:lnTo>
                  <a:lnTo>
                    <a:pt x="146" y="16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63440" y="812160"/>
              <a:ext cx="225000" cy="4356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46" y="13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6" y="29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63440" y="692280"/>
              <a:ext cx="225000" cy="45360"/>
            </a:xfrm>
            <a:custGeom>
              <a:avLst/>
              <a:gdLst/>
              <a:ahLst/>
              <a:rect l="l" t="t" r="r" b="b"/>
              <a:pathLst>
                <a:path w="146" h="30">
                  <a:moveTo>
                    <a:pt x="146" y="16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46" y="30"/>
                  </a:lnTo>
                  <a:lnTo>
                    <a:pt x="146" y="16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84800" y="926280"/>
              <a:ext cx="226800" cy="43560"/>
            </a:xfrm>
            <a:custGeom>
              <a:avLst/>
              <a:gdLst/>
              <a:ahLst/>
              <a:rect l="l" t="t" r="r" b="b"/>
              <a:pathLst>
                <a:path w="148" h="29">
                  <a:moveTo>
                    <a:pt x="148" y="16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8" y="29"/>
                  </a:lnTo>
                  <a:lnTo>
                    <a:pt x="148" y="16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4800" y="812160"/>
              <a:ext cx="226800" cy="43560"/>
            </a:xfrm>
            <a:custGeom>
              <a:avLst/>
              <a:gdLst/>
              <a:ahLst/>
              <a:rect l="l" t="t" r="r" b="b"/>
              <a:pathLst>
                <a:path w="148" h="29">
                  <a:moveTo>
                    <a:pt x="148" y="13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8" y="29"/>
                  </a:lnTo>
                  <a:lnTo>
                    <a:pt x="148" y="13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84800" y="692280"/>
              <a:ext cx="226800" cy="45360"/>
            </a:xfrm>
            <a:custGeom>
              <a:avLst/>
              <a:gdLst/>
              <a:ahLst/>
              <a:rect l="l" t="t" r="r" b="b"/>
              <a:pathLst>
                <a:path w="148" h="30">
                  <a:moveTo>
                    <a:pt x="148" y="16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48" y="30"/>
                  </a:lnTo>
                  <a:lnTo>
                    <a:pt x="148" y="16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67640" y="926280"/>
              <a:ext cx="155880" cy="43560"/>
            </a:xfrm>
            <a:custGeom>
              <a:avLst/>
              <a:gdLst/>
              <a:ahLst/>
              <a:rect l="l" t="t" r="r" b="b"/>
              <a:pathLst>
                <a:path w="101" h="29">
                  <a:moveTo>
                    <a:pt x="0" y="16"/>
                  </a:moveTo>
                  <a:lnTo>
                    <a:pt x="0" y="29"/>
                  </a:lnTo>
                  <a:lnTo>
                    <a:pt x="101" y="29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71240" y="692280"/>
              <a:ext cx="155880" cy="45360"/>
            </a:xfrm>
            <a:custGeom>
              <a:avLst/>
              <a:gdLst/>
              <a:ahLst/>
              <a:rect l="l" t="t" r="r" b="b"/>
              <a:pathLst>
                <a:path w="101" h="30">
                  <a:moveTo>
                    <a:pt x="0" y="16"/>
                  </a:moveTo>
                  <a:lnTo>
                    <a:pt x="0" y="30"/>
                  </a:lnTo>
                  <a:lnTo>
                    <a:pt x="101" y="30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21000" y="692280"/>
              <a:ext cx="127440" cy="1393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83" y="91"/>
                  </a:moveTo>
                  <a:lnTo>
                    <a:pt x="82" y="74"/>
                  </a:lnTo>
                  <a:lnTo>
                    <a:pt x="77" y="56"/>
                  </a:lnTo>
                  <a:lnTo>
                    <a:pt x="69" y="41"/>
                  </a:lnTo>
                  <a:lnTo>
                    <a:pt x="60" y="28"/>
                  </a:lnTo>
                  <a:lnTo>
                    <a:pt x="48" y="16"/>
                  </a:lnTo>
                  <a:lnTo>
                    <a:pt x="32" y="8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" y="31"/>
                  </a:lnTo>
                  <a:lnTo>
                    <a:pt x="20" y="34"/>
                  </a:lnTo>
                  <a:lnTo>
                    <a:pt x="29" y="41"/>
                  </a:lnTo>
                  <a:lnTo>
                    <a:pt x="38" y="47"/>
                  </a:lnTo>
                  <a:lnTo>
                    <a:pt x="45" y="56"/>
                  </a:lnTo>
                  <a:lnTo>
                    <a:pt x="49" y="67"/>
                  </a:lnTo>
                  <a:lnTo>
                    <a:pt x="54" y="79"/>
                  </a:lnTo>
                  <a:lnTo>
                    <a:pt x="54" y="91"/>
                  </a:lnTo>
                  <a:lnTo>
                    <a:pt x="83" y="91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21000" y="831600"/>
              <a:ext cx="127440" cy="13824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0" y="91"/>
                  </a:moveTo>
                  <a:lnTo>
                    <a:pt x="17" y="90"/>
                  </a:lnTo>
                  <a:lnTo>
                    <a:pt x="32" y="85"/>
                  </a:lnTo>
                  <a:lnTo>
                    <a:pt x="48" y="76"/>
                  </a:lnTo>
                  <a:lnTo>
                    <a:pt x="60" y="65"/>
                  </a:lnTo>
                  <a:lnTo>
                    <a:pt x="69" y="51"/>
                  </a:lnTo>
                  <a:lnTo>
                    <a:pt x="77" y="36"/>
                  </a:lnTo>
                  <a:lnTo>
                    <a:pt x="82" y="19"/>
                  </a:lnTo>
                  <a:lnTo>
                    <a:pt x="83" y="0"/>
                  </a:lnTo>
                  <a:lnTo>
                    <a:pt x="54" y="0"/>
                  </a:lnTo>
                  <a:lnTo>
                    <a:pt x="54" y="13"/>
                  </a:lnTo>
                  <a:lnTo>
                    <a:pt x="49" y="25"/>
                  </a:lnTo>
                  <a:lnTo>
                    <a:pt x="45" y="36"/>
                  </a:lnTo>
                  <a:lnTo>
                    <a:pt x="38" y="45"/>
                  </a:lnTo>
                  <a:lnTo>
                    <a:pt x="29" y="53"/>
                  </a:lnTo>
                  <a:lnTo>
                    <a:pt x="20" y="57"/>
                  </a:lnTo>
                  <a:lnTo>
                    <a:pt x="11" y="62"/>
                  </a:lnTo>
                  <a:lnTo>
                    <a:pt x="0" y="6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41320" cy="843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564000" y="549360"/>
            <a:ext cx="2158920" cy="439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148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011c"/>
                </a:solidFill>
                <a:latin typeface="Arial"/>
              </a:rPr>
              <a:t>On the Energy Efficiency </a:t>
            </a:r>
            <a:br>
              <a:rPr sz="3600"/>
            </a:br>
            <a:r>
              <a:rPr b="1" i="1" lang="en-US" sz="3600" spc="-1" strike="noStrike">
                <a:solidFill>
                  <a:srgbClr val="bb011c"/>
                </a:solidFill>
                <a:latin typeface="Arial"/>
              </a:rPr>
              <a:t>of the </a:t>
            </a:r>
            <a:br>
              <a:rPr sz="3600"/>
            </a:br>
            <a:r>
              <a:rPr b="1" i="1" lang="en-US" sz="3600" spc="-1" strike="noStrike">
                <a:solidFill>
                  <a:srgbClr val="bb011c"/>
                </a:solidFill>
                <a:latin typeface="Arial"/>
              </a:rPr>
              <a:t>IEEE 802.15.4 MAC</a:t>
            </a:r>
            <a:r>
              <a:rPr b="0" i="1" lang="it-IT" sz="3600" spc="-1" strike="noStrike">
                <a:solidFill>
                  <a:srgbClr val="bb011c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0920" y="4149720"/>
            <a:ext cx="8064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ria  Rita Palat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E – Polytechnic of Bari –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WCOM++  Summer School 08    -     Brixen June, 30 – July,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684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011c"/>
                </a:solidFill>
                <a:latin typeface="Arial"/>
              </a:rPr>
              <a:t>Further research …</a:t>
            </a:r>
            <a:endParaRPr b="0" i="1" lang="en-US" sz="28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verage power consumption of a node in a LR-W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ime spent by the radio-transceiver in tx and rx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Energy consumption of the Chipcon CC2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461440" y="5013360"/>
            <a:ext cx="431640" cy="398880"/>
            <a:chOff x="8461440" y="5013360"/>
            <a:chExt cx="431640" cy="398880"/>
          </a:xfrm>
        </p:grpSpPr>
        <p:sp>
          <p:nvSpPr>
            <p:cNvPr id="639" name=""/>
            <p:cNvSpPr/>
            <p:nvPr/>
          </p:nvSpPr>
          <p:spPr>
            <a:xfrm>
              <a:off x="8604360" y="50133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61440" y="5013360"/>
              <a:ext cx="36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003640" y="256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0-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04000" y="2565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0-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3528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492360" y="2637000"/>
            <a:ext cx="216000" cy="2156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88000" y="2637000"/>
            <a:ext cx="216000" cy="215640"/>
          </a:xfrm>
          <a:prstGeom prst="rect">
            <a:avLst/>
          </a:prstGeom>
          <a:solidFill>
            <a:srgbClr val="66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59280" y="2637000"/>
            <a:ext cx="216000" cy="215640"/>
          </a:xfrm>
          <a:prstGeom prst="rect">
            <a:avLst/>
          </a:prstGeom>
          <a:solidFill>
            <a:srgbClr val="ff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8086680" y="5751360"/>
                <a:ext cx="30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k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250920" y="5013360"/>
            <a:ext cx="72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16000" y="2637000"/>
            <a:ext cx="216000" cy="215640"/>
          </a:xfrm>
          <a:prstGeom prst="rect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589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dio wake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54200" y="6381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30200" y="4424400"/>
            <a:ext cx="1657440" cy="576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ckof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38560" y="4424400"/>
            <a:ext cx="2233800" cy="576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x 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98560" y="5000760"/>
            <a:ext cx="73080" cy="431640"/>
          </a:xfrm>
          <a:prstGeom prst="rect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71640" y="5000760"/>
            <a:ext cx="358560" cy="2872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330200" y="5000760"/>
            <a:ext cx="1657440" cy="142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138560" y="5000760"/>
            <a:ext cx="2233800" cy="215640"/>
          </a:xfrm>
          <a:prstGeom prst="rect">
            <a:avLst/>
          </a:prstGeom>
          <a:solidFill>
            <a:srgbClr val="ff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372360" y="5000760"/>
            <a:ext cx="574560" cy="142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380360" y="5000760"/>
            <a:ext cx="1224000" cy="142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059280" y="3679920"/>
            <a:ext cx="498240" cy="1313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070080"/>
            <a:ext cx="360360" cy="1923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5280" y="3679920"/>
            <a:ext cx="503280" cy="1313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20000" y="3992400"/>
            <a:ext cx="35856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87640" y="5000760"/>
            <a:ext cx="73080" cy="431640"/>
          </a:xfrm>
          <a:prstGeom prst="rect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59280" y="5000760"/>
            <a:ext cx="504720" cy="2872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64000" y="5000760"/>
            <a:ext cx="73080" cy="431640"/>
          </a:xfrm>
          <a:prstGeom prst="rect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35280" y="5000760"/>
            <a:ext cx="505080" cy="2872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46920" y="5000760"/>
            <a:ext cx="73080" cy="431640"/>
          </a:xfrm>
          <a:prstGeom prst="rect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20000" y="5000760"/>
            <a:ext cx="360360" cy="287280"/>
          </a:xfrm>
          <a:prstGeom prst="rect">
            <a:avLst/>
          </a:prstGeom>
          <a:solidFill>
            <a:srgbClr val="66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500880" y="5516640"/>
                <a:ext cx="312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k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014800" y="5442120"/>
                <a:ext cx="3384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k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7093080" y="5734080"/>
                <a:ext cx="2840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046160" y="6014880"/>
                <a:ext cx="2127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900080" y="5637240"/>
                <a:ext cx="51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262320" y="5735520"/>
                <a:ext cx="7333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n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971640" y="5432400"/>
            <a:ext cx="0" cy="8049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330200" y="5288040"/>
            <a:ext cx="0" cy="9493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87640" y="5432400"/>
            <a:ext cx="0" cy="517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38560" y="5288040"/>
            <a:ext cx="0" cy="6620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372360" y="5216400"/>
            <a:ext cx="0" cy="10209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020000" y="5359320"/>
            <a:ext cx="0" cy="4460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80360" y="5288040"/>
            <a:ext cx="0" cy="5173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604360" y="5143680"/>
            <a:ext cx="0" cy="1093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69840" y="5877000"/>
            <a:ext cx="358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330200" y="5589720"/>
            <a:ext cx="16574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987640" y="5734080"/>
            <a:ext cx="115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138560" y="5373720"/>
            <a:ext cx="22338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72360" y="5516640"/>
            <a:ext cx="6476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2360" y="6093000"/>
            <a:ext cx="22320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98560" y="5446800"/>
            <a:ext cx="1440" cy="358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1120" y="5661000"/>
            <a:ext cx="2174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969840" y="566100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727200" y="5805360"/>
                <a:ext cx="2444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1585-2F08-43F6-BC21-4BF1A6C5A3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944640"/>
            <a:ext cx="30477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i="1" lang="en-US" sz="32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.15.4 MAC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ov chain model of slotted CSMA/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Performance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and furth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0E38-2B68-4CFA-B933-16B12C4F91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8920" y="836640"/>
            <a:ext cx="6481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011c"/>
                </a:solidFill>
                <a:latin typeface="Arial"/>
              </a:rPr>
              <a:t>IEEE 802.15.4</a:t>
            </a:r>
            <a:endParaRPr b="0" i="1" lang="en-US" sz="28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844280"/>
            <a:ext cx="7561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for PHY and MAC layer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w Rate Wireless Personal Area Network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LR- WP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eacon enabl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uperfram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lotted CSMA/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-Beacon enabl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o superfram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2708280"/>
            <a:ext cx="2952720" cy="1368360"/>
          </a:xfrm>
          <a:prstGeom prst="ellipse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55640" y="2997360"/>
            <a:ext cx="576360" cy="287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EB31-B575-4414-8083-52F5068771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55720" y="2736720"/>
            <a:ext cx="30168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7400" y="2735280"/>
            <a:ext cx="30312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0520" y="2736720"/>
            <a:ext cx="30168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2200" y="2736720"/>
            <a:ext cx="30312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65320" y="2736720"/>
            <a:ext cx="30168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7000" y="2736720"/>
            <a:ext cx="30312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71920" y="2736720"/>
            <a:ext cx="30312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5040" y="2736720"/>
            <a:ext cx="30168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736720"/>
            <a:ext cx="30312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79840" y="2736720"/>
            <a:ext cx="30168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9720" y="2736720"/>
            <a:ext cx="301680" cy="191448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81400" y="2736720"/>
            <a:ext cx="303120" cy="19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84520" y="2736720"/>
            <a:ext cx="301680" cy="1914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6200" y="2736720"/>
            <a:ext cx="303480" cy="191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89680" y="2736720"/>
            <a:ext cx="301320" cy="191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653000"/>
            <a:ext cx="31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1   2   3   4  5   6   7   8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1000" y="2736720"/>
            <a:ext cx="303480" cy="191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1440" y="4653000"/>
            <a:ext cx="6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3360" y="465300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98840" y="4653000"/>
            <a:ext cx="6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653000"/>
            <a:ext cx="6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4653000"/>
            <a:ext cx="6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46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5720" y="2233440"/>
            <a:ext cx="100080" cy="2419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65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95920" y="2736720"/>
            <a:ext cx="2624040" cy="191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activ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19960" y="2233440"/>
            <a:ext cx="100080" cy="2419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58080" y="130320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5720" y="4653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9592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55720" y="5373720"/>
            <a:ext cx="484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501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D   (Active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960" y="4653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720" y="5734080"/>
            <a:ext cx="746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6240" y="540864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71720" y="196380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02240" y="196380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84640" y="2736720"/>
            <a:ext cx="0" cy="191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57640" y="3475080"/>
            <a:ext cx="9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S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62520" y="3475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55800" y="2535120"/>
            <a:ext cx="32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84640" y="25351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184640" y="1930320"/>
            <a:ext cx="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95920" y="1930320"/>
            <a:ext cx="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55720" y="17733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55800" y="177336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19960" y="17733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420040" y="17733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2600" y="198900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55800" y="198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16840" y="198900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420040" y="198900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32720" y="465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762200" y="1930320"/>
            <a:ext cx="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65320" y="1930320"/>
            <a:ext cx="0" cy="80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60520" y="223200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61720" y="223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159228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87520" y="765000"/>
            <a:ext cx="43452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b011c"/>
                </a:solidFill>
                <a:latin typeface="Arial"/>
              </a:rPr>
              <a:t>Superframe structure</a:t>
            </a:r>
            <a:endParaRPr b="0" i="1" lang="en-US" sz="32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637000"/>
            <a:ext cx="3311640" cy="2087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63640" y="4868640"/>
            <a:ext cx="0" cy="93636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576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Arial"/>
              </a:rPr>
              <a:t>Slotted CSMA/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9EC3-56AE-49DA-BFE6-38582CE07A2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51280" y="836280"/>
            <a:ext cx="49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b011c"/>
                </a:solidFill>
                <a:latin typeface="Arial"/>
              </a:rPr>
              <a:t>Flow chart of the</a:t>
            </a:r>
            <a:br>
              <a:rPr sz="2800"/>
            </a:br>
            <a:r>
              <a:rPr b="1" lang="it-IT" sz="2800" spc="-1" strike="noStrike">
                <a:solidFill>
                  <a:srgbClr val="bb011c"/>
                </a:solidFill>
                <a:latin typeface="Arial"/>
              </a:rPr>
              <a:t>slotted CSMA/CA algorithm</a:t>
            </a:r>
            <a:endParaRPr b="0" i="1" lang="en-US" sz="28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997360"/>
            <a:ext cx="2952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number of channel access attem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contention window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backoff ex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5734080"/>
            <a:ext cx="1729080" cy="4921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ccess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6920" y="5732640"/>
            <a:ext cx="1657080" cy="504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ccess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52640" y="1989000"/>
            <a:ext cx="2000160" cy="503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lay for rand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[0, 2</a:t>
            </a:r>
            <a:r>
              <a:rPr b="0" lang="it-IT" sz="1400" spc="-1" strike="noStrike" baseline="30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- 1] 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68280" y="2854440"/>
            <a:ext cx="1584360" cy="287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form C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430440"/>
            <a:ext cx="1871640" cy="430200"/>
          </a:xfrm>
          <a:prstGeom prst="diamond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hannel id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5084640"/>
            <a:ext cx="1452600" cy="484200"/>
          </a:xfrm>
          <a:prstGeom prst="diamond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B &gt;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149720"/>
            <a:ext cx="2160360" cy="719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W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B = NB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E = min(BE+1,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aMaxB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5" idx="2"/>
            <a:endCxn id="176" idx="0"/>
          </p:cNvCxnSpPr>
          <p:nvPr/>
        </p:nvCxnSpPr>
        <p:spPr>
          <a:xfrm flipH="1">
            <a:off x="2052360" y="3149640"/>
            <a:ext cx="864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2"/>
            <a:endCxn id="175" idx="0"/>
          </p:cNvCxnSpPr>
          <p:nvPr/>
        </p:nvCxnSpPr>
        <p:spPr>
          <a:xfrm>
            <a:off x="2052720" y="2500200"/>
            <a:ext cx="8640" cy="347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82" idx="2"/>
            <a:endCxn id="174" idx="0"/>
          </p:cNvCxnSpPr>
          <p:nvPr/>
        </p:nvCxnSpPr>
        <p:spPr>
          <a:xfrm>
            <a:off x="2052360" y="1708200"/>
            <a:ext cx="1080" cy="27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851280" y="5005440"/>
            <a:ext cx="1368360" cy="511200"/>
          </a:xfrm>
          <a:prstGeom prst="diamond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W = 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4151160"/>
            <a:ext cx="1511280" cy="430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W = CW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3" idx="2"/>
            <a:endCxn id="173" idx="0"/>
          </p:cNvCxnSpPr>
          <p:nvPr/>
        </p:nvCxnSpPr>
        <p:spPr>
          <a:xfrm>
            <a:off x="4535280" y="5524200"/>
            <a:ext cx="1080" cy="200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4" idx="2"/>
            <a:endCxn id="183" idx="0"/>
          </p:cNvCxnSpPr>
          <p:nvPr/>
        </p:nvCxnSpPr>
        <p:spPr>
          <a:xfrm>
            <a:off x="4535280" y="4589280"/>
            <a:ext cx="1080" cy="408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7" idx="2"/>
            <a:endCxn id="172" idx="0"/>
          </p:cNvCxnSpPr>
          <p:nvPr/>
        </p:nvCxnSpPr>
        <p:spPr>
          <a:xfrm flipH="1">
            <a:off x="2052000" y="5576400"/>
            <a:ext cx="6840" cy="150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8" idx="2"/>
            <a:endCxn id="177" idx="0"/>
          </p:cNvCxnSpPr>
          <p:nvPr/>
        </p:nvCxnSpPr>
        <p:spPr>
          <a:xfrm>
            <a:off x="2052360" y="4876560"/>
            <a:ext cx="6840" cy="200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6" idx="2"/>
            <a:endCxn id="178" idx="0"/>
          </p:cNvCxnSpPr>
          <p:nvPr/>
        </p:nvCxnSpPr>
        <p:spPr>
          <a:xfrm>
            <a:off x="2052360" y="3868200"/>
            <a:ext cx="1080" cy="273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6" idx="3"/>
            <a:endCxn id="184" idx="0"/>
          </p:cNvCxnSpPr>
          <p:nvPr/>
        </p:nvCxnSpPr>
        <p:spPr>
          <a:xfrm>
            <a:off x="2995560" y="3646440"/>
            <a:ext cx="1540800" cy="49752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3059280" y="3284640"/>
            <a:ext cx="2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5373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7920" y="5013360"/>
            <a:ext cx="2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0560" y="3782880"/>
            <a:ext cx="2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1280" y="4797360"/>
            <a:ext cx="2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10560" y="53737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954000"/>
            <a:ext cx="1441440" cy="733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B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W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E=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macMin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77336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060640" y="2637000"/>
            <a:ext cx="3735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/>
          <p:nvPr/>
        </p:nvCxnSpPr>
        <p:spPr>
          <a:xfrm rot="10800000">
            <a:off x="323280" y="1772640"/>
            <a:ext cx="1000800" cy="35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3" idx="3"/>
            <a:endCxn id="198" idx="0"/>
          </p:cNvCxnSpPr>
          <p:nvPr/>
        </p:nvCxnSpPr>
        <p:spPr>
          <a:xfrm flipH="1" rot="10800000">
            <a:off x="5227200" y="2636280"/>
            <a:ext cx="570600" cy="2624760"/>
          </a:xfrm>
          <a:prstGeom prst="bentConnector4">
            <a:avLst>
              <a:gd name="adj1" fmla="val -9974"/>
              <a:gd name="adj2" fmla="val -2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2843280" y="285264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Arial"/>
              </a:rPr>
              <a:t>Clear Channel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2695680"/>
            <a:ext cx="301680" cy="301680"/>
          </a:xfrm>
          <a:custGeom>
            <a:avLst/>
            <a:gdLst>
              <a:gd name="textAreaLeft" fmla="*/ 0 w 301680"/>
              <a:gd name="textAreaRight" fmla="*/ 302040 w 3016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8481"/>
                <a:lnTo>
                  <a:pt x="0" y="10827"/>
                </a:lnTo>
                <a:arcTo wR="10800" hR="10800" stAng="10791519" swAng="1080848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31E1-8354-48DF-9381-6D46B690C3F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050920" y="907920"/>
            <a:ext cx="69138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564000" y="907200"/>
            <a:ext cx="5401080" cy="5250240"/>
            <a:chOff x="3564000" y="907200"/>
            <a:chExt cx="5401080" cy="5250240"/>
          </a:xfrm>
        </p:grpSpPr>
        <p:cxnSp>
          <p:nvCxnSpPr>
            <p:cNvPr id="205" name=""/>
            <p:cNvCxnSpPr/>
            <p:nvPr/>
          </p:nvCxnSpPr>
          <p:spPr>
            <a:xfrm>
              <a:off x="3564000" y="6150240"/>
              <a:ext cx="54014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endCxn id="203" idx="0"/>
            </p:cNvCxnSpPr>
            <p:nvPr/>
          </p:nvCxnSpPr>
          <p:spPr>
            <a:xfrm flipV="1">
              <a:off x="8964360" y="907200"/>
              <a:ext cx="1080" cy="5250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207" name=""/>
          <p:cNvSpPr/>
          <p:nvPr/>
        </p:nvSpPr>
        <p:spPr>
          <a:xfrm>
            <a:off x="179280" y="622440"/>
            <a:ext cx="792360" cy="502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,L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6021360"/>
                <a:ext cx="1843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79280" y="155736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340000" y="4149720"/>
                <a:ext cx="1839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3419280" y="1708200"/>
            <a:ext cx="4718160" cy="425880"/>
            <a:chOff x="3419280" y="1708200"/>
            <a:chExt cx="4718160" cy="425880"/>
          </a:xfrm>
        </p:grpSpPr>
        <p:cxnSp>
          <p:nvCxnSpPr>
            <p:cNvPr id="212" name=""/>
            <p:cNvCxnSpPr>
              <a:endCxn id="213" idx="0"/>
            </p:cNvCxnSpPr>
            <p:nvPr/>
          </p:nvCxnSpPr>
          <p:spPr>
            <a:xfrm>
              <a:off x="3419280" y="1708200"/>
              <a:ext cx="3708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endCxn id="215" idx="0"/>
            </p:cNvCxnSpPr>
            <p:nvPr/>
          </p:nvCxnSpPr>
          <p:spPr>
            <a:xfrm>
              <a:off x="3419640" y="1708200"/>
              <a:ext cx="111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endCxn id="217" idx="0"/>
            </p:cNvCxnSpPr>
            <p:nvPr/>
          </p:nvCxnSpPr>
          <p:spPr>
            <a:xfrm>
              <a:off x="3419280" y="1708200"/>
              <a:ext cx="219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endCxn id="219" idx="0"/>
            </p:cNvCxnSpPr>
            <p:nvPr/>
          </p:nvCxnSpPr>
          <p:spPr>
            <a:xfrm>
              <a:off x="3419640" y="1708200"/>
              <a:ext cx="363744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endCxn id="221" idx="0"/>
            </p:cNvCxnSpPr>
            <p:nvPr/>
          </p:nvCxnSpPr>
          <p:spPr>
            <a:xfrm>
              <a:off x="3419280" y="1708200"/>
              <a:ext cx="471852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2" name=""/>
          <p:cNvGrpSpPr/>
          <p:nvPr/>
        </p:nvGrpSpPr>
        <p:grpSpPr>
          <a:xfrm>
            <a:off x="3779640" y="4292640"/>
            <a:ext cx="4718160" cy="425880"/>
            <a:chOff x="3779640" y="4292640"/>
            <a:chExt cx="4718160" cy="425880"/>
          </a:xfrm>
        </p:grpSpPr>
        <p:cxnSp>
          <p:nvCxnSpPr>
            <p:cNvPr id="223" name=""/>
            <p:cNvCxnSpPr/>
            <p:nvPr/>
          </p:nvCxnSpPr>
          <p:spPr>
            <a:xfrm>
              <a:off x="3779640" y="4292640"/>
              <a:ext cx="3708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3780000" y="4292640"/>
              <a:ext cx="111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/>
            <p:nvPr/>
          </p:nvCxnSpPr>
          <p:spPr>
            <a:xfrm>
              <a:off x="3779640" y="4292640"/>
              <a:ext cx="219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/>
            <p:nvPr/>
          </p:nvCxnSpPr>
          <p:spPr>
            <a:xfrm>
              <a:off x="3780000" y="4292640"/>
              <a:ext cx="363744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/>
            <p:nvPr/>
          </p:nvCxnSpPr>
          <p:spPr>
            <a:xfrm>
              <a:off x="3779640" y="4292640"/>
              <a:ext cx="471852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9" idx="4"/>
          </p:cNvCxnSpPr>
          <p:nvPr/>
        </p:nvCxnSpPr>
        <p:spPr>
          <a:xfrm>
            <a:off x="2736720" y="3914640"/>
            <a:ext cx="104544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31" idx="4"/>
          </p:cNvCxnSpPr>
          <p:nvPr/>
        </p:nvCxnSpPr>
        <p:spPr>
          <a:xfrm>
            <a:off x="1584360" y="3914640"/>
            <a:ext cx="212472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33" idx="0"/>
          </p:cNvCxnSpPr>
          <p:nvPr/>
        </p:nvCxnSpPr>
        <p:spPr>
          <a:xfrm>
            <a:off x="2050920" y="899640"/>
            <a:ext cx="1369440" cy="801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09" idx="4"/>
          </p:cNvCxnSpPr>
          <p:nvPr/>
        </p:nvCxnSpPr>
        <p:spPr>
          <a:xfrm>
            <a:off x="576000" y="2068560"/>
            <a:ext cx="37080" cy="366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1114560" y="450864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         …        …         …          …      …      …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843280" y="1773360"/>
                <a:ext cx="4428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203640" y="4365720"/>
                <a:ext cx="44280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24000" y="907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39640" y="134136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2800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692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2000" y="2637000"/>
                <a:ext cx="1843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3640" y="3908520"/>
                <a:ext cx="18396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79640" y="3408480"/>
                <a:ext cx="409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908000" y="2182680"/>
                <a:ext cx="409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700360" y="2900520"/>
                <a:ext cx="1839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5640" y="3375000"/>
                <a:ext cx="41436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06320" y="2152800"/>
                <a:ext cx="4096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11600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692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564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672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34034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48000" y="34034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29" idx="2"/>
            <a:endCxn id="231" idx="6"/>
          </p:cNvCxnSpPr>
          <p:nvPr/>
        </p:nvCxnSpPr>
        <p:spPr>
          <a:xfrm flipH="1">
            <a:off x="1986840" y="3655800"/>
            <a:ext cx="345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1" idx="2"/>
            <a:endCxn id="229" idx="6"/>
          </p:cNvCxnSpPr>
          <p:nvPr/>
        </p:nvCxnSpPr>
        <p:spPr>
          <a:xfrm flipH="1">
            <a:off x="3139560" y="3655800"/>
            <a:ext cx="2008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2"/>
            <a:endCxn id="251" idx="6"/>
          </p:cNvCxnSpPr>
          <p:nvPr/>
        </p:nvCxnSpPr>
        <p:spPr>
          <a:xfrm flipH="1">
            <a:off x="4147920" y="3655800"/>
            <a:ext cx="27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3" idx="2"/>
            <a:endCxn id="252" idx="6"/>
          </p:cNvCxnSpPr>
          <p:nvPr/>
        </p:nvCxnSpPr>
        <p:spPr>
          <a:xfrm flipH="1">
            <a:off x="5226840" y="3655800"/>
            <a:ext cx="273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0" idx="2"/>
            <a:endCxn id="241" idx="6"/>
          </p:cNvCxnSpPr>
          <p:nvPr/>
        </p:nvCxnSpPr>
        <p:spPr>
          <a:xfrm flipH="1">
            <a:off x="7746120" y="3655800"/>
            <a:ext cx="273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21" idx="2"/>
            <a:endCxn id="219" idx="6"/>
          </p:cNvCxnSpPr>
          <p:nvPr/>
        </p:nvCxnSpPr>
        <p:spPr>
          <a:xfrm flipH="1">
            <a:off x="7675560" y="2433240"/>
            <a:ext cx="273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17" idx="2"/>
            <a:endCxn id="215" idx="6"/>
          </p:cNvCxnSpPr>
          <p:nvPr/>
        </p:nvCxnSpPr>
        <p:spPr>
          <a:xfrm flipH="1">
            <a:off x="5155920" y="2433240"/>
            <a:ext cx="27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15" idx="2"/>
            <a:endCxn id="213" idx="6"/>
          </p:cNvCxnSpPr>
          <p:nvPr/>
        </p:nvCxnSpPr>
        <p:spPr>
          <a:xfrm flipH="1">
            <a:off x="4147560" y="2433240"/>
            <a:ext cx="2005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13" idx="2"/>
            <a:endCxn id="250" idx="6"/>
          </p:cNvCxnSpPr>
          <p:nvPr/>
        </p:nvCxnSpPr>
        <p:spPr>
          <a:xfrm flipH="1">
            <a:off x="3067200" y="2433240"/>
            <a:ext cx="273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0" idx="2"/>
            <a:endCxn id="249" idx="6"/>
          </p:cNvCxnSpPr>
          <p:nvPr/>
        </p:nvCxnSpPr>
        <p:spPr>
          <a:xfrm flipH="1">
            <a:off x="1915920" y="2433240"/>
            <a:ext cx="3434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4" name=""/>
          <p:cNvGrpSpPr/>
          <p:nvPr/>
        </p:nvGrpSpPr>
        <p:grpSpPr>
          <a:xfrm>
            <a:off x="3634920" y="2977920"/>
            <a:ext cx="4718160" cy="425520"/>
            <a:chOff x="3634920" y="2977920"/>
            <a:chExt cx="4718160" cy="425520"/>
          </a:xfrm>
        </p:grpSpPr>
        <p:cxnSp>
          <p:nvCxnSpPr>
            <p:cNvPr id="265" name=""/>
            <p:cNvCxnSpPr/>
            <p:nvPr/>
          </p:nvCxnSpPr>
          <p:spPr>
            <a:xfrm>
              <a:off x="3634920" y="2977920"/>
              <a:ext cx="3708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>
              <a:off x="3635280" y="2977920"/>
              <a:ext cx="111780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3634920" y="2977920"/>
              <a:ext cx="219780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>
              <a:off x="3635280" y="2977920"/>
              <a:ext cx="363744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>
              <a:off x="3634920" y="2977920"/>
              <a:ext cx="471852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70" name=""/>
          <p:cNvCxnSpPr>
            <a:stCxn id="250" idx="4"/>
          </p:cNvCxnSpPr>
          <p:nvPr/>
        </p:nvCxnSpPr>
        <p:spPr>
          <a:xfrm>
            <a:off x="2663640" y="2692440"/>
            <a:ext cx="1043640" cy="280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49" idx="4"/>
          </p:cNvCxnSpPr>
          <p:nvPr/>
        </p:nvCxnSpPr>
        <p:spPr>
          <a:xfrm>
            <a:off x="1512720" y="2692440"/>
            <a:ext cx="2123280" cy="280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 flipH="1">
            <a:off x="611280" y="239544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1280" y="3621240"/>
            <a:ext cx="57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2179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34513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132000" y="3044880"/>
                <a:ext cx="4273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211640" y="2125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812000" y="2179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19640" y="2179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211640" y="333216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364000" y="333216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7883640" y="3403440"/>
                <a:ext cx="122040" cy="1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 flipH="1">
            <a:off x="6659640" y="239544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732360" y="3619440"/>
            <a:ext cx="215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227640" y="2395440"/>
            <a:ext cx="14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300720" y="361944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12000" y="5013000"/>
            <a:ext cx="8281080" cy="1145160"/>
            <a:chOff x="612000" y="5013000"/>
            <a:chExt cx="8281080" cy="1145160"/>
          </a:xfrm>
        </p:grpSpPr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41160" y="5378400"/>
                  <a:ext cx="4143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2987640" y="5832360"/>
                  <a:ext cx="18396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836720" y="5441760"/>
                  <a:ext cx="40932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"/>
            <p:cNvSpPr/>
            <p:nvPr/>
          </p:nvSpPr>
          <p:spPr>
            <a:xfrm>
              <a:off x="104436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, 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438520"/>
              <a:ext cx="79200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7080" y="5438520"/>
              <a:ext cx="79200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1308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2108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32360" y="5438520"/>
              <a:ext cx="93672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56360" y="5438520"/>
              <a:ext cx="93672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3" idx="2"/>
              <a:endCxn id="291" idx="6"/>
            </p:cNvCxnSpPr>
            <p:nvPr/>
          </p:nvCxnSpPr>
          <p:spPr>
            <a:xfrm flipH="1">
              <a:off x="1843920" y="5690880"/>
              <a:ext cx="3452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2" idx="2"/>
              <a:endCxn id="293" idx="6"/>
            </p:cNvCxnSpPr>
            <p:nvPr/>
          </p:nvCxnSpPr>
          <p:spPr>
            <a:xfrm flipH="1">
              <a:off x="2996640" y="5690880"/>
              <a:ext cx="200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4" idx="2"/>
              <a:endCxn id="292" idx="6"/>
            </p:cNvCxnSpPr>
            <p:nvPr/>
          </p:nvCxnSpPr>
          <p:spPr>
            <a:xfrm flipH="1">
              <a:off x="4004640" y="5690880"/>
              <a:ext cx="200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2"/>
              <a:endCxn id="294" idx="6"/>
            </p:cNvCxnSpPr>
            <p:nvPr/>
          </p:nvCxnSpPr>
          <p:spPr>
            <a:xfrm flipH="1">
              <a:off x="5012640" y="5690880"/>
              <a:ext cx="20052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7" idx="2"/>
              <a:endCxn id="296" idx="6"/>
            </p:cNvCxnSpPr>
            <p:nvPr/>
          </p:nvCxnSpPr>
          <p:spPr>
            <a:xfrm flipH="1">
              <a:off x="7676640" y="5690880"/>
              <a:ext cx="27216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03" name=""/>
            <p:cNvGrpSpPr/>
            <p:nvPr/>
          </p:nvGrpSpPr>
          <p:grpSpPr>
            <a:xfrm>
              <a:off x="3526920" y="5013000"/>
              <a:ext cx="4718160" cy="425520"/>
              <a:chOff x="3526920" y="5013000"/>
              <a:chExt cx="4718160" cy="425520"/>
            </a:xfrm>
          </p:grpSpPr>
          <p:cxnSp>
            <p:nvCxnSpPr>
              <p:cNvPr id="304" name=""/>
              <p:cNvCxnSpPr/>
              <p:nvPr/>
            </p:nvCxnSpPr>
            <p:spPr>
              <a:xfrm>
                <a:off x="3526920" y="5013000"/>
                <a:ext cx="3708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5" name=""/>
              <p:cNvCxnSpPr/>
              <p:nvPr/>
            </p:nvCxnSpPr>
            <p:spPr>
              <a:xfrm>
                <a:off x="3527280" y="5013000"/>
                <a:ext cx="111780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6" name=""/>
              <p:cNvCxnSpPr/>
              <p:nvPr/>
            </p:nvCxnSpPr>
            <p:spPr>
              <a:xfrm>
                <a:off x="3526920" y="5013000"/>
                <a:ext cx="219780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"/>
              <p:cNvCxnSpPr/>
              <p:nvPr/>
            </p:nvCxnSpPr>
            <p:spPr>
              <a:xfrm>
                <a:off x="3527280" y="5013000"/>
                <a:ext cx="363744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"/>
              <p:cNvCxnSpPr/>
              <p:nvPr/>
            </p:nvCxnSpPr>
            <p:spPr>
              <a:xfrm>
                <a:off x="3526920" y="5013000"/>
                <a:ext cx="471852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9" name=""/>
            <p:cNvCxnSpPr>
              <a:stCxn id="293" idx="4"/>
            </p:cNvCxnSpPr>
            <p:nvPr/>
          </p:nvCxnSpPr>
          <p:spPr>
            <a:xfrm>
              <a:off x="2593440" y="5949720"/>
              <a:ext cx="1043640" cy="208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1" idx="4"/>
            </p:cNvCxnSpPr>
            <p:nvPr/>
          </p:nvCxnSpPr>
          <p:spPr>
            <a:xfrm>
              <a:off x="1441440" y="5949720"/>
              <a:ext cx="2196000" cy="208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/>
            <p:nvPr/>
          </p:nvCxnSpPr>
          <p:spPr>
            <a:xfrm flipH="1">
              <a:off x="612000" y="5725800"/>
              <a:ext cx="41652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6084720" y="551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2987640" y="5078160"/>
                  <a:ext cx="47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068720" y="5365800"/>
                  <a:ext cx="1220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5076720" y="5365800"/>
                  <a:ext cx="1224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40720" y="5437080"/>
                  <a:ext cx="1220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 flipH="1">
              <a:off x="6445080" y="565308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1640" y="5653080"/>
              <a:ext cx="144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971640" y="907920"/>
            <a:ext cx="10792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8532720" y="4292640"/>
                <a:ext cx="327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08000" y="1341360"/>
                <a:ext cx="12204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24000" y="944640"/>
            <a:ext cx="48243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b011c"/>
                </a:solidFill>
                <a:latin typeface="Arial"/>
              </a:rPr>
              <a:t>Markov chain model of </a:t>
            </a:r>
            <a:br>
              <a:rPr sz="2800"/>
            </a:br>
            <a:r>
              <a:rPr b="1" lang="it-IT" sz="2800" spc="-1" strike="noStrike">
                <a:solidFill>
                  <a:srgbClr val="bb011c"/>
                </a:solidFill>
                <a:latin typeface="Arial"/>
              </a:rPr>
              <a:t>slotted CSMA/CA</a:t>
            </a:r>
            <a:endParaRPr b="0" i="1" lang="en-US" sz="28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1916280"/>
            <a:ext cx="5689440" cy="93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141720"/>
            <a:ext cx="5688000" cy="1008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5229360"/>
            <a:ext cx="5832720" cy="93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" y="406440"/>
            <a:ext cx="1044720" cy="19429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4360" y="407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ac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9900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2060640"/>
            <a:ext cx="936360" cy="720720"/>
          </a:xfrm>
          <a:prstGeom prst="ellipse">
            <a:avLst/>
          </a:prstGeom>
          <a:noFill/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2060640"/>
            <a:ext cx="936720" cy="720720"/>
          </a:xfrm>
          <a:prstGeom prst="ellipse">
            <a:avLst/>
          </a:prstGeom>
          <a:noFill/>
          <a:ln w="28440">
            <a:solidFill>
              <a:srgbClr val="cc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6920" y="3284640"/>
            <a:ext cx="936720" cy="720720"/>
          </a:xfrm>
          <a:prstGeom prst="ellipse">
            <a:avLst/>
          </a:prstGeom>
          <a:noFill/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24000" y="5373720"/>
            <a:ext cx="936720" cy="647640"/>
          </a:xfrm>
          <a:prstGeom prst="ellipse">
            <a:avLst/>
          </a:prstGeom>
          <a:noFill/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373720"/>
            <a:ext cx="936360" cy="647640"/>
          </a:xfrm>
          <a:prstGeom prst="ellipse">
            <a:avLst/>
          </a:prstGeom>
          <a:noFill/>
          <a:ln w="28440">
            <a:solidFill>
              <a:srgbClr val="cc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3284640"/>
            <a:ext cx="936720" cy="720720"/>
          </a:xfrm>
          <a:prstGeom prst="ellipse">
            <a:avLst/>
          </a:prstGeom>
          <a:noFill/>
          <a:ln w="28440">
            <a:solidFill>
              <a:srgbClr val="cc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71640" y="1844640"/>
            <a:ext cx="2232000" cy="1152720"/>
          </a:xfrm>
          <a:prstGeom prst="ellipse">
            <a:avLst/>
          </a:prstGeom>
          <a:noFill/>
          <a:ln w="28440">
            <a:solidFill>
              <a:srgbClr val="ea3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3068640"/>
            <a:ext cx="2232000" cy="1152360"/>
          </a:xfrm>
          <a:prstGeom prst="ellipse">
            <a:avLst/>
          </a:prstGeom>
          <a:noFill/>
          <a:ln w="28440">
            <a:solidFill>
              <a:srgbClr val="ea3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5084640"/>
            <a:ext cx="2232000" cy="1152720"/>
          </a:xfrm>
          <a:prstGeom prst="ellipse">
            <a:avLst/>
          </a:prstGeom>
          <a:noFill/>
          <a:ln w="28440">
            <a:solidFill>
              <a:srgbClr val="ea3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4149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ff"/>
                </a:solidFill>
                <a:latin typeface="Arial"/>
              </a:rPr>
              <a:t>CCA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4149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ff"/>
                </a:solidFill>
                <a:latin typeface="Arial"/>
              </a:rPr>
              <a:t>CC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8920" y="981000"/>
            <a:ext cx="75610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 K. Patro, M. Raina, V. Ganapathy, M. Shamaiah, and C. Thejaswi, “Analysis and improvement of contention access protocol in IEEE 802.15.4 star network”,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c of IEEE Int.l Conference on Mobile Adhoc and Sensor Systems (MASS’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F4B0-D0AA-4665-B996-23FDCA2056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050920" y="907920"/>
            <a:ext cx="69138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64000" y="907200"/>
            <a:ext cx="5401080" cy="5250240"/>
            <a:chOff x="3564000" y="907200"/>
            <a:chExt cx="5401080" cy="5250240"/>
          </a:xfrm>
        </p:grpSpPr>
        <p:cxnSp>
          <p:nvCxnSpPr>
            <p:cNvPr id="343" name=""/>
            <p:cNvCxnSpPr/>
            <p:nvPr/>
          </p:nvCxnSpPr>
          <p:spPr>
            <a:xfrm>
              <a:off x="3564000" y="6150240"/>
              <a:ext cx="54014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endCxn id="341" idx="0"/>
            </p:cNvCxnSpPr>
            <p:nvPr/>
          </p:nvCxnSpPr>
          <p:spPr>
            <a:xfrm flipV="1">
              <a:off x="8964360" y="907200"/>
              <a:ext cx="1080" cy="5250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345" name=""/>
          <p:cNvSpPr/>
          <p:nvPr/>
        </p:nvSpPr>
        <p:spPr>
          <a:xfrm>
            <a:off x="179280" y="622440"/>
            <a:ext cx="792360" cy="502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,L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763640" y="6021360"/>
                <a:ext cx="1843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79280" y="155736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268360" y="4076640"/>
                <a:ext cx="1843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419280" y="1708200"/>
            <a:ext cx="4718160" cy="425880"/>
            <a:chOff x="3419280" y="1708200"/>
            <a:chExt cx="4718160" cy="425880"/>
          </a:xfrm>
        </p:grpSpPr>
        <p:cxnSp>
          <p:nvCxnSpPr>
            <p:cNvPr id="350" name=""/>
            <p:cNvCxnSpPr>
              <a:endCxn id="351" idx="0"/>
            </p:cNvCxnSpPr>
            <p:nvPr/>
          </p:nvCxnSpPr>
          <p:spPr>
            <a:xfrm>
              <a:off x="3419280" y="1708200"/>
              <a:ext cx="3708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2" name=""/>
            <p:cNvCxnSpPr>
              <a:endCxn id="353" idx="0"/>
            </p:cNvCxnSpPr>
            <p:nvPr/>
          </p:nvCxnSpPr>
          <p:spPr>
            <a:xfrm>
              <a:off x="3419640" y="1708200"/>
              <a:ext cx="111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endCxn id="355" idx="0"/>
            </p:cNvCxnSpPr>
            <p:nvPr/>
          </p:nvCxnSpPr>
          <p:spPr>
            <a:xfrm>
              <a:off x="3419280" y="1708200"/>
              <a:ext cx="219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endCxn id="357" idx="0"/>
            </p:cNvCxnSpPr>
            <p:nvPr/>
          </p:nvCxnSpPr>
          <p:spPr>
            <a:xfrm>
              <a:off x="3419640" y="1708200"/>
              <a:ext cx="363744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endCxn id="359" idx="0"/>
            </p:cNvCxnSpPr>
            <p:nvPr/>
          </p:nvCxnSpPr>
          <p:spPr>
            <a:xfrm>
              <a:off x="3419280" y="1708200"/>
              <a:ext cx="471852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0" name=""/>
          <p:cNvGrpSpPr/>
          <p:nvPr/>
        </p:nvGrpSpPr>
        <p:grpSpPr>
          <a:xfrm>
            <a:off x="3779640" y="4292640"/>
            <a:ext cx="4718160" cy="425880"/>
            <a:chOff x="3779640" y="4292640"/>
            <a:chExt cx="4718160" cy="425880"/>
          </a:xfrm>
        </p:grpSpPr>
        <p:cxnSp>
          <p:nvCxnSpPr>
            <p:cNvPr id="361" name=""/>
            <p:cNvCxnSpPr/>
            <p:nvPr/>
          </p:nvCxnSpPr>
          <p:spPr>
            <a:xfrm>
              <a:off x="3779640" y="4292640"/>
              <a:ext cx="3708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/>
            <p:nvPr/>
          </p:nvCxnSpPr>
          <p:spPr>
            <a:xfrm>
              <a:off x="3780000" y="4292640"/>
              <a:ext cx="111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3" name=""/>
            <p:cNvCxnSpPr/>
            <p:nvPr/>
          </p:nvCxnSpPr>
          <p:spPr>
            <a:xfrm>
              <a:off x="3779640" y="4292640"/>
              <a:ext cx="219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/>
            <p:nvPr/>
          </p:nvCxnSpPr>
          <p:spPr>
            <a:xfrm>
              <a:off x="3780000" y="4292640"/>
              <a:ext cx="363744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"/>
            <p:cNvCxnSpPr/>
            <p:nvPr/>
          </p:nvCxnSpPr>
          <p:spPr>
            <a:xfrm>
              <a:off x="3779640" y="4292640"/>
              <a:ext cx="471852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66" name=""/>
          <p:cNvCxnSpPr>
            <a:stCxn id="367" idx="4"/>
          </p:cNvCxnSpPr>
          <p:nvPr/>
        </p:nvCxnSpPr>
        <p:spPr>
          <a:xfrm>
            <a:off x="2736720" y="3914640"/>
            <a:ext cx="104544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9" idx="4"/>
          </p:cNvCxnSpPr>
          <p:nvPr/>
        </p:nvCxnSpPr>
        <p:spPr>
          <a:xfrm>
            <a:off x="1584360" y="3914640"/>
            <a:ext cx="212472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71" idx="0"/>
          </p:cNvCxnSpPr>
          <p:nvPr/>
        </p:nvCxnSpPr>
        <p:spPr>
          <a:xfrm>
            <a:off x="2050920" y="899640"/>
            <a:ext cx="1369440" cy="801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47" idx="4"/>
          </p:cNvCxnSpPr>
          <p:nvPr/>
        </p:nvCxnSpPr>
        <p:spPr>
          <a:xfrm>
            <a:off x="576000" y="2068560"/>
            <a:ext cx="37080" cy="366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114560" y="462744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         …        …         …          …      …      …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843280" y="1773360"/>
                <a:ext cx="4428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203640" y="4365720"/>
                <a:ext cx="44280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24000" y="907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9640" y="134136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2800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4692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2000" y="2637000"/>
                <a:ext cx="1843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203640" y="3908520"/>
                <a:ext cx="18396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979640" y="3408480"/>
                <a:ext cx="409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908000" y="2182680"/>
                <a:ext cx="409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700360" y="2900520"/>
                <a:ext cx="1839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55640" y="3375000"/>
                <a:ext cx="41436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706320" y="2152800"/>
                <a:ext cx="4096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11600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4800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7564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3564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95672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87280" y="34034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8000" y="34034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4000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2764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67" idx="2"/>
            <a:endCxn id="369" idx="6"/>
          </p:cNvCxnSpPr>
          <p:nvPr/>
        </p:nvCxnSpPr>
        <p:spPr>
          <a:xfrm flipH="1">
            <a:off x="1986840" y="3655800"/>
            <a:ext cx="345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89" idx="2"/>
            <a:endCxn id="367" idx="6"/>
          </p:cNvCxnSpPr>
          <p:nvPr/>
        </p:nvCxnSpPr>
        <p:spPr>
          <a:xfrm flipH="1">
            <a:off x="3139560" y="3655800"/>
            <a:ext cx="2008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90" idx="2"/>
            <a:endCxn id="389" idx="6"/>
          </p:cNvCxnSpPr>
          <p:nvPr/>
        </p:nvCxnSpPr>
        <p:spPr>
          <a:xfrm flipH="1">
            <a:off x="4147920" y="3655800"/>
            <a:ext cx="27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91" idx="2"/>
            <a:endCxn id="390" idx="6"/>
          </p:cNvCxnSpPr>
          <p:nvPr/>
        </p:nvCxnSpPr>
        <p:spPr>
          <a:xfrm flipH="1">
            <a:off x="5226840" y="3655800"/>
            <a:ext cx="273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2"/>
            <a:endCxn id="379" idx="6"/>
          </p:cNvCxnSpPr>
          <p:nvPr/>
        </p:nvCxnSpPr>
        <p:spPr>
          <a:xfrm flipH="1">
            <a:off x="7746120" y="3655800"/>
            <a:ext cx="273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59" idx="2"/>
            <a:endCxn id="357" idx="6"/>
          </p:cNvCxnSpPr>
          <p:nvPr/>
        </p:nvCxnSpPr>
        <p:spPr>
          <a:xfrm flipH="1">
            <a:off x="7675560" y="2433240"/>
            <a:ext cx="273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55" idx="2"/>
            <a:endCxn id="353" idx="6"/>
          </p:cNvCxnSpPr>
          <p:nvPr/>
        </p:nvCxnSpPr>
        <p:spPr>
          <a:xfrm flipH="1">
            <a:off x="5155920" y="2433240"/>
            <a:ext cx="27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53" idx="2"/>
            <a:endCxn id="351" idx="6"/>
          </p:cNvCxnSpPr>
          <p:nvPr/>
        </p:nvCxnSpPr>
        <p:spPr>
          <a:xfrm flipH="1">
            <a:off x="4147560" y="2433240"/>
            <a:ext cx="2005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51" idx="2"/>
            <a:endCxn id="388" idx="6"/>
          </p:cNvCxnSpPr>
          <p:nvPr/>
        </p:nvCxnSpPr>
        <p:spPr>
          <a:xfrm flipH="1">
            <a:off x="3067200" y="2433240"/>
            <a:ext cx="273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88" idx="2"/>
            <a:endCxn id="387" idx="6"/>
          </p:cNvCxnSpPr>
          <p:nvPr/>
        </p:nvCxnSpPr>
        <p:spPr>
          <a:xfrm flipH="1">
            <a:off x="1915920" y="2433240"/>
            <a:ext cx="3434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02" name=""/>
          <p:cNvGrpSpPr/>
          <p:nvPr/>
        </p:nvGrpSpPr>
        <p:grpSpPr>
          <a:xfrm>
            <a:off x="3634920" y="2977920"/>
            <a:ext cx="4718160" cy="425520"/>
            <a:chOff x="3634920" y="2977920"/>
            <a:chExt cx="4718160" cy="425520"/>
          </a:xfrm>
        </p:grpSpPr>
        <p:cxnSp>
          <p:nvCxnSpPr>
            <p:cNvPr id="403" name=""/>
            <p:cNvCxnSpPr/>
            <p:nvPr/>
          </p:nvCxnSpPr>
          <p:spPr>
            <a:xfrm>
              <a:off x="3634920" y="2977920"/>
              <a:ext cx="3708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/>
            <p:nvPr/>
          </p:nvCxnSpPr>
          <p:spPr>
            <a:xfrm>
              <a:off x="3635280" y="2977920"/>
              <a:ext cx="111780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5" name=""/>
            <p:cNvCxnSpPr/>
            <p:nvPr/>
          </p:nvCxnSpPr>
          <p:spPr>
            <a:xfrm>
              <a:off x="3634920" y="2977920"/>
              <a:ext cx="219780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/>
            <p:nvPr/>
          </p:nvCxnSpPr>
          <p:spPr>
            <a:xfrm>
              <a:off x="3635280" y="2977920"/>
              <a:ext cx="363744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"/>
            <p:cNvCxnSpPr/>
            <p:nvPr/>
          </p:nvCxnSpPr>
          <p:spPr>
            <a:xfrm>
              <a:off x="3634920" y="2977920"/>
              <a:ext cx="471852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08" name=""/>
          <p:cNvCxnSpPr>
            <a:stCxn id="388" idx="4"/>
          </p:cNvCxnSpPr>
          <p:nvPr/>
        </p:nvCxnSpPr>
        <p:spPr>
          <a:xfrm>
            <a:off x="2663640" y="2692440"/>
            <a:ext cx="1043640" cy="280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87" idx="4"/>
          </p:cNvCxnSpPr>
          <p:nvPr/>
        </p:nvCxnSpPr>
        <p:spPr>
          <a:xfrm>
            <a:off x="1512720" y="2692440"/>
            <a:ext cx="2123280" cy="280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 flipH="1">
            <a:off x="611280" y="239544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11280" y="3621240"/>
            <a:ext cx="57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00720" y="2179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72360" y="34513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132000" y="3044880"/>
                <a:ext cx="4273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211640" y="2125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7812000" y="2179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219640" y="2179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211640" y="333216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364000" y="333216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883640" y="3403440"/>
                <a:ext cx="122040" cy="1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 flipH="1">
            <a:off x="6659640" y="239544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732360" y="3619440"/>
            <a:ext cx="215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227640" y="2395440"/>
            <a:ext cx="14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300720" y="361944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12000" y="5013000"/>
            <a:ext cx="8281080" cy="1145160"/>
            <a:chOff x="612000" y="5013000"/>
            <a:chExt cx="8281080" cy="1145160"/>
          </a:xfrm>
        </p:grpSpPr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641160" y="5378400"/>
                  <a:ext cx="4143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2987640" y="5832360"/>
                  <a:ext cx="18396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1836720" y="5441760"/>
                  <a:ext cx="40932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104436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, 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5080" y="5438520"/>
              <a:ext cx="79200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97080" y="5438520"/>
              <a:ext cx="79200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308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2108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32360" y="5438520"/>
              <a:ext cx="93672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56360" y="5438520"/>
              <a:ext cx="93672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6" name=""/>
            <p:cNvCxnSpPr>
              <a:stCxn id="431" idx="2"/>
              <a:endCxn id="429" idx="6"/>
            </p:cNvCxnSpPr>
            <p:nvPr/>
          </p:nvCxnSpPr>
          <p:spPr>
            <a:xfrm flipH="1">
              <a:off x="1843920" y="5690880"/>
              <a:ext cx="3452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0" idx="2"/>
              <a:endCxn id="431" idx="6"/>
            </p:cNvCxnSpPr>
            <p:nvPr/>
          </p:nvCxnSpPr>
          <p:spPr>
            <a:xfrm flipH="1">
              <a:off x="2996640" y="5690880"/>
              <a:ext cx="200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"/>
            <p:cNvCxnSpPr>
              <a:stCxn id="432" idx="2"/>
              <a:endCxn id="430" idx="6"/>
            </p:cNvCxnSpPr>
            <p:nvPr/>
          </p:nvCxnSpPr>
          <p:spPr>
            <a:xfrm flipH="1">
              <a:off x="4004640" y="5690880"/>
              <a:ext cx="200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"/>
            <p:cNvCxnSpPr>
              <a:stCxn id="433" idx="2"/>
              <a:endCxn id="432" idx="6"/>
            </p:cNvCxnSpPr>
            <p:nvPr/>
          </p:nvCxnSpPr>
          <p:spPr>
            <a:xfrm flipH="1">
              <a:off x="5012640" y="5690880"/>
              <a:ext cx="20052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"/>
            <p:cNvCxnSpPr>
              <a:stCxn id="435" idx="2"/>
              <a:endCxn id="434" idx="6"/>
            </p:cNvCxnSpPr>
            <p:nvPr/>
          </p:nvCxnSpPr>
          <p:spPr>
            <a:xfrm flipH="1">
              <a:off x="7676640" y="5690880"/>
              <a:ext cx="27216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41" name=""/>
            <p:cNvGrpSpPr/>
            <p:nvPr/>
          </p:nvGrpSpPr>
          <p:grpSpPr>
            <a:xfrm>
              <a:off x="3526920" y="5013000"/>
              <a:ext cx="4718160" cy="425520"/>
              <a:chOff x="3526920" y="5013000"/>
              <a:chExt cx="4718160" cy="425520"/>
            </a:xfrm>
          </p:grpSpPr>
          <p:cxnSp>
            <p:nvCxnSpPr>
              <p:cNvPr id="442" name=""/>
              <p:cNvCxnSpPr/>
              <p:nvPr/>
            </p:nvCxnSpPr>
            <p:spPr>
              <a:xfrm>
                <a:off x="3526920" y="5013000"/>
                <a:ext cx="3708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"/>
              <p:cNvCxnSpPr/>
              <p:nvPr/>
            </p:nvCxnSpPr>
            <p:spPr>
              <a:xfrm>
                <a:off x="3527280" y="5013000"/>
                <a:ext cx="111780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"/>
              <p:cNvCxnSpPr/>
              <p:nvPr/>
            </p:nvCxnSpPr>
            <p:spPr>
              <a:xfrm>
                <a:off x="3526920" y="5013000"/>
                <a:ext cx="219780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5" name=""/>
              <p:cNvCxnSpPr/>
              <p:nvPr/>
            </p:nvCxnSpPr>
            <p:spPr>
              <a:xfrm>
                <a:off x="3527280" y="5013000"/>
                <a:ext cx="363744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6" name=""/>
              <p:cNvCxnSpPr/>
              <p:nvPr/>
            </p:nvCxnSpPr>
            <p:spPr>
              <a:xfrm>
                <a:off x="3526920" y="5013000"/>
                <a:ext cx="471852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447" name=""/>
            <p:cNvCxnSpPr>
              <a:stCxn id="431" idx="4"/>
            </p:cNvCxnSpPr>
            <p:nvPr/>
          </p:nvCxnSpPr>
          <p:spPr>
            <a:xfrm>
              <a:off x="2593440" y="5949720"/>
              <a:ext cx="1043640" cy="208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29" idx="4"/>
            </p:cNvCxnSpPr>
            <p:nvPr/>
          </p:nvCxnSpPr>
          <p:spPr>
            <a:xfrm>
              <a:off x="1441440" y="5949720"/>
              <a:ext cx="2196000" cy="208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/>
            <p:nvPr/>
          </p:nvCxnSpPr>
          <p:spPr>
            <a:xfrm flipH="1">
              <a:off x="612000" y="5725800"/>
              <a:ext cx="41652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0" name=""/>
            <p:cNvSpPr/>
            <p:nvPr/>
          </p:nvSpPr>
          <p:spPr>
            <a:xfrm>
              <a:off x="6084720" y="551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987640" y="5078160"/>
                  <a:ext cx="47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4068720" y="5365800"/>
                  <a:ext cx="1220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5076720" y="5365800"/>
                  <a:ext cx="1224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7740720" y="5437080"/>
                  <a:ext cx="1220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5" name=""/>
            <p:cNvSpPr/>
            <p:nvPr/>
          </p:nvSpPr>
          <p:spPr>
            <a:xfrm flipH="1">
              <a:off x="6445080" y="565308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011640" y="5653080"/>
              <a:ext cx="144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971640" y="907920"/>
            <a:ext cx="10792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8532720" y="4292640"/>
                <a:ext cx="327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8000" y="1341360"/>
                <a:ext cx="12204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3203640" y="1916280"/>
            <a:ext cx="5689440" cy="9363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3141720"/>
            <a:ext cx="5688000" cy="10080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32000" y="5229360"/>
            <a:ext cx="5832720" cy="9363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280" y="406440"/>
            <a:ext cx="1044720" cy="19429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164360" y="407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2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95640" y="2060640"/>
            <a:ext cx="936360" cy="720720"/>
          </a:xfrm>
          <a:prstGeom prst="ellipse">
            <a:avLst/>
          </a:prstGeom>
          <a:noFill/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42920" y="2060640"/>
            <a:ext cx="936720" cy="720720"/>
          </a:xfrm>
          <a:prstGeom prst="ellipse">
            <a:avLst/>
          </a:prstGeom>
          <a:noFill/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66920" y="3284640"/>
            <a:ext cx="936720" cy="720720"/>
          </a:xfrm>
          <a:prstGeom prst="ellipse">
            <a:avLst/>
          </a:prstGeom>
          <a:noFill/>
          <a:ln w="2844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16000" y="3284640"/>
            <a:ext cx="936720" cy="720720"/>
          </a:xfrm>
          <a:prstGeom prst="ellipse">
            <a:avLst/>
          </a:prstGeom>
          <a:noFill/>
          <a:ln w="2844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1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b011c"/>
                </a:solidFill>
                <a:latin typeface="Arial"/>
              </a:rPr>
              <a:t>Mean number of CCA</a:t>
            </a:r>
            <a:endParaRPr b="0" i="1" lang="en-US" sz="32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907640" y="2133720"/>
            <a:ext cx="36036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900000" y="2133720"/>
            <a:ext cx="2872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2852640"/>
            <a:ext cx="216000" cy="28908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35280" y="3284640"/>
            <a:ext cx="504720" cy="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684000" y="2565360"/>
            <a:ext cx="431640" cy="71928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58920" y="1557360"/>
            <a:ext cx="115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Arial"/>
              </a:rPr>
              <a:t>n</a:t>
            </a:r>
            <a:r>
              <a:rPr b="1" lang="it-IT" sz="2000" spc="-1" strike="noStrike" baseline="-25000">
                <a:solidFill>
                  <a:srgbClr val="33cc33"/>
                </a:solidFill>
                <a:latin typeface="Arial"/>
              </a:rPr>
              <a:t>CCA </a:t>
            </a:r>
            <a:r>
              <a:rPr b="1" lang="it-IT" sz="2000" spc="-1" strike="noStrike">
                <a:solidFill>
                  <a:srgbClr val="33cc33"/>
                </a:solidFill>
                <a:latin typeface="Arial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58920" y="1557360"/>
            <a:ext cx="115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ff"/>
                </a:solidFill>
                <a:latin typeface="Arial"/>
              </a:rPr>
              <a:t>n</a:t>
            </a:r>
            <a:r>
              <a:rPr b="1" lang="it-IT" sz="2000" spc="-1" strike="noStrike" baseline="-25000">
                <a:solidFill>
                  <a:srgbClr val="33ccff"/>
                </a:solidFill>
                <a:latin typeface="Arial"/>
              </a:rPr>
              <a:t>CCA </a:t>
            </a:r>
            <a:r>
              <a:rPr b="1" lang="it-IT" sz="2000" spc="-1" strike="noStrike">
                <a:solidFill>
                  <a:srgbClr val="33ccff"/>
                </a:solidFill>
                <a:latin typeface="Arial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58920" y="1557360"/>
            <a:ext cx="115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Arial"/>
              </a:rPr>
              <a:t>CC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7640" y="2637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2781360"/>
            <a:ext cx="115092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979640" y="3860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539640" y="2565000"/>
            <a:ext cx="50328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95640" y="2060640"/>
            <a:ext cx="936360" cy="720720"/>
          </a:xfrm>
          <a:prstGeom prst="ellipse">
            <a:avLst/>
          </a:prstGeom>
          <a:noFill/>
          <a:ln w="2844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95640" y="2060640"/>
            <a:ext cx="936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42920" y="2060640"/>
            <a:ext cx="936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68360" y="3284640"/>
            <a:ext cx="936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6000" y="3284640"/>
            <a:ext cx="936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2852640"/>
            <a:ext cx="7308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148280"/>
            <a:ext cx="936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59280" y="3933720"/>
            <a:ext cx="72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907640" y="472428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71640" y="4221000"/>
            <a:ext cx="936360" cy="648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468360" y="2781360"/>
            <a:ext cx="503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40000" y="429408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42920" y="429408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94" idx="2"/>
            <a:endCxn id="495" idx="6"/>
          </p:cNvCxnSpPr>
          <p:nvPr/>
        </p:nvCxnSpPr>
        <p:spPr>
          <a:xfrm flipH="1">
            <a:off x="1842840" y="4546080"/>
            <a:ext cx="4896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 flipH="1">
            <a:off x="610920" y="4581360"/>
            <a:ext cx="431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F5CD-CF93-4B15-906B-F5BE29C526B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050920" y="907920"/>
            <a:ext cx="69138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564000" y="907200"/>
            <a:ext cx="5401080" cy="5250240"/>
            <a:chOff x="3564000" y="907200"/>
            <a:chExt cx="5401080" cy="5250240"/>
          </a:xfrm>
        </p:grpSpPr>
        <p:cxnSp>
          <p:nvCxnSpPr>
            <p:cNvPr id="500" name=""/>
            <p:cNvCxnSpPr/>
            <p:nvPr/>
          </p:nvCxnSpPr>
          <p:spPr>
            <a:xfrm>
              <a:off x="3564000" y="6150240"/>
              <a:ext cx="54014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01" name=""/>
            <p:cNvCxnSpPr>
              <a:endCxn id="498" idx="0"/>
            </p:cNvCxnSpPr>
            <p:nvPr/>
          </p:nvCxnSpPr>
          <p:spPr>
            <a:xfrm flipV="1">
              <a:off x="8964360" y="907200"/>
              <a:ext cx="1080" cy="5250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502" name=""/>
          <p:cNvSpPr/>
          <p:nvPr/>
        </p:nvSpPr>
        <p:spPr>
          <a:xfrm>
            <a:off x="179280" y="622440"/>
            <a:ext cx="792360" cy="502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,L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763640" y="6021360"/>
                <a:ext cx="1843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179280" y="155736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843280" y="4221000"/>
                <a:ext cx="183960" cy="2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6" name=""/>
          <p:cNvGrpSpPr/>
          <p:nvPr/>
        </p:nvGrpSpPr>
        <p:grpSpPr>
          <a:xfrm>
            <a:off x="3419280" y="1708200"/>
            <a:ext cx="4718160" cy="425880"/>
            <a:chOff x="3419280" y="1708200"/>
            <a:chExt cx="4718160" cy="425880"/>
          </a:xfrm>
        </p:grpSpPr>
        <p:cxnSp>
          <p:nvCxnSpPr>
            <p:cNvPr id="507" name=""/>
            <p:cNvCxnSpPr>
              <a:endCxn id="508" idx="0"/>
            </p:cNvCxnSpPr>
            <p:nvPr/>
          </p:nvCxnSpPr>
          <p:spPr>
            <a:xfrm>
              <a:off x="3419280" y="1708200"/>
              <a:ext cx="3708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endCxn id="510" idx="0"/>
            </p:cNvCxnSpPr>
            <p:nvPr/>
          </p:nvCxnSpPr>
          <p:spPr>
            <a:xfrm>
              <a:off x="3419640" y="1708200"/>
              <a:ext cx="111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endCxn id="512" idx="0"/>
            </p:cNvCxnSpPr>
            <p:nvPr/>
          </p:nvCxnSpPr>
          <p:spPr>
            <a:xfrm>
              <a:off x="3419280" y="1708200"/>
              <a:ext cx="219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endCxn id="514" idx="0"/>
            </p:cNvCxnSpPr>
            <p:nvPr/>
          </p:nvCxnSpPr>
          <p:spPr>
            <a:xfrm>
              <a:off x="3419640" y="1708200"/>
              <a:ext cx="363744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endCxn id="516" idx="0"/>
            </p:cNvCxnSpPr>
            <p:nvPr/>
          </p:nvCxnSpPr>
          <p:spPr>
            <a:xfrm>
              <a:off x="3419280" y="1708200"/>
              <a:ext cx="471852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7" name=""/>
          <p:cNvGrpSpPr/>
          <p:nvPr/>
        </p:nvGrpSpPr>
        <p:grpSpPr>
          <a:xfrm>
            <a:off x="3779640" y="4292640"/>
            <a:ext cx="4718160" cy="425880"/>
            <a:chOff x="3779640" y="4292640"/>
            <a:chExt cx="4718160" cy="425880"/>
          </a:xfrm>
        </p:grpSpPr>
        <p:cxnSp>
          <p:nvCxnSpPr>
            <p:cNvPr id="518" name=""/>
            <p:cNvCxnSpPr/>
            <p:nvPr/>
          </p:nvCxnSpPr>
          <p:spPr>
            <a:xfrm>
              <a:off x="3779640" y="4292640"/>
              <a:ext cx="3708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/>
            <p:nvPr/>
          </p:nvCxnSpPr>
          <p:spPr>
            <a:xfrm>
              <a:off x="3780000" y="4292640"/>
              <a:ext cx="111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/>
            <p:nvPr/>
          </p:nvCxnSpPr>
          <p:spPr>
            <a:xfrm>
              <a:off x="3779640" y="4292640"/>
              <a:ext cx="219780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/>
            <p:nvPr/>
          </p:nvCxnSpPr>
          <p:spPr>
            <a:xfrm>
              <a:off x="3780000" y="4292640"/>
              <a:ext cx="363744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/>
            <p:nvPr/>
          </p:nvCxnSpPr>
          <p:spPr>
            <a:xfrm>
              <a:off x="3779640" y="4292640"/>
              <a:ext cx="4718520" cy="426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23" name=""/>
          <p:cNvCxnSpPr>
            <a:stCxn id="524" idx="4"/>
          </p:cNvCxnSpPr>
          <p:nvPr/>
        </p:nvCxnSpPr>
        <p:spPr>
          <a:xfrm>
            <a:off x="2736720" y="3914640"/>
            <a:ext cx="104544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26" idx="4"/>
          </p:cNvCxnSpPr>
          <p:nvPr/>
        </p:nvCxnSpPr>
        <p:spPr>
          <a:xfrm>
            <a:off x="1584360" y="3914640"/>
            <a:ext cx="2124720" cy="354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8" idx="0"/>
          </p:cNvCxnSpPr>
          <p:nvPr/>
        </p:nvCxnSpPr>
        <p:spPr>
          <a:xfrm>
            <a:off x="2050920" y="899640"/>
            <a:ext cx="1369440" cy="801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04" idx="4"/>
          </p:cNvCxnSpPr>
          <p:nvPr/>
        </p:nvCxnSpPr>
        <p:spPr>
          <a:xfrm>
            <a:off x="576000" y="2068560"/>
            <a:ext cx="37080" cy="3666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30" name=""/>
          <p:cNvSpPr/>
          <p:nvPr/>
        </p:nvSpPr>
        <p:spPr>
          <a:xfrm>
            <a:off x="1114560" y="450864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         …        …         …          …      …      …   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2843280" y="1773360"/>
                <a:ext cx="44280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203640" y="4365720"/>
                <a:ext cx="44280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324000" y="907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39640" y="134136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02800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4692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32000" y="2637000"/>
                <a:ext cx="18432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3640" y="3908520"/>
                <a:ext cx="18396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979640" y="3408480"/>
                <a:ext cx="409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908000" y="2182680"/>
                <a:ext cx="40968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700360" y="2900520"/>
                <a:ext cx="1839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55640" y="3375000"/>
                <a:ext cx="41436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06320" y="2152800"/>
                <a:ext cx="4096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111600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4800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6692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7564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21812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3564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56720" y="21812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87280" y="34034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48000" y="3403440"/>
            <a:ext cx="79236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000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2764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08720" y="3403440"/>
            <a:ext cx="79200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24" idx="2"/>
            <a:endCxn id="526" idx="6"/>
          </p:cNvCxnSpPr>
          <p:nvPr/>
        </p:nvCxnSpPr>
        <p:spPr>
          <a:xfrm flipH="1">
            <a:off x="1986840" y="3655800"/>
            <a:ext cx="345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46" idx="2"/>
            <a:endCxn id="524" idx="6"/>
          </p:cNvCxnSpPr>
          <p:nvPr/>
        </p:nvCxnSpPr>
        <p:spPr>
          <a:xfrm flipH="1">
            <a:off x="3139560" y="3655800"/>
            <a:ext cx="2008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7" idx="2"/>
            <a:endCxn id="546" idx="6"/>
          </p:cNvCxnSpPr>
          <p:nvPr/>
        </p:nvCxnSpPr>
        <p:spPr>
          <a:xfrm flipH="1">
            <a:off x="4147920" y="3655800"/>
            <a:ext cx="27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8" idx="2"/>
            <a:endCxn id="547" idx="6"/>
          </p:cNvCxnSpPr>
          <p:nvPr/>
        </p:nvCxnSpPr>
        <p:spPr>
          <a:xfrm flipH="1">
            <a:off x="5226840" y="3655800"/>
            <a:ext cx="273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3" name=""/>
          <p:cNvCxnSpPr>
            <a:stCxn id="535" idx="2"/>
            <a:endCxn id="536" idx="6"/>
          </p:cNvCxnSpPr>
          <p:nvPr/>
        </p:nvCxnSpPr>
        <p:spPr>
          <a:xfrm flipH="1">
            <a:off x="7746120" y="3655800"/>
            <a:ext cx="273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16" idx="2"/>
            <a:endCxn id="514" idx="6"/>
          </p:cNvCxnSpPr>
          <p:nvPr/>
        </p:nvCxnSpPr>
        <p:spPr>
          <a:xfrm flipH="1">
            <a:off x="7675560" y="2433240"/>
            <a:ext cx="273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"/>
          <p:cNvCxnSpPr>
            <a:stCxn id="512" idx="2"/>
            <a:endCxn id="510" idx="6"/>
          </p:cNvCxnSpPr>
          <p:nvPr/>
        </p:nvCxnSpPr>
        <p:spPr>
          <a:xfrm flipH="1">
            <a:off x="5155920" y="2433240"/>
            <a:ext cx="27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"/>
          <p:cNvCxnSpPr>
            <a:stCxn id="510" idx="2"/>
            <a:endCxn id="508" idx="6"/>
          </p:cNvCxnSpPr>
          <p:nvPr/>
        </p:nvCxnSpPr>
        <p:spPr>
          <a:xfrm flipH="1">
            <a:off x="4147560" y="2433240"/>
            <a:ext cx="2005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"/>
          <p:cNvCxnSpPr>
            <a:stCxn id="508" idx="2"/>
            <a:endCxn id="545" idx="6"/>
          </p:cNvCxnSpPr>
          <p:nvPr/>
        </p:nvCxnSpPr>
        <p:spPr>
          <a:xfrm flipH="1">
            <a:off x="3067200" y="2433240"/>
            <a:ext cx="273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"/>
          <p:cNvCxnSpPr>
            <a:stCxn id="545" idx="2"/>
            <a:endCxn id="544" idx="6"/>
          </p:cNvCxnSpPr>
          <p:nvPr/>
        </p:nvCxnSpPr>
        <p:spPr>
          <a:xfrm flipH="1">
            <a:off x="1915920" y="2433240"/>
            <a:ext cx="3434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59" name=""/>
          <p:cNvGrpSpPr/>
          <p:nvPr/>
        </p:nvGrpSpPr>
        <p:grpSpPr>
          <a:xfrm>
            <a:off x="3634920" y="2977920"/>
            <a:ext cx="4718160" cy="425520"/>
            <a:chOff x="3634920" y="2977920"/>
            <a:chExt cx="4718160" cy="425520"/>
          </a:xfrm>
        </p:grpSpPr>
        <p:cxnSp>
          <p:nvCxnSpPr>
            <p:cNvPr id="560" name=""/>
            <p:cNvCxnSpPr/>
            <p:nvPr/>
          </p:nvCxnSpPr>
          <p:spPr>
            <a:xfrm>
              <a:off x="3634920" y="2977920"/>
              <a:ext cx="3708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3635280" y="2977920"/>
              <a:ext cx="111780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3634920" y="2977920"/>
              <a:ext cx="219780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/>
            <p:nvPr/>
          </p:nvCxnSpPr>
          <p:spPr>
            <a:xfrm>
              <a:off x="3635280" y="2977920"/>
              <a:ext cx="363744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/>
            <p:nvPr/>
          </p:nvCxnSpPr>
          <p:spPr>
            <a:xfrm>
              <a:off x="3634920" y="2977920"/>
              <a:ext cx="4718520" cy="425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65" name=""/>
          <p:cNvCxnSpPr>
            <a:stCxn id="545" idx="4"/>
          </p:cNvCxnSpPr>
          <p:nvPr/>
        </p:nvCxnSpPr>
        <p:spPr>
          <a:xfrm>
            <a:off x="2663640" y="2692440"/>
            <a:ext cx="1043640" cy="280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44" idx="4"/>
          </p:cNvCxnSpPr>
          <p:nvPr/>
        </p:nvCxnSpPr>
        <p:spPr>
          <a:xfrm>
            <a:off x="1512720" y="2692440"/>
            <a:ext cx="2123280" cy="280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 flipH="1">
            <a:off x="611280" y="239544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11280" y="3621240"/>
            <a:ext cx="57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00720" y="2179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72360" y="34513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132000" y="3044880"/>
                <a:ext cx="4273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211640" y="2125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7812000" y="2179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5219640" y="217980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211640" y="333216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364000" y="3332160"/>
                <a:ext cx="1224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7883640" y="3403440"/>
                <a:ext cx="122040" cy="1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 flipH="1">
            <a:off x="6659640" y="239544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732360" y="3619440"/>
            <a:ext cx="215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227640" y="2395440"/>
            <a:ext cx="144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00720" y="3619440"/>
            <a:ext cx="2160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12000" y="5013000"/>
            <a:ext cx="8281080" cy="1145160"/>
            <a:chOff x="612000" y="5013000"/>
            <a:chExt cx="8281080" cy="114516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641160" y="5378400"/>
                  <a:ext cx="4143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987640" y="5832360"/>
                  <a:ext cx="183960" cy="1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1836720" y="5441760"/>
                  <a:ext cx="40932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104436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, 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05080" y="5438520"/>
              <a:ext cx="79200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97080" y="5438520"/>
              <a:ext cx="79200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1308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21080" y="5438520"/>
              <a:ext cx="79236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32360" y="5438520"/>
              <a:ext cx="93672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56360" y="5438520"/>
              <a:ext cx="936720" cy="5032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1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3" name=""/>
            <p:cNvCxnSpPr>
              <a:stCxn id="588" idx="2"/>
              <a:endCxn id="586" idx="6"/>
            </p:cNvCxnSpPr>
            <p:nvPr/>
          </p:nvCxnSpPr>
          <p:spPr>
            <a:xfrm flipH="1">
              <a:off x="1843920" y="5690880"/>
              <a:ext cx="3452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4" name=""/>
            <p:cNvCxnSpPr>
              <a:stCxn id="587" idx="2"/>
              <a:endCxn id="588" idx="6"/>
            </p:cNvCxnSpPr>
            <p:nvPr/>
          </p:nvCxnSpPr>
          <p:spPr>
            <a:xfrm flipH="1">
              <a:off x="2996640" y="5690880"/>
              <a:ext cx="200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89" idx="2"/>
              <a:endCxn id="587" idx="6"/>
            </p:cNvCxnSpPr>
            <p:nvPr/>
          </p:nvCxnSpPr>
          <p:spPr>
            <a:xfrm flipH="1">
              <a:off x="4004640" y="5690880"/>
              <a:ext cx="200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90" idx="2"/>
              <a:endCxn id="589" idx="6"/>
            </p:cNvCxnSpPr>
            <p:nvPr/>
          </p:nvCxnSpPr>
          <p:spPr>
            <a:xfrm flipH="1">
              <a:off x="5012640" y="5690880"/>
              <a:ext cx="20052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92" idx="2"/>
              <a:endCxn id="591" idx="6"/>
            </p:cNvCxnSpPr>
            <p:nvPr/>
          </p:nvCxnSpPr>
          <p:spPr>
            <a:xfrm flipH="1">
              <a:off x="7676640" y="5690880"/>
              <a:ext cx="27216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98" name=""/>
            <p:cNvGrpSpPr/>
            <p:nvPr/>
          </p:nvGrpSpPr>
          <p:grpSpPr>
            <a:xfrm>
              <a:off x="3526920" y="5013000"/>
              <a:ext cx="4718160" cy="425520"/>
              <a:chOff x="3526920" y="5013000"/>
              <a:chExt cx="4718160" cy="425520"/>
            </a:xfrm>
          </p:grpSpPr>
          <p:cxnSp>
            <p:nvCxnSpPr>
              <p:cNvPr id="599" name=""/>
              <p:cNvCxnSpPr/>
              <p:nvPr/>
            </p:nvCxnSpPr>
            <p:spPr>
              <a:xfrm>
                <a:off x="3526920" y="5013000"/>
                <a:ext cx="3708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0" name=""/>
              <p:cNvCxnSpPr/>
              <p:nvPr/>
            </p:nvCxnSpPr>
            <p:spPr>
              <a:xfrm>
                <a:off x="3527280" y="5013000"/>
                <a:ext cx="111780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1" name=""/>
              <p:cNvCxnSpPr/>
              <p:nvPr/>
            </p:nvCxnSpPr>
            <p:spPr>
              <a:xfrm>
                <a:off x="3526920" y="5013000"/>
                <a:ext cx="219780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2" name=""/>
              <p:cNvCxnSpPr/>
              <p:nvPr/>
            </p:nvCxnSpPr>
            <p:spPr>
              <a:xfrm>
                <a:off x="3527280" y="5013000"/>
                <a:ext cx="363744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3" name=""/>
              <p:cNvCxnSpPr/>
              <p:nvPr/>
            </p:nvCxnSpPr>
            <p:spPr>
              <a:xfrm>
                <a:off x="3526920" y="5013000"/>
                <a:ext cx="4718520" cy="4258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604" name=""/>
            <p:cNvCxnSpPr>
              <a:stCxn id="588" idx="4"/>
            </p:cNvCxnSpPr>
            <p:nvPr/>
          </p:nvCxnSpPr>
          <p:spPr>
            <a:xfrm>
              <a:off x="2593440" y="5949720"/>
              <a:ext cx="1043640" cy="208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5" name=""/>
            <p:cNvCxnSpPr>
              <a:stCxn id="586" idx="4"/>
            </p:cNvCxnSpPr>
            <p:nvPr/>
          </p:nvCxnSpPr>
          <p:spPr>
            <a:xfrm>
              <a:off x="1441440" y="5949720"/>
              <a:ext cx="2196000" cy="208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6" name=""/>
            <p:cNvCxnSpPr/>
            <p:nvPr/>
          </p:nvCxnSpPr>
          <p:spPr>
            <a:xfrm flipH="1">
              <a:off x="612000" y="5725800"/>
              <a:ext cx="41652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7" name=""/>
            <p:cNvSpPr/>
            <p:nvPr/>
          </p:nvSpPr>
          <p:spPr>
            <a:xfrm>
              <a:off x="6084720" y="551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2987640" y="5078160"/>
                  <a:ext cx="47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4068720" y="5365800"/>
                  <a:ext cx="1220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076720" y="5365800"/>
                  <a:ext cx="1224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7740720" y="5437080"/>
                  <a:ext cx="1220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"/>
            <p:cNvSpPr/>
            <p:nvPr/>
          </p:nvSpPr>
          <p:spPr>
            <a:xfrm flipH="1">
              <a:off x="6445080" y="5653080"/>
              <a:ext cx="287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011640" y="5653080"/>
              <a:ext cx="144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971640" y="907920"/>
            <a:ext cx="10792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8532720" y="4292640"/>
                <a:ext cx="327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8000" y="1341360"/>
                <a:ext cx="12204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203640" y="1844640"/>
            <a:ext cx="5689440" cy="1152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203640" y="3068640"/>
            <a:ext cx="5761080" cy="11509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280" y="406440"/>
            <a:ext cx="1044720" cy="19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2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492360" y="1052280"/>
            <a:ext cx="511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b011c"/>
                </a:solidFill>
                <a:latin typeface="Arial"/>
              </a:rPr>
              <a:t>Mean value of Backoff</a:t>
            </a:r>
            <a:endParaRPr b="0" i="1" lang="en-US" sz="32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907640" y="2133720"/>
            <a:ext cx="36036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900000" y="2133720"/>
            <a:ext cx="28728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87640" y="2637000"/>
            <a:ext cx="576360" cy="431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83528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684000" y="2565000"/>
            <a:ext cx="502920" cy="7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92360" y="141300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1476360" y="1341360"/>
                <a:ext cx="1081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495440" y="1341360"/>
                <a:ext cx="1060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 flipH="1">
            <a:off x="1907640" y="2565360"/>
            <a:ext cx="360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47640" y="2708280"/>
            <a:ext cx="1440000" cy="576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B02F-646D-4618-9899-250F526FA62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58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b011c"/>
                </a:solidFill>
                <a:latin typeface="Arial"/>
              </a:rPr>
              <a:t>Conclusion</a:t>
            </a:r>
            <a:endParaRPr b="0" i="1" lang="en-US" sz="2800" spc="-1" strike="noStrike">
              <a:solidFill>
                <a:srgbClr val="bb011c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36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me spent in backoff and CCA (and therefor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nergy spent in sens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can be computed in accurat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c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nd B are function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probability of finding channel busy during CC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probability of finding channel busy during CCA 2, given that the medium was idle during CC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umber of node i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ram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00000" y="2637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2565360"/>
            <a:ext cx="2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52D5-0E06-4153-9CBB-6D30512DA4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e, 2 Oct 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3:14:45Z</dcterms:created>
  <dc:creator>Gennaro Boggia</dc:creator>
  <dc:description/>
  <dc:language>en-US</dc:language>
  <cp:lastModifiedBy>pupolin</cp:lastModifiedBy>
  <dcterms:modified xsi:type="dcterms:W3CDTF">2008-07-18T11:09:53Z</dcterms:modified>
  <cp:revision>1147</cp:revision>
  <dc:subject/>
  <dc:title>Diapositiva 1</dc:title>
</cp:coreProperties>
</file>