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9D7-B9D1-4A20-9648-4776882C14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convenzione sullo stack frame non è a rigore necessaria una volta che si è deciso come gestire i parametri di ingresso e uscita… Ma è comunque molto uti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a subroutine non rispetta le convenzioni sullo stack fram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Input: R0 contiene un carattere                      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Output: R0 contiene 0 se tale carattere e' una vocale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Input: R0 contiene un carattere                      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Output: R0 contiene 0 se tale carattere e' una vocale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Input: R0 contiene un carattere                      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Output: R0 contiene 0 se tale carattere e' una vocale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Input: R0 contiene un carattere                      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* Output: R0 contiene 0 se tale carattere e' una vocale    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una chiamata ricorsiva LR viene sovrascri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È solitamente considerato accettabile alterare il contenuto dei bit di condizione ZNC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C52-0511-482A-ABE5-377C4DC9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B0C-3F34-4494-A494-F01B02C1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2F2-EC19-4B26-97CA-41AC6FDD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056-B282-403E-A3DD-DB39A6C0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2AF8-EA1A-467A-8D65-6B7D4B21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CE0-D95F-4AF6-9E55-97F9A088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88A-B6A9-4F9F-83D6-6EB0364D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EF2C-1FBD-44FD-AF74-3180101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CD83-B844-4CC8-9277-7A99463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B178-1E0A-41A0-BE6F-8362954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AB3-AFC6-40B1-B317-72FE280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A6D-25AF-4257-8F20-96650E61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3BB3-DF2A-4321-A33E-5E665E6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326D-828F-47F1-A288-E3AC19C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090-EBDD-46CC-A2CF-D81B05D3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93D-89B4-466B-9FA6-3B4525EA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42C1-2870-468D-AAAB-C6A1B4B0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174-E9FA-42FB-B15D-6308087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2A4-CC57-49F2-A2AB-BD90AAB7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91A-47DD-4A2C-BCA1-283B0AA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061-8EB1-4792-9412-8DF64DC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C07-F649-4126-92B5-2A70F29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921-6ECC-4E30-9A63-CF80AD1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641-DC56-4000-8149-07B09C3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7C83-6C8D-4FBC-8715-B55C1DEAEAF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83F-A0B2-40EC-A7D3-8FA93326A32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 ARM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hiamata a subrouti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73760" y="5410080"/>
            <a:ext cx="1766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versione ricorsiv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4" name=""/>
          <p:cNvSpPr/>
          <p:nvPr/>
        </p:nvSpPr>
        <p:spPr>
          <a:xfrm>
            <a:off x="322200" y="1876320"/>
            <a:ext cx="8497800" cy="46396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rfact: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LS do_it_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no overflow: proc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@ c'e' overflow: R0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do_it_r: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MP R0, #2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@ controlla se R0 e' = a 0, 1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GT fa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@ se R0&gt;2 chiama la proc. ric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MP R0, #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@ controlla se R0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EQ R0,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@ se si', 0!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@ altrimenti 1!=1 e 2!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fa: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FD SP!, {R1, LR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@ salva R1 e 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@ R1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 R0, R0,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L do_it_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UL R0, R1, R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@ n!=n * (n-1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MFD SP!, {R1, PC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2F0-8316-4FFF-A7B8-C039A90940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Convenzioni: stack fram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nostra convenz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Frame pointer (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): registro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R1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Vecchio valore di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salvato in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R1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I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LR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PC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salvati in fondo al fra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l di sopra: registr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l di sopra: variabili local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l di sopra: memoria dinam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BD3-F3D6-417B-A8D5-4F4864201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Stack frame: struttur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2508120" y="1800360"/>
            <a:ext cx="0" cy="49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8120" y="5432400"/>
            <a:ext cx="4319640" cy="37296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8120" y="5072040"/>
            <a:ext cx="4319640" cy="37152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indirizzo di ri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8120" y="4711680"/>
            <a:ext cx="4319640" cy="37152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=R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vecchi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8120" y="4352760"/>
            <a:ext cx="4319640" cy="37152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vecchio val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8120" y="3621240"/>
            <a:ext cx="4319640" cy="73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gistri sal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2914560"/>
            <a:ext cx="4319640" cy="73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riabili lo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8120" y="2205000"/>
            <a:ext cx="4319640" cy="73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moria dina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8120" y="5805360"/>
            <a:ext cx="4319640" cy="7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ametri d’ingresso (alcu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1773360"/>
            <a:ext cx="0" cy="49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04080" y="5661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2560" y="53481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2560" y="20606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5784840"/>
            <a:ext cx="29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07F-3747-489C-AE23-00812A5E5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2: motivazione stack fram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e convenzioni per lo stack frame rispecchiano quelle seguite da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gcc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on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ottimizzazioni disattivat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-O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Vedremo ora un esempio di codice prodotto dal compilatore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gc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C85-837A-4CA2-9EB9-6EE7E89B4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2: codice sorgent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5" name=""/>
          <p:cNvSpPr/>
          <p:nvPr/>
        </p:nvSpPr>
        <p:spPr>
          <a:xfrm>
            <a:off x="1185840" y="1916280"/>
            <a:ext cx="6770880" cy="46396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void R(int I, int J, int *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 A,B,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=dumm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=dumm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*O = I+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 (A==0) R(A, B, &amp;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 dummy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atic int i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i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EB9-5C8B-44BA-8B0F-E26933C3D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2: codice prodotto (1/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5402160" cy="4689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void R(int I, int J, int *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00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ip,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04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mdb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sp!, {fp, ip, lr, 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08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ub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p, ip, #4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0x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0c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ub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sp, sp, #24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0x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10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r0, [fp, -#1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14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r1, [fp, -#2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18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r2, [fp, -#2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int A,B,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=dumm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1c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bl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6c         @ &lt;dumm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20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ip,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24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ip, [fp, -#2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=dumm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28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bl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6c         @ &lt;dumm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2c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ip,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100030: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ip, [fp, -#3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436572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F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465624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494352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523224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407664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50208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*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4360" y="378936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321300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4360" y="292572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263700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34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85080" y="234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95760" y="515772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400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5080" y="3718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8184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8600" y="313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75720" y="28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72480" y="2562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5760" y="256536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F1B-4841-4AB8-AFAC-28614EB35E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2: codice prodotto (2/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773360"/>
            <a:ext cx="5691240" cy="5003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*O = I+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3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2, [fp, -#2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3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3, [fp, -#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3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[fp, -#2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4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add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r3,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4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[r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A=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4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[fp, -#2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4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cmp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0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5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bn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68 &lt;R+0x68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(A, B, &amp;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5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sub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fp, #36   @ 0x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5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0, [fp, -#2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5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1, [fp, -#3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6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2,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6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bl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00        @&lt;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6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mdb fp, {fp, sp, p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436572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F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465624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494352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523224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64360" y="407664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4360" y="350208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*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378936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321300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2925720"/>
            <a:ext cx="72072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2637000"/>
            <a:ext cx="72072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234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85080" y="234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95760" y="515772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5080" y="400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3718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8184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78600" y="313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75720" y="28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72480" y="2562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P-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95760" y="2565360"/>
            <a:ext cx="6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353-2A91-4AEC-BF43-14C86D53A7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2: codice prodotto (3/3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982880"/>
            <a:ext cx="7632720" cy="4455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t dummy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6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7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stmdb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sp!, {fp, ip, lr, p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7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sub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p, ip, #4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@ 0x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atic int i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7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3, [pc, #24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@ 100098 &lt;dummy+0x2c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7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[r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8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2,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8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add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ip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@ 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8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str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[r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8c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p,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90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mov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0,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94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ldmdb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p, {fp, sp, p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00098: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andeqs r0, r0, r0, lsr #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237-8BB9-4404-853A-E115F3337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“codice fiscale”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983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 vuole scrivere un programma che elimini le vocali da una stringa, creando una sorta di “</a:t>
            </a:r>
            <a:r>
              <a:rPr b="1" lang="en-US" sz="3200" spc="-1" strike="noStrike">
                <a:solidFill>
                  <a:srgbClr val="f06157"/>
                </a:solidFill>
                <a:latin typeface="Lucida Sans Unicode"/>
              </a:rPr>
              <a:t>codice fiscale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22160" y="4221000"/>
            <a:ext cx="5504040" cy="649800"/>
            <a:chOff x="1622160" y="4221000"/>
            <a:chExt cx="5504040" cy="649800"/>
          </a:xfrm>
        </p:grpSpPr>
        <p:sp>
          <p:nvSpPr>
            <p:cNvPr id="225" name=""/>
            <p:cNvSpPr/>
            <p:nvPr/>
          </p:nvSpPr>
          <p:spPr>
            <a:xfrm>
              <a:off x="3287880" y="4221000"/>
              <a:ext cx="38383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Quarantaquatt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2160" y="4289400"/>
              <a:ext cx="141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Prim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39440" y="5518080"/>
            <a:ext cx="5486760" cy="649800"/>
            <a:chOff x="1639440" y="5518080"/>
            <a:chExt cx="5486760" cy="649800"/>
          </a:xfrm>
        </p:grpSpPr>
        <p:sp>
          <p:nvSpPr>
            <p:cNvPr id="228" name=""/>
            <p:cNvSpPr/>
            <p:nvPr/>
          </p:nvSpPr>
          <p:spPr>
            <a:xfrm>
              <a:off x="3287880" y="5518080"/>
              <a:ext cx="38383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Courier New"/>
                </a:rPr>
                <a:t>Qrntqttr</a:t>
              </a:r>
              <a:r>
                <a:rPr b="0" lang="it-IT" sz="3200" spc="-1" strike="noStrike">
                  <a:solidFill>
                    <a:srgbClr val="000000"/>
                  </a:solidFill>
                  <a:latin typeface="Courier New"/>
                </a:rPr>
                <a:t>uaaaua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39440" y="5586480"/>
              <a:ext cx="13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Dopo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676-B97F-4958-BCF8-F6BF7A42B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conven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primo carattere dell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lunghezza della stringa in by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puntatore alla stringa del codice fisca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puntatore alla stringa delle vocal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Stack frame “com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795-3816-45E9-861B-2C9854D5C4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Subroutine: supporto hardwa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alto: istruzione “branch and link”</a:t>
            </a:r>
            <a:br>
              <a:rPr sz="3200"/>
            </a:br>
            <a:r>
              <a:rPr b="1" lang="en-US" sz="3200" spc="-1" strike="noStrike">
                <a:solidFill>
                  <a:srgbClr val="f06157"/>
                </a:solidFill>
                <a:latin typeface="Courier New"/>
              </a:rPr>
              <a:t>BL{&lt;cond&gt;} &lt;indirizzo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alva indirizzo di ritorno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=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14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dirizzamento auto-relativ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±32MB dalla posizione corr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itorno: si copia l’indirizzo di ritorno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PC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sempio più semplice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MOV PC, L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C23-FD52-4E3B-AF9F-242A1D03F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3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data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1773360"/>
            <a:ext cx="7848720" cy="49446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lign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codvoc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4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Codici ASCII delle voc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6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yte 0x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tr1: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scii "Quarantaquattro gatti in fila per tre con il resto di 2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tr2: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scii "!a|e£i$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74D-03E6-4CD2-8166-85C211ABEB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bss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e inizializz.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5" name=""/>
          <p:cNvSpPr/>
          <p:nvPr/>
        </p:nvSpPr>
        <p:spPr>
          <a:xfrm>
            <a:off x="647640" y="1900080"/>
            <a:ext cx="784872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lign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lostack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skip 2048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@ 2048 byte di stack "privat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640" y="3778200"/>
            <a:ext cx="7848720" cy="2810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global _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@ inizializz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R R0, =str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lavoreremo su st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1, #55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@ str1: 55 carat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L codfi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_exit: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 _exi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 @ fine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3A1-DBEB-4BD4-88B6-005E0AFF2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vocale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ontiene un caratt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=0 se input è una vocale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0 altrimen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485640" y="2754360"/>
            <a:ext cx="8172720" cy="3959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voc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1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@ salva R1-R3 sull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, =codvoc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R1 puntatore tab. delle v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2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2 offset nella tab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3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3: registro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iclov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B R3, [R1,R2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@ carica una vocale dalla tab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R0, R3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0 contiene una voca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EQ voc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@ si: salta a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R2, R2, #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@ no: esamina elem. succ. della t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R2, #1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@ la tabella e' fin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LO ciclovoc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@ no: iterazione succes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 finevoc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si: fin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voc: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voc: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1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@ ripristina i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fin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3D9-2163-4D29-8B6A-E2A3E6EA66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codfisc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(1/4)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Fase inizial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viene prepara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o stack fra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"/>
          <p:cNvSpPr/>
          <p:nvPr/>
        </p:nvSpPr>
        <p:spPr>
          <a:xfrm>
            <a:off x="647640" y="3506760"/>
            <a:ext cx="7848720" cy="25052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codfis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12,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DB SP!, {FP, R12, LR, P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 FP, R12,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DB SP!, {R0-R7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@ R12 non sal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IC R1, R1,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R1, R1,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 SP, SP, R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@ spazio per stri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908-E293-4D94-B863-A70FC42DB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codfisc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(2/4)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Scansione 1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: determina la lunghezza del codice fiscale e copia la stringa nello spazio sullo 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2852640"/>
            <a:ext cx="7848360" cy="3716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0: registro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, [FP,#-40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R1=lunghezza strin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2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2=lunghezza codice fi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3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3=offset strin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4, [FP,#-44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R4=puntatore strin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5, SP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R5=puntatore stringa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sc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B R0, [R4,R3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@ carica carattere della strin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RB R0, [R5,R3]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@ salva carattere nello spazi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L vo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R0, #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il carattere e' una voca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NE R2, R2, #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@ no: allora appart. al codice fis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R3, R3,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MP R1, R3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@ la stringa e' fin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HI scan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@ no: esamina il carattere succes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03B-21CA-4207-B2C2-27F46A7A90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codfisc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(3/4)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ansione 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costruisce le string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479680"/>
            <a:ext cx="7848360" cy="4115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R0: registro di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 R1, [FP,#-44]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@ R1=puntatore stringa codice fi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 R2, R1, R2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@ R2=puntatore stringa delle v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R3, SP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R3=puntatore stringa nello stack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R4, #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R4=offset stringa codice fi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R5, #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R5=offset stringa delle v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MOV R6, #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R6=offset stringa nello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 R7, [FP,#-40]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@ R7=lunghezza strin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build: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B R0, [R3,R6]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@ carica carattere dallo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BL vo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CMP R0, #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il carattere e' una voca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LDRB R0, [R3,R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RNEB R0, [R1,R4]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@ no: salva nel codice fi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NE R4, R4,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REQB R0, [R2,R5]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@ si: salva tra le voc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EQ R5, R5,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ADD R6, R6,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CMP R7, R6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@ la stringa e' fini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BHI buil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       @ no: esamina il carattere succes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712-C8CA-4A32-978E-908258B72B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codfisc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(4/4) 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Fase final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preparazione dei parametri d'uscita e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istruzione dello stack fram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"/>
          <p:cNvSpPr/>
          <p:nvPr/>
        </p:nvSpPr>
        <p:spPr>
          <a:xfrm>
            <a:off x="647640" y="3816360"/>
            <a:ext cx="7848720" cy="22561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R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@ R0=puntatore stringa cod. fis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1, R2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@ R1=puntatore stringa v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IC R7, R7,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R7, R7, 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SP, SP, R7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disalloca memoria dina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SP, SP, #8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disalloca spazio R0-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IA SP!, {R2-R7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@ ripristina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DB FP, {FP, SP, PC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@ fin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A6E-29B9-4A84-BBAB-FED0A240DA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Subroutine: e il resto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iò per cui non c’è supporto hw deve essere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gestito dal programmato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programmatore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dev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dunque stabilire c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passare i parametri d’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ricevere i parametri d’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gestire le chiamate ricors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locare la memoria necessaria al funzionamento della subrout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694-1DE5-4A9E-AEC4-66B191075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Subroutine: conven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 gestione software delle subroutine è frutto di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onven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 convenzioni possono essere stabilite in maniera arbitraria purch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n portino a incoerenza e perdita d’informa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ano rispettate da tutti i programmato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9AD-4CF5-4C3A-B0F9-55BB27638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onvenzioni necessari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È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dispensabil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stabilire una convenzione sui parametri di ingresso/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stra conven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ametri d’ingresso passati nei registr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 partire da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oppi parametri d’ingresso? Si ricorre allo </a:t>
            </a:r>
            <a:r>
              <a:rPr b="1" lang="it-IT" sz="2400" spc="-1" strike="noStrike">
                <a:solidFill>
                  <a:srgbClr val="1822cd"/>
                </a:solidFill>
                <a:latin typeface="Lucida Sans Unicode"/>
                <a:ea typeface="Lucida Sans Unicode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ametri d’uscita nei registri, partendo da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utti i registri che non fanno parte dell’interfaccia </a:t>
            </a:r>
            <a:r>
              <a:rPr b="1" lang="it-IT" sz="2400" spc="-1" strike="noStrike">
                <a:solidFill>
                  <a:srgbClr val="f06157"/>
                </a:solidFill>
                <a:latin typeface="Lucida Sans Unicode"/>
                <a:ea typeface="Lucida Sans Unicode"/>
              </a:rPr>
              <a:t>devono rimanere inaltera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825-733E-48CB-8189-A38DFC14B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96000" y="3560760"/>
            <a:ext cx="2305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arametri in/out: esempi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15320" y="3882960"/>
            <a:ext cx="2899080" cy="459720"/>
            <a:chOff x="715320" y="3882960"/>
            <a:chExt cx="2899080" cy="459720"/>
          </a:xfrm>
        </p:grpSpPr>
        <p:sp>
          <p:nvSpPr>
            <p:cNvPr id="127" name=""/>
            <p:cNvSpPr/>
            <p:nvPr/>
          </p:nvSpPr>
          <p:spPr>
            <a:xfrm>
              <a:off x="1309320" y="3895560"/>
              <a:ext cx="23050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d. di </a:t>
              </a:r>
              <a:r>
                <a:rPr b="0" lang="it-IT" sz="24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5320" y="3882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R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36200" y="4471920"/>
            <a:ext cx="2899080" cy="459720"/>
            <a:chOff x="736200" y="4471920"/>
            <a:chExt cx="2899080" cy="459720"/>
          </a:xfrm>
        </p:grpSpPr>
        <p:sp>
          <p:nvSpPr>
            <p:cNvPr id="130" name=""/>
            <p:cNvSpPr/>
            <p:nvPr/>
          </p:nvSpPr>
          <p:spPr>
            <a:xfrm>
              <a:off x="1330200" y="4484520"/>
              <a:ext cx="23050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x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6200" y="4471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36200" y="5048280"/>
            <a:ext cx="2899080" cy="459720"/>
            <a:chOff x="736200" y="5048280"/>
            <a:chExt cx="2899080" cy="459720"/>
          </a:xfrm>
        </p:grpSpPr>
        <p:sp>
          <p:nvSpPr>
            <p:cNvPr id="133" name=""/>
            <p:cNvSpPr/>
            <p:nvPr/>
          </p:nvSpPr>
          <p:spPr>
            <a:xfrm>
              <a:off x="1330200" y="5060880"/>
              <a:ext cx="23050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x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200" y="504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36200" y="5624640"/>
            <a:ext cx="2899080" cy="459720"/>
            <a:chOff x="736200" y="5624640"/>
            <a:chExt cx="2899080" cy="459720"/>
          </a:xfrm>
        </p:grpSpPr>
        <p:sp>
          <p:nvSpPr>
            <p:cNvPr id="136" name=""/>
            <p:cNvSpPr/>
            <p:nvPr/>
          </p:nvSpPr>
          <p:spPr>
            <a:xfrm>
              <a:off x="1330200" y="5637240"/>
              <a:ext cx="23050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x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200" y="5624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96000" y="4641840"/>
            <a:ext cx="23050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4929120"/>
            <a:ext cx="2305080" cy="30024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5218200"/>
            <a:ext cx="23050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5506920"/>
            <a:ext cx="2305080" cy="57492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6081840"/>
            <a:ext cx="2305080" cy="299880"/>
          </a:xfrm>
          <a:prstGeom prst="rect">
            <a:avLst/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1320" y="1916280"/>
            <a:ext cx="691992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f(int *a, int b1, …, int b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int i =f(array, x1, x2, …, x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02840" y="4545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410-2B6C-4043-B19E-B8302B745F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1: fattorial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983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vuole scrivere un programma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he calcoli il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fattoriale di un nume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Ingress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Uscita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ppure 0 in caso di over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11280" y="3284640"/>
                <a:ext cx="431964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61C-25B1-4AAC-90E1-557B974E1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bss</a:t>
            </a: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 e inizializza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258840" y="2133720"/>
            <a:ext cx="8626320" cy="980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lostack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skip 2048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2048 byte di stack "privat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8840" y="3933720"/>
            <a:ext cx="8626320" cy="22003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@ inizializz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0, #6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 @ calcoleremo 6!=0x02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L fac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    @ salta alla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ippo: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     @ fine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910-B14D-426B-90DF-F25A890BBA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ubrouti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fac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2" name=""/>
          <p:cNvSpPr/>
          <p:nvPr/>
        </p:nvSpPr>
        <p:spPr>
          <a:xfrm>
            <a:off x="322200" y="1876320"/>
            <a:ext cx="8497800" cy="46396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f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LS do_i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@ non c'e' overflow: proc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c'e' overflow: poni R0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do_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MFD SP!, {R1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@ salva R1 sullo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cic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S R1, R1, #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@ R1=R1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EQ fine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@ se R1=0 il ciclo e'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UL R0, R1, R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@ R0=R1*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B ciclo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@ vai all'iterazione succe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fine: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DMFD SP!, {R1}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@ ripristina R1 dallo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fine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6BA-B8E3-419B-B0C7-0E6C755C6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iccio Formaggio</cp:lastModifiedBy>
  <dcterms:modified xsi:type="dcterms:W3CDTF">2003-05-30T07:06:19Z</dcterms:modified>
  <cp:revision>132</cp:revision>
  <dc:subject/>
  <dc:title>Istruzioni PXA255</dc:title>
</cp:coreProperties>
</file>