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lick to move the slid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7C93-375C-4220-ABAF-994F3FF63C5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ella sezione .data, un’inizializzazione di questo tipo è valida solo per stringhe la cui lunghezza è un multiplo di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2 è il massimo numero il cui fattoriale è rappresentabile correttamente come intero senza segno su 32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o programma non ha sezione .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sezione .bss contiene solo l’inizializzazione dello stack (bana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2 è il massimo numero il cui fattoriale è rappresentabile correttamente come intero senza segno su 32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o programma non ha sezione .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sezione .bss contiene solo l’inizializzazione dello stack (bana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rassetto le istruzioni che sono state aggiunte rispetto alla slide “cuore del programm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 accade se la lunghezza del vettore non è un multiplo di 1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D046-14E8-4012-94E9-F612A665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6285-82D3-4158-AF44-A30784B8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94D-6003-4853-86CB-57CF92D7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3BD2-CAA8-4FEC-9257-680EAF6B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DC8F-6A6B-469D-B0E8-BD5D52D6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5C77-5626-429E-8017-A874D609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DB50-04D4-43E8-A2E0-FAF5C6FD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9C7B-BB57-40B0-BFAA-FDC5EDC0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D5ED-4E80-41CB-8C37-D6E4F2ED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A60A-F3CD-463B-9CD6-446EBAF4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0954-018D-43B9-9C0C-0A29E65E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BFB4-AB77-4B90-9FB9-1DE6793F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ACF3-E643-4C56-B31B-A7D013DC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AA87-F650-4640-9039-A1ACADA6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AC78-43F1-4F54-8361-E109CBF7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CBF8-5389-49B8-A417-5D3A1C3F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9C4B-737D-4B04-BB9D-78CA0F86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8AE3-904D-40DB-9807-74FC2EB4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8250-E184-4F08-9A4E-3B5B09F4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E48-58CD-44A9-AF52-065D3361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992-4B5C-417E-A88F-86C95048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9AB2-AEC5-4952-9833-3C8D1AD0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452-7C3C-40D8-8549-F86EC36A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28D4-4E61-45B3-9735-8F9B075F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F10A-0485-4D19-BE36-368F9D27E0AF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FE90-0FE5-4C8A-8BAD-AA8DC9FB0151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Architettura  ARM</a:t>
            </a:r>
            <a:br>
              <a:rPr sz="4400"/>
            </a:b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mpi di programmi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C. Fantozzi, A. Gardich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a.a. 2002/2003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5638680"/>
            <a:ext cx="1066680" cy="911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09680" y="5715000"/>
            <a:ext cx="1600200" cy="82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773760" y="5410080"/>
            <a:ext cx="17668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1822cd"/>
                </a:solidFill>
                <a:latin typeface="Lucida Sans Unicode"/>
              </a:rPr>
              <a:t>Esempio 2: sezioni </a:t>
            </a:r>
            <a:r>
              <a:rPr b="1" lang="it-IT" sz="4000" spc="-1" strike="noStrike">
                <a:solidFill>
                  <a:srgbClr val="1822cd"/>
                </a:solidFill>
                <a:latin typeface="Courier New"/>
              </a:rPr>
              <a:t>.data</a:t>
            </a:r>
            <a:r>
              <a:rPr b="1" lang="it-IT" sz="4000" spc="-1" strike="noStrike">
                <a:solidFill>
                  <a:srgbClr val="1822cd"/>
                </a:solidFill>
                <a:latin typeface="Lucida Sans Unicode"/>
              </a:rPr>
              <a:t> e </a:t>
            </a:r>
            <a:r>
              <a:rPr b="1" lang="it-IT" sz="4000" spc="-1" strike="noStrike">
                <a:solidFill>
                  <a:srgbClr val="1822cd"/>
                </a:solidFill>
                <a:latin typeface="Courier New"/>
              </a:rPr>
              <a:t>.bss</a:t>
            </a:r>
            <a:endParaRPr b="1" lang="en-US" sz="40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37" name=""/>
          <p:cNvSpPr/>
          <p:nvPr/>
        </p:nvSpPr>
        <p:spPr>
          <a:xfrm>
            <a:off x="287280" y="2276640"/>
            <a:ext cx="8569440" cy="15904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/* Dati inizializzati (stringhe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tr1: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ascii "Questa stringa e' lunga 36 caratteri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long 0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 @ fine strin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7280" y="4508640"/>
            <a:ext cx="8569440" cy="15904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/* Dati non inizializzati (stack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b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lostack: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skip 2048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@ 2048 byte per lo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iostac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AA5-E2D0-4D43-A95F-BB2D5F6184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empio 2: sezione .text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5660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Esecuzione con condizio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ndirizzamento con offset da registr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"/>
          <p:cNvSpPr/>
          <p:nvPr/>
        </p:nvSpPr>
        <p:spPr>
          <a:xfrm>
            <a:off x="258840" y="1798560"/>
            <a:ext cx="8626320" cy="36320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_star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LDR R13, =miostack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@ inizializza 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LDR R0, =str1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@ calcoleremo la lungh. di st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strl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TMFD SP!, {R1, R2}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@ salva R1 e R2 sullo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MOV R1, R0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@ R1: ind. base della strin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MOV R0, #0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@ R0: lunghezza strin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loop: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LDRB R2, [R1, R0]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@ carica byte all'indirizzo R1+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CMP R2, #0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@ e' fine stringa (cioe' 0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ADDNE R0, R0, #1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@ no: esamina carattere suc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BNE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fine: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LDMFD SP!, {R1, R2}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@ ripristina i registri us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pippo: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B pippo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   @ fine program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1C5-321F-406C-B6DA-C2965CE329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mpio 3: fattorial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9836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Si vuole scrivere un programma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che calcoli il </a:t>
            </a:r>
            <a:r>
              <a:rPr b="1" lang="it-IT" sz="3200" spc="-1" strike="noStrike">
                <a:solidFill>
                  <a:srgbClr val="f06157"/>
                </a:solidFill>
                <a:latin typeface="Lucida Sans Unicode"/>
              </a:rPr>
              <a:t>fattoriale di un numer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Ingresso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contien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Uscita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contien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oppure 0 in caso di overflow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411280" y="3284640"/>
                <a:ext cx="431964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!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!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er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er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44EF-DAAE-4D49-ACB0-DC12B05206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empio 3: sezione </a:t>
            </a:r>
            <a:r>
              <a:rPr b="1" lang="it-IT" sz="4400" spc="-1" strike="noStrike">
                <a:solidFill>
                  <a:srgbClr val="1822cd"/>
                </a:solidFill>
                <a:latin typeface="Courier New"/>
              </a:rPr>
              <a:t>.text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46" name=""/>
          <p:cNvSpPr/>
          <p:nvPr/>
        </p:nvSpPr>
        <p:spPr>
          <a:xfrm>
            <a:off x="258840" y="1844640"/>
            <a:ext cx="8626320" cy="445500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_star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LDR R13, =miostack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@ inizializza 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MOV r0, #6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@ calcoleremo 6!=720=0x02D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fa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CMP R0, #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BLS do_it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@ non c'e' overflow: proc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MOV R0, #0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@ c'e' overflow: poni R0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B pippo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 @ fine program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do_it: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TMFD SP!, {R1}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@ salva R1 sullo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MOV R1, 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ciclo: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UBS R1, R1, #1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@ R1=R1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BEQ fine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@ se R1=0 il ciclo e' fin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MUL R0, R1, R0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@ R0=R1*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B ciclo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 @ vai all'iterazione success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fine: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LDMFD SP!, {R1}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@ ripristina R1 dallo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pippo: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B pippo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   @ fine program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A7A3-A88B-490F-980B-950959177E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. 3: esecuz. con condizion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48" name=""/>
          <p:cNvSpPr/>
          <p:nvPr/>
        </p:nvSpPr>
        <p:spPr>
          <a:xfrm>
            <a:off x="258840" y="2112840"/>
            <a:ext cx="8626320" cy="41806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_star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LDR R13, =miostack @ inizializza 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MOV r0, #6         @ calcoleremo 6!=720=0x02D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fa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CMP R0, #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BLS do_it          @ non c'e' overflow: proc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MOV R0, #0         @ c'e' overflow: poni R0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B pippo            @ fine program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do_it:   STMFD SP!, {R1}    @ salva R1 sullo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MOV R1, 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ciclo:   SUBS R1, R1, #1    @ R1=R1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MULNE R0, R1, R0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@ R0=R1*R0 se R1 e' diverso da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NE ciclo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  @ iteraz. successiva se R1!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fine:    LDMFD SP!, {R1}    @ ripristina R1 dallo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pippo:   B pippo            @ fine program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C49-2159-4DAA-BBFB-520F7BF858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mpio 3: compilatore c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ome si comporta il compilatore c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"/>
          <p:cNvSpPr/>
          <p:nvPr/>
        </p:nvSpPr>
        <p:spPr>
          <a:xfrm>
            <a:off x="574560" y="2852640"/>
            <a:ext cx="7993080" cy="3357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unsigned int main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unsigned int r0=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unsigned int r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r1=r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while(r1&gt;1) { r1--; r0*=r1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return r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0963-9346-4BE4-ABE4-FAAA484CF5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mpio 3: -O0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53" name=""/>
          <p:cNvSpPr/>
          <p:nvPr/>
        </p:nvSpPr>
        <p:spPr>
          <a:xfrm>
            <a:off x="1619280" y="1916280"/>
            <a:ext cx="5904000" cy="46288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00000000 &lt;fattoriale&gt;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0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1a0c00d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12, 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4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92dd800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tmdb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p!, {r11, r12, lr, pc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8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24cb004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11, r12, #4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; 0x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c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24dd008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p, sp, #8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; 0x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10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3a03006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3, #6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; 0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14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50b3010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3, [r11, -#1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18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51b3010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ldr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3, [r11, -#1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1c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50b3014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3, [r11, -#2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20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51b3014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ldr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3, [r11, -#2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24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3530001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cmp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3, #1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; 0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28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8a00000a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bhi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30 &lt;fattoriale+0x30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2c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a000012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50 &lt;fattoriale+0x50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30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51b3014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ldr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3, [r11, -#2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34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2432001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2, r3, #1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; 0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38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50b2014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2, [r11, -#2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3c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51b3010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ldr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3, [r11, -#1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40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51b2014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ldr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2, [r11, -#2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44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0030392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3, r2, r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48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50b3010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3, [r11, -#1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4c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a000006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20 &lt;fattoriale+0x20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50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51b3010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ldr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3, [r11, -#1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54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1a00003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0, r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58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a000015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5c &lt;fattoriale+0x5c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5c: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e91ba800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ldmdb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11, {r11, sp, pc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D6D-1BE9-42DA-92A6-5D5C06F1B7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mpio 3: -O9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55" name=""/>
          <p:cNvSpPr/>
          <p:nvPr/>
        </p:nvSpPr>
        <p:spPr>
          <a:xfrm>
            <a:off x="576360" y="2592360"/>
            <a:ext cx="7993080" cy="29919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00000000 &lt;fattoriale&gt;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0: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3a00006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0, #6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 0x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4: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1a03000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3, r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8: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2433001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3, r3, #1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 0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: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3530001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mp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3, #1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 0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10: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0000093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0, r3, r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14: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8a000000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hi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8 &lt;fattoriale+0x8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18: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1a0f00e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c, 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9D2C-B870-45C2-BAF0-24F5A363ED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rcizi proposti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stemare la condizione di terminazione nel programma “copia di vettori” che usa LDM/ST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crivere un programma che copi stringhe anziché vettori generic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5DD-2FA4-484A-A87F-61D6A03182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mpio 1: copia di un vettor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 vuole scrivere un programma che esegua la </a:t>
            </a:r>
            <a:r>
              <a:rPr b="1" lang="en-US" sz="3200" spc="-1" strike="noStrike">
                <a:solidFill>
                  <a:srgbClr val="f06157"/>
                </a:solidFill>
                <a:latin typeface="Lucida Sans Unicode"/>
              </a:rPr>
              <a:t>copia di un vettor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Parametri di ingress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: lunghezza del vettore in wor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: indirizzo primo element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vettore 1 (sorgente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2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: indirizzo primo element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vettore 2 (destinazione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9CF-2D0A-4D48-9D26-161786299B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. 1: cuore del programma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896000"/>
            <a:ext cx="82296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ndirizzamenti usati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di registr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di registro scalat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post-incremento immediat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"/>
          <p:cNvSpPr/>
          <p:nvPr/>
        </p:nvSpPr>
        <p:spPr>
          <a:xfrm>
            <a:off x="193680" y="1916280"/>
            <a:ext cx="8755200" cy="27471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MOV R0, R0, LSL#2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@ lunghezza vettore in BY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ADD R3, R1, R0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@ R3: indirizzo di s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LDR R0, [R1], #4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@ carica dal primo vet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STR R0, [R2], #4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@ salva nel secondo vet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CMP R1, R3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    @ raggiunta la fin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BLO loop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      @ no: rientra nel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3B0-A48E-407F-AF63-A44F12D3A2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. 1: programma complet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9880"/>
            <a:ext cx="822960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i vuole copiare un vettor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table1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di 120 elementi nel vettor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table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Oltre alle istruzioni appena viste, bisogn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nizializzare 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table1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(sezione 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.data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riservare spazio per 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table2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(sezione 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.bss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mpostare i parametri d’ingress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Tutti i registri </a:t>
            </a:r>
            <a:r>
              <a:rPr b="1" lang="it-IT" sz="2800" spc="-1" strike="noStrike">
                <a:solidFill>
                  <a:srgbClr val="f06157"/>
                </a:solidFill>
                <a:latin typeface="Lucida Sans Unicode"/>
              </a:rPr>
              <a:t>devono essere inalterati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al termine del programm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Uso di uno </a:t>
            </a: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9D0-2379-4B05-88C0-C4591E206A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empio 1: sezione </a:t>
            </a:r>
            <a:r>
              <a:rPr b="1" lang="it-IT" sz="4400" spc="-1" strike="noStrike">
                <a:solidFill>
                  <a:srgbClr val="1822cd"/>
                </a:solidFill>
                <a:latin typeface="Courier New"/>
              </a:rPr>
              <a:t>.data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120 elementi = 480 by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4 byte “XXXX” di “guardia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"/>
          <p:cNvSpPr/>
          <p:nvPr/>
        </p:nvSpPr>
        <p:spPr>
          <a:xfrm>
            <a:off x="193680" y="3400560"/>
            <a:ext cx="8755200" cy="27428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able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ascii "Registers R0 to R7 are unbanked registers. This me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ascii "ans that each of them refers to the same 32-bit p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ascii "ysical register in all processor modes. They are c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ascii "ompletely general-purpose registers, with no speci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ascii "al uses implied by the architecture, and can be u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ascii "ed wherever an instruction allows a general-purpo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ascii "e register to be specified. Registers R8 to R14 ar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ascii "e banked registers. The physical register referre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ascii "to by each of them depends on the current processo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ascii "r mode. Where a particular phyXXXX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007-1FAB-4A75-BFF2-2C5D420E3A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empio 1: sezione </a:t>
            </a:r>
            <a:r>
              <a:rPr b="1" lang="it-IT" sz="4400" spc="-1" strike="noStrike">
                <a:solidFill>
                  <a:srgbClr val="1822cd"/>
                </a:solidFill>
                <a:latin typeface="Courier New"/>
              </a:rPr>
              <a:t>.bss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Stack di tipo FD (Full Descending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miostack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: primo elemento vuoto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dopo lo stack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lostack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: ultimo elemento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alla sommità dello stack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"/>
          <p:cNvSpPr/>
          <p:nvPr/>
        </p:nvSpPr>
        <p:spPr>
          <a:xfrm>
            <a:off x="509760" y="4991040"/>
            <a:ext cx="8123040" cy="11631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b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ble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.skip 4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stack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.skip 204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 2048 byte di stack "privato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ostac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147-1439-460F-B248-389B03C57A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empio 1: sezione </a:t>
            </a:r>
            <a:r>
              <a:rPr b="1" lang="it-IT" sz="4400" spc="-1" strike="noStrike">
                <a:solidFill>
                  <a:srgbClr val="1822cd"/>
                </a:solidFill>
                <a:latin typeface="Courier New"/>
              </a:rPr>
              <a:t>.text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30" name=""/>
          <p:cNvSpPr/>
          <p:nvPr/>
        </p:nvSpPr>
        <p:spPr>
          <a:xfrm>
            <a:off x="258840" y="2205000"/>
            <a:ext cx="8626320" cy="3959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_star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R R13, =miostack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@ inizializza 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MOV R0, #120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 @ copieremo un vettore lungo 120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R R1, =table1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@ indirizzo del vettore sor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R R2, =table2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@ indirizzo del vettore destin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copyve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TMFD SP!, {R0-R3}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@ salva R0-R3 sullo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MOV R0, R0, LSL #2    @ lunghezza del vettore in B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ADD R3, R1, R0        @ R3 contiene l'indirizzo di 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loop:    LDR R0, [R1], #4      @ carica dal primo vet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STR R0, [R2], #4      @ salva nel secondo vet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CMP R1, R3            @ raggiunta la fin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BLO loop              @ no: rientra nel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fine: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MFD SP!, {R0-R3}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@ ripristina i registri us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pippo: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B pippo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      @ fine program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9CBC-E197-46F5-820E-A1AC997BED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Esempio 1: uso di LDM/STM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ndirizzo di stop: 1 istruzione anziché 2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con l’indirizzamento di registro scalat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1680" indent="-3016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Copiate 10 word alla volta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"/>
          <p:cNvSpPr/>
          <p:nvPr/>
        </p:nvSpPr>
        <p:spPr>
          <a:xfrm>
            <a:off x="258840" y="1773360"/>
            <a:ext cx="8626320" cy="34729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760" rIns="32760" tIns="32760" bIns="32760" anchor="t">
            <a:spAutoFit/>
          </a:bodyPr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_star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LDR R13, =miostack     @ inizializza S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MOV R0, #120           @ copieremo un vettore lungo 120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LDR R1, =table1        @ indirizzo del vettore sor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LDR R2, =table2        @ indirizzo del vettore destin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copyvec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TMFD SP!, {R0-R12}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@ salva sullo stack i registri us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ADD R0, R1, R0, LSL #2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@ R0 ora contiene l'indirizzo di 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loop: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MIA R1!, {R3-R12}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@ carica dal primo vet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TMIA R2!, {R3-R12}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@ salva nel secondo vet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CMP R1, R0             @ raggiunta la fin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BLO loop               @ no: rientra nel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fine: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DMFD SP!, {R0-R12}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@ ripristina tutti i regist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82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pippo:   B pippo                @ fine program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3C34-B8C8-46BB-A993-E9203D17E4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s. 2: lunghezza di una stringa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 vuole scrivere un programma che calcoli la </a:t>
            </a:r>
            <a:r>
              <a:rPr b="1" lang="en-US" sz="2800" spc="-1" strike="noStrike">
                <a:solidFill>
                  <a:srgbClr val="f06157"/>
                </a:solidFill>
                <a:latin typeface="Lucida Sans Unicode"/>
              </a:rPr>
              <a:t>lunghezza di una string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 stringa è terminata da 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(carattere da non includere nel calcolo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arametri di ingress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 indirizzo primo carattere della string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arametri di uscit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 lunghezza della string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C3C-3230-4DF4-8BD7-D7181FAAA6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07:47:39Z</dcterms:created>
  <dc:creator>Carlo Fantozzi</dc:creator>
  <dc:description/>
  <dc:language>en-US</dc:language>
  <cp:lastModifiedBy>congiu</cp:lastModifiedBy>
  <dcterms:modified xsi:type="dcterms:W3CDTF">2003-05-22T17:39:27Z</dcterms:modified>
  <cp:revision>116</cp:revision>
  <dc:subject/>
  <dc:title>Istruzioni PXA255</dc:title>
</cp:coreProperties>
</file>