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9C1F-37D4-4FC5-9C22-E2F93216AC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indirizzamento è di tipo “flat”: niente segmenti o affi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iché la lunghezza di una istruzione è sempre un multiplo di 32 bit, il PXA255 ignora i 2 bit meno significativi del registro Program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indirizzamento è di tipo “flat”: niente segmenti o affi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iché la lunghezza di una istruzione è sempre un multiplo di 32 bit, il PXA255 ignora i 2 bit meno significativi del registro Program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RM has 31 general purpose 32-bit registers. At any one time, 16 of these registers are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grigio sono indicati i registri replicati per ciascuno dei 7 modi operativi del processore. In altre parole, per i registri in grigio in un determinato modo operativo esiste una copia RISERVATA a quel modo oper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R contiene l’indirizzo della prima istruzione immediatamente successiva a quella di branch-and-link (B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mnemonici SP, LR e anche PC sono riconosciuti dall’assemblatore (tra l’altro, è quindi possibile scrivere direttamente nel P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en an instruction reads the PC, it gets the address of the instruction that is two after itself. (Historically, there is a link between this two-instruction offset for PC reads and the two-instruction prefetch of the original ARM implementat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it 5 (T): Thumb instruction set off/on (0/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it 6 (F): fast IRQ on/off (0/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ttle endian”=“byte meno significativo all’indirizzo più basso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Halfword”=16 bit; “Byte”=8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 sui modi di indirizzamento saranno forniti poco più avanti durante la descrizione delle istruzioni 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maggiori informazioni sui modi di indirizzamento, si può consultare il capitolo A5 dell’ARM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ASR=“Arithmetic shift r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LSL=“Logical shift lef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LSR=“Logical shift r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ROR=“Rotate r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RRX=“Rotate right with exten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secondo modo di indirizzamento è quello che nel PD32 viene chiamato “indirizzamento con registro indic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questo caso, i bit sono tutti a disposizione per la rappresentazione della costante (niente shift): alcune istruzioni hanno a disposizione 8 bit, altre ne hanno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 posto dell’offset si può usare anche un registr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re che dopo l’esecuzione dell’istruzione il contenuto del registro Rn riman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alter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modo di indirizzamento è una versione estesa di quello che nel PD32 è l’indirizzamento auto-incremen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 posto dell’offset si può usare anche un registr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tutti i casi, il contenuto di Rn viene alterato dall’esecuzione dell’istru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o modo di indirizzamento è una versione estesa di quello che nel PD32 è l’indirizzamento auto-incremen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 posto dell’offset si può usare anche un registr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tutti i casi, il contenuto di Rn viene alterato dall’esecuzione dell’istru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o dei 2 operandi è sempre un regi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 registro può essere contemporaneamente usato come operando e come posto dove scrivere il risult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ggiungendo “S” allo mnemonico di un’istruzione, l’assemblatore imposterà ad 1 un opportuno bit nell’opcode dell’istruzione stes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struzioni di confronto: CMP, TST, TEQ, CMN, … (vedi più avan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di ARMARM sezione A3.2 per una lista completa delle condi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se of condition “NE” (code 0x1111) is now obsolete and unsupp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ù precisamente si tratta di “istruzioni eseguite condizionalment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se questo è un argomento troppo avanzat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tile per il debugging: con il suffisso NV una qualsiasi istruzione può essere rapidamente trasformata in una N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’ davvero impossibile elencare tutti i dispositivi che fanno uso di un core AR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0423-6D54-4D96-B4ED-184048B8945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0400" y="993600"/>
            <a:ext cx="4537080" cy="3402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036800" y="4723920"/>
            <a:ext cx="4728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6-bit SIMD perché questa è la dimensione di un campione 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RM* Version 5 introduces a few more architecture features over Version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iny pages of 1 Kbyte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 new instruction (CLZ) that counts the leading zeroes in a data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nhanced ARM-Thumb transfer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w breakpoint instructions (BK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 modification of the system control coprocessor, CP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pcode “compatti” = opcode a 16 bit: questo permette di scrivere codice che occupa poco spazio in applicazioni dove le risorse di sistema sono molto limitate. Naturalmente con le istruzioni Thumb si perdono alcune funzionalità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M variant is standard in architectures 4 and above, therefore it is not normally lis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n parleremo delle istruzioni T ed E: per maggiori informazioni si possono consultare i capitoli A6, A7 e A10 di “ARM Architecture Reference Manua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indirizzamento è di tipo “flat”: niente segmenti o affi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iché la lunghezza di una istruzione è sempre un multiplo di 32 bit, il PXA255 ignora i 2 bit meno significativi del registro Program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299-E85C-43F3-A7C3-0CBB7103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43E-D56D-4EEE-BB9A-99857B3C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941-E22D-4DAD-996C-6D4E9CFD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D49-849D-4546-8073-2461246D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C1F6-72C3-4A2D-8AE3-FD837E3C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AE3B-6DD3-40E8-8D03-28847EAE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B47A-133D-4880-AA13-26D2704C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1DCE-8E64-4612-A085-57A1BCDC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8D05-6B13-4D14-94C2-3C0C40E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A81E-D366-4BCE-B594-90211C2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4F25-480E-46EC-B07B-5DCE7887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289-427B-4ABD-B342-6732A01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CBC3-6114-48B3-AD3C-AF320F6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C01A-EDBE-47AC-A879-F1D52D6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4031-FE23-43F3-AE16-F42EF4C6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62A8-92B2-43E1-8515-C3058CCF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99D5-F4BC-4333-8AED-D4F0315E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680-A32E-4660-B16E-293FD97E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764-68EB-4C04-A3E3-7CB0A9F5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BC6-9322-457B-B7D0-F075C959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888-562E-4B29-B089-9C4FF241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B92-9305-448D-9002-E998874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F8C-9D04-4F98-AF54-FF78158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75C-1F6D-4C16-8729-02FDB572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7119-35D8-4E75-948F-2C64CFCD1A7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CC80-18F5-47A2-8A44-28B534BA914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troduzione ad ARM, XScale,</a:t>
            </a:r>
            <a:br>
              <a:rPr sz="4400"/>
            </a:b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e al processore PXA255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. Fantozzi, A. Gardi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.a. 2002/200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1066680" cy="911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5715000"/>
            <a:ext cx="160020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81680" y="5410080"/>
            <a:ext cx="17668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0136-D3E8-4E83-900E-DD99BEA553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Mv5: caratteristiche RISC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L’architettura ARMv5 è di tipo </a:t>
            </a:r>
            <a:r>
              <a:rPr b="1" lang="it-IT" sz="2800" spc="-1" strike="noStrike">
                <a:solidFill>
                  <a:srgbClr val="f06157"/>
                </a:solidFill>
                <a:latin typeface="Lucida Sans Unicode"/>
              </a:rPr>
              <a:t>RIS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un numero elevato di registr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struzioni con lunghezza fissa di 32 bit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le parole di estensione non esistono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rchitettura load/store: ad esclusione di </a:t>
            </a:r>
            <a:r>
              <a:rPr b="1" i="1" lang="it-IT" sz="28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e </a:t>
            </a:r>
            <a:r>
              <a:rPr b="1" i="1" lang="it-IT" sz="2800" spc="-1" strike="noStrike">
                <a:solidFill>
                  <a:srgbClr val="000000"/>
                </a:solidFill>
                <a:latin typeface="Courier New"/>
              </a:rPr>
              <a:t>store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, tutte le istruzioni operano su registr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modi di indirizzamento semplici: tutti gli indirizzi di memoria nelle istruz. load/store sono specificati da informazioni contenute in registri o nei campi dell’istruzion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0CA-002D-43CF-9BF5-DA692817E4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Mv5: altre caratteristich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controllo sia dell’ALU sia dello shifter, con tutte le istruzioni di elaborazione-dat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modalità di indirizzamento auto-incrementanti e auto-decrementanti (efficienza nei loop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esecuzione condizionata specificabile in tutte le istruzion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struzioni di load e store multipli (più registri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hift di n posizioni in un solo ciclo di clock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struzioni a 3 operand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B8E-E8E5-4E86-A7AA-BA7C864F5C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Modi operativ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modo ut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I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gestione veloce interruzion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R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RQ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gestione interruzion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uperviso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VC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“modo protetto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bort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T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per gestione memo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Undefined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ND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emulaz. coprocessor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: usa risorse di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     ma senza limitazioni d’acces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E2B-85DD-45FD-A1C5-D881CA2A64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 registri: panoramic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E8F-EF5B-4377-AA9B-5CD102348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 registr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R0-R13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registri di uso general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stack pointer (R13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L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link register (R14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morizza l’indirizzo di ritorno da subrout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PC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program counter (R15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unta all’istruzione da esegui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CPS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Current Program Status Register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tiene i bit di sta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Courier New"/>
              </a:rPr>
              <a:t>SPS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 Saved Program Status Register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pia di CPSR prima del cambio di mo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EEF-2DFC-4589-894A-60270FC3E4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PSR: bit util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874520"/>
            <a:ext cx="84582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0</a:t>
            </a:r>
            <a:r>
              <a:rPr b="1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–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4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M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modo operativo (su 7 attualmente previ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7  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terruzioni on/off (0/1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28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V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dica errore di overflow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(aritmetica con segno in complemento a 2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29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C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dica il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 Unicode"/>
              </a:rPr>
              <a:t>carry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 o riporto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(indica overflow nell’aritmetica senza segn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30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Z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dica un risultato zer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Bit 31 (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): indica un risultato negativo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(aritmetica con segno in complemento a 2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2280" y="5437080"/>
            <a:ext cx="8839440" cy="963720"/>
            <a:chOff x="152280" y="5437080"/>
            <a:chExt cx="8839440" cy="9637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52280" y="5437080"/>
              <a:ext cx="88394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5791320"/>
              <a:ext cx="3124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servati (non usat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124-68CA-4FE6-BD5C-123E0169A2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Big o Little Endian?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XA255 supporta tutte e 2 le modalit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comportamento predefinito è</a:t>
            </a:r>
            <a:br>
              <a:rPr sz="3200"/>
            </a:b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little endian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, secondo specifiche A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9640" y="4486320"/>
            <a:ext cx="80661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C54-A7F6-4951-907A-669AA78DF5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Operazioni di I/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’I/O è di tipo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memory mapped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 registri delle periferiche si trovano ad opportuni indirizzi di memo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2 tipi di interruzioni: normale e fas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hardware per l’accesso diretto delle periferiche alla memoria (DM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736-7CB1-47FD-9277-71D0CF6AF9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 modi di indirizzamen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Ogni categoria di istruzioni ha i propri modi di indirizza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2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RISC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17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niente indirizzamento assoluto (non usa puntatori in memoria, ma solo nei registri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17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amento in memoria solo per le istruzioni LDR (load) e STR (stor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BBB-7B41-48B9-8F62-0961A5E784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ndirizzamento immedia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campo dell’istruzione contiene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valore su cui opera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ntassi: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#numer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12 bit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a disposizione: 8 bit (c) per una costante, 4 bit (r) per una rotazione a dx di un numero pari di bit (2*r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mmediato valido: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#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0x104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c=0x41, r=15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mmediato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valido: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#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0x1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929-444A-429E-A9E3-F846A60760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Che cosa è ARM?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M=“Advanced RISC Machine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M Ltd. non produce microprocessori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etta e vend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rietà intellettua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M è una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rchitettur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ieme dei registri e delle istruzioni disponibil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i d’indirizzamen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estione delle interruzion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istono molte versioni dell’architettur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 molti processori per vers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43C-0DF4-4E87-838E-C1FDB2BE24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ndirizzamento di regist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8745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valore su cui operare è contenut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 un registro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Tale valore può essere shiftato di una quantità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pecificata in modo immediato (0..31: 5 bi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20000"/>
              </a:lnSpc>
              <a:spcAft>
                <a:spcPts val="1749"/>
              </a:spcAft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pecificata da un secondo registro: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LSR #numero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oppure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LSR Rs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ASR #numero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oppure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ASR Rs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LSL #numero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oppure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LSL Rs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ROR #numero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oppure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ROR Rs</a:t>
            </a:r>
            <a:br>
              <a:rPr sz="2800"/>
            </a:b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                      </a:t>
            </a:r>
            <a:r>
              <a:rPr b="0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, RRX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756-92A4-4E97-A9D2-31921B00AF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dirizz. indiretto con regist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Usato nelle istruzioni load/store per accedere alla memo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valore dell’operando è puntato da un registro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(cioè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ontiene l’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indirizzo dell’operand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ntassi: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31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 può specificare un offset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1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bit) da sommare o sottrarre a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per formare l’indirizzo (ind. a 2 componenti, simile all’ind. con registro indic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ntassi: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#offset_12]</a:t>
            </a:r>
            <a:br>
              <a:rPr sz="2800"/>
            </a:b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     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Rm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883-CC41-453C-AABA-B8F421F458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dir. con pre/post-incremen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re-incre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chiamato anche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 Unicode"/>
              </a:rPr>
              <a:t>pre-indexed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:     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viene modificato sommando l’offset,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rima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di usare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come puntatore all’operand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ntassi: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#offset_12]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Rm]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17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ost-incre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chiamato anche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 Unicode"/>
              </a:rPr>
              <a:t>post-indexed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): 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è usato come indirizzo dell’operando,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poi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Rn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viene modificato sommando l’offse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Sintassi: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#offset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R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6EF-87E2-417A-9770-17A83968F7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Pre/post-increm. con registr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registro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Rm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può essere shifta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di un valore immediato di 5 bi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ntassi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"/>
          <p:cNvSpPr/>
          <p:nvPr/>
        </p:nvSpPr>
        <p:spPr>
          <a:xfrm>
            <a:off x="682920" y="443700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  <a:ea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LSL #num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LSR #num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ASR #num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ROR #num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RRX]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5640" y="4437000"/>
            <a:ext cx="365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LSL #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LSR #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ASR #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ROR #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[Rn], </a:t>
            </a:r>
            <a:r>
              <a:rPr b="1" lang="en-US" sz="2400" spc="-1" strike="noStrike">
                <a:solidFill>
                  <a:srgbClr val="1822cd"/>
                </a:solidFill>
                <a:latin typeface="Courier New"/>
              </a:rPr>
              <a:t>±</a:t>
            </a:r>
            <a:r>
              <a:rPr b="1" lang="it-IT" sz="2400" spc="-1" strike="noStrike">
                <a:solidFill>
                  <a:srgbClr val="1822cd"/>
                </a:solidFill>
                <a:latin typeface="Courier New"/>
              </a:rPr>
              <a:t>Rm, R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01880" y="371628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Pre-incr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1560" y="3716280"/>
            <a:ext cx="35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ost-incr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29264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16280"/>
            <a:ext cx="0" cy="288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E77-5F18-4175-A182-CAB561E9E2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dirizzamento auto-relativ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i ottiene usando il registro R15 (PC) nell’indirizzamento indiretto con registr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[R15, </a:t>
            </a:r>
            <a:r>
              <a:rPr b="1" lang="en-US" sz="2800" spc="-1" strike="noStrike">
                <a:solidFill>
                  <a:srgbClr val="1822cd"/>
                </a:solidFill>
                <a:latin typeface="Courier New"/>
                <a:ea typeface="Lucida Sans Unicode"/>
              </a:rPr>
              <a:t>±#offset_12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il valore di R15 usato è PC_istruz.+8 (prefetch!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0"/>
              </a:spcBef>
              <a:buClr>
                <a:srgbClr val="3568c7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e istruzioni di salto (branch) (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) usano una forma particolare di ind. autorelativ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B label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Lucida Sans Unicode"/>
              </a:rPr>
              <a:t>l’assemblatore trasforma label in PC + X (offse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5E0-2F05-44D6-B7AD-408DAAAE99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822cd"/>
                </a:solidFill>
                <a:latin typeface="Lucida Sans Unicode"/>
              </a:rPr>
              <a:t>Indirizzamento di branch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’indirizzo di destinazione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indd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è dato dalla somma di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PC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e di un offset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 </a:t>
            </a:r>
            <a:r>
              <a:rPr b="1" lang="it-IT" sz="3200" spc="-1" strike="noStrike">
                <a:solidFill>
                  <a:srgbClr val="1822cd"/>
                </a:solidFill>
                <a:latin typeface="Courier New"/>
              </a:rPr>
              <a:t>X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	</a:t>
            </a: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indd=PC+X 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(PC è ind_istruzione+8: prefetch!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l’offset è codificato come CX da 24 bit (con segn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X = CX*4    (X =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±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32MB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l calcolo di CX è eseguito </a:t>
            </a:r>
            <a:r>
              <a:rPr b="1" lang="it-IT" sz="3200" spc="-1" strike="noStrike">
                <a:solidFill>
                  <a:srgbClr val="000000"/>
                </a:solidFill>
                <a:latin typeface="Lucida Sans Unicode"/>
              </a:rPr>
              <a:t>automaticamente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dall’assemblator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Esempio: l’istruzione di salto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822cd"/>
                </a:solidFill>
                <a:latin typeface="Courier New"/>
              </a:rPr>
              <a:t>LAB1: B LAB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  @ CX= (LAB2-LAB1-8)/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798-B1DC-4619-B769-EEDD413710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Le istru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960" y="17226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RMv5 preved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struzioni di elaborazione dati a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 3 operand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uno (registro) per il risultato, due per gli operandi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7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UB R2, R0, R1        @ R2=R0-R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7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UB R2, R0, R1 LSL #4 @ R2=R0-R1*1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ltre istruzioni  a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2 operandi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uno per l’op. destinazione, uno per l’op. sorgent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7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MOV R2, R2 ASR #2     @ R2=R2/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ltre istruzioni  a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1 operando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ad es. le istruzioni di bran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7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 LAB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2D0-8F95-4760-8F75-C5AE92DD91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Modifica dei bit di sta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default le istruzion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non modificano i bit di stat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modificare i bit di stato si acco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“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” allo mnemonico dell’istruzio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 R2, R0, 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@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n modific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ZCV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2, R0, 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@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ific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ZCV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on vale per le istruzioni di confronto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B7A-C7E0-4770-951E-BA51BCBA6F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struzioni con condizione (1/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ggiungendo specifici suffissi, un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truzione viene eseguita solo se i bit di stato verificano precise condizion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sempi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"/>
          <p:cNvSpPr/>
          <p:nvPr/>
        </p:nvSpPr>
        <p:spPr>
          <a:xfrm>
            <a:off x="959760" y="4276800"/>
            <a:ext cx="722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n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0 solo 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egui 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0 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egui 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1 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≠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egui semp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R0, #0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n eseguir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EC0-0AE2-471B-B1E3-A4256454B7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Istruzioni con condizione (2/2)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mettono di velocizzare il codi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isparmiando salti condiziona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ntenendo pieni i pipe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essun branch mispredic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3840" y="4008600"/>
            <a:ext cx="8525160" cy="1556280"/>
            <a:chOff x="393840" y="4008600"/>
            <a:chExt cx="8525160" cy="1556280"/>
          </a:xfrm>
        </p:grpSpPr>
        <p:sp>
          <p:nvSpPr>
            <p:cNvPr id="188" name=""/>
            <p:cNvSpPr/>
            <p:nvPr/>
          </p:nvSpPr>
          <p:spPr>
            <a:xfrm>
              <a:off x="5568480" y="4008600"/>
              <a:ext cx="3350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CMP   r0, #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MOVGT r0, #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urier New"/>
                </a:rPr>
                <a:t>MOVLE r0, #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3840" y="4406760"/>
              <a:ext cx="402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urier New"/>
                </a:rPr>
                <a:t>if (a &gt; 10) return 0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urier New"/>
                </a:rPr>
                <a:t>else retur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4551480"/>
              <a:ext cx="792000" cy="503280"/>
            </a:xfrm>
            <a:prstGeom prst="rightArrow">
              <a:avLst>
                <a:gd name="adj1" fmla="val 50000"/>
                <a:gd name="adj2" fmla="val 39342"/>
              </a:avLst>
            </a:prstGeom>
            <a:solidFill>
              <a:srgbClr val="3568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D4A-C0BD-48E0-A180-952E0262DA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M nella vita quotidiana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outer ADSL (Samsung KS32C5000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okia “Serie 60” (ARM9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ame Boy Advance (cust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lti palmari (StrongARM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l PXA255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“XScale”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86200" y="5181480"/>
            <a:ext cx="2514600" cy="128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74312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2438280" cy="147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010280" y="2514600"/>
            <a:ext cx="159732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DEB-5A54-4F3E-B8A8-0624A06193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Lista delle condi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5640" y="1754280"/>
            <a:ext cx="487332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3E5-771B-4C25-BA0E-A91CA74810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9172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Sans Unicode"/>
              </a:rPr>
              <a:t>Classificazione delle istru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3104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80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Elaborazione di dat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operazioni aritmetico logic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di movimento tra registr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di confron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Movimento di dat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load / store tra memoria e registr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Controllo di flus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2872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branch su condiz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indent="0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indent="0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23E-22F9-4337-883F-C09DE968688E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XA255: obiettivi di progetto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idotto time-to-marke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lessibilit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levata integrazio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eno componenti, meno are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levata potenza di calcol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asso cos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asso consum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BB8-9A74-44FF-8A1E-120283BC6C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XA255: applicaz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and-hel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stemi “chiusi”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reless Internet Devices (?!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tworking dev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rage dev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mote access serv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E21-8040-4609-A171-610F342483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XA255: la “ferraglia”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7x17 mm 256-pin mBG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mini Ball Grid Array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o produttivo a 0.18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equenza del core: 400 MHz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us memoria: fino a 100 MHz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ima tensione di alimentazione: 1 V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ssima potenza dissipata: 2.6 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2A8-4CCB-48EE-9530-8BD9FD967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PXA255: specifiche tecnich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Processore RISC a 32 bi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Sofisticata gestione memoria &amp; cach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Compatibile ARM Architecture v.5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RM V5T Thumb instruction s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ARM V5E DSP extens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Intel® Media Processing Technology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40-bit accumulator and 16-bit SIM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Nessun hardware per floating poi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0BD-175D-4D2A-BAFD-A7518F8F6E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chitettura ARM: versioni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efinite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5 versioni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(da 1 a 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el set di istruzioni A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r ogni versione esistono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variant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dentificate da lette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tel PXA255 è conforme ad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RMv5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 = Thumb instruction se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code a 16 bit per risparmiare spaz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 = Enhanced DSP instru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18D-6510-4431-B09A-33B3F2D7CE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Sans Unicode"/>
              </a:rPr>
              <a:t>ARMv5: caratteristiche</a:t>
            </a:r>
            <a:endParaRPr b="1" lang="en-US" sz="4400" spc="-1" strike="noStrike">
              <a:solidFill>
                <a:srgbClr val="1822cd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L’architettura ARMv5 è a </a:t>
            </a:r>
            <a:r>
              <a:rPr b="1" lang="it-IT" sz="3200" spc="-1" strike="noStrike">
                <a:solidFill>
                  <a:srgbClr val="f06157"/>
                </a:solidFill>
                <a:latin typeface="Lucida Sans Unicode"/>
              </a:rPr>
              <a:t>32 bi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 Unicode"/>
              </a:rPr>
              <a:t>wor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=32 bit (in memoria allineati ad indirizzi multipli di 4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 Unicode"/>
              </a:rPr>
              <a:t>halfword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=16 bit (in memoria allineati ad indirizzi multipli di 2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 Unicode"/>
              </a:rPr>
              <a:t>byte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=8 bit (singolarmente indirizzabili in memoria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ndirizzamento di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Lucida Sans Unicode"/>
              </a:rPr>
              <a:t>32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byte di memo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0C8-C4F0-43DC-9A85-BE30D9385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7:47:39Z</dcterms:created>
  <dc:creator>Carlo Fantozzi</dc:creator>
  <dc:description/>
  <dc:language>en-US</dc:language>
  <cp:lastModifiedBy>congiu</cp:lastModifiedBy>
  <dcterms:modified xsi:type="dcterms:W3CDTF">2003-05-20T08:20:11Z</dcterms:modified>
  <cp:revision>58</cp:revision>
  <dc:subject/>
  <dc:title>PXA255: la “ferraglia”</dc:title>
</cp:coreProperties>
</file>