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Click to move the slide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0A0C-1022-4624-BB3B-721E376A698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l registro extra viene usato per le operazioni di load e store a 2 indirizz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BREV(0x16300000) = BREV(0b0001011000110000..0) = 0b0000110001101000 = 0x00000C6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Rm&gt;, RRX” = “l’operando è Rm shiftato a DX di una posizione, e con il contenuto di C che va ad occupare il bit vacante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(42)=267914296 9 dig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(43)=433494437 9 dig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AC34-48AE-4CC3-B59F-8C2D5DF06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DC02-4483-425E-A04E-DEE5951D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1E32-9523-43CE-9E61-2F3470200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AEF1-F260-4508-8B53-2566FA2E0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BBB3-F609-434A-B977-54E87657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5FC6-6146-4635-BE8B-F79D9BFB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8C54-05F8-49E0-B1BA-12709626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1013-33B8-4F82-9A4A-AAEE6507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3613-DB04-422E-8376-9A27FF98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89E9-6133-4DF5-B643-CE34CF12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A1F3-30C7-4F1A-A5EE-297B23DE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75EB-78C8-4382-8CA3-1BFA1225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D783-F61B-4004-984E-822BB8D4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602C-5985-4025-B3A4-7DCA988F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A49C-FEE2-4FD4-9D23-9C2565EA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2CD7-E854-42DF-B013-96E8531CE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595D-E2FC-4C17-A4A0-3B39DF0BA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568B-82F7-4DB0-AA40-36ED8F7B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17A5-86E2-411B-A915-E249D1E5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E8B1-2012-4E8A-8C3C-2B67011D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41FB-4015-411A-B898-7EE3DC28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7986-7FFE-46AE-8260-AEEBDE35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D337-A042-4361-A81A-EDDAA833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1FD5-836D-4E92-9C93-70ABC0EA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C50A-8FC7-4A09-B376-A78B002A71F0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A99E-E3CC-4993-A2CB-AD0BFE51CF4D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Architettura  ARM:</a:t>
            </a:r>
            <a:br>
              <a:rPr sz="4400"/>
            </a:b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rcizi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C. Fantozzi, A. Gardich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a.a. 2002/2003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5638680"/>
            <a:ext cx="1066680" cy="911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209680" y="5715000"/>
            <a:ext cx="1600200" cy="825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773760" y="5410080"/>
            <a:ext cx="17668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rcizio 2: codice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38" name=""/>
          <p:cNvSpPr/>
          <p:nvPr/>
        </p:nvSpPr>
        <p:spPr>
          <a:xfrm>
            <a:off x="1008000" y="2595600"/>
            <a:ext cx="7128000" cy="30520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LDR R0, [R1], #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ANDS R0, R0, R1, ASR #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STRCS R0, [R1, #4]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A18F-16E0-46DA-A250-9CD247874D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rcizio 2: soluzione (1)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Indirizzamento con post-increment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R0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 W[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]=W[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0x00008100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]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pertanto </a:t>
            </a:r>
            <a:r>
              <a:rPr b="1" lang="it-IT" sz="3200" spc="-1" strike="noStrike">
                <a:solidFill>
                  <a:srgbClr val="f06157"/>
                </a:solidFill>
                <a:latin typeface="Courier New"/>
              </a:rPr>
              <a:t>R0</a:t>
            </a:r>
            <a:r>
              <a:rPr b="1" lang="it-IT" sz="3200" spc="-1" strike="noStrike">
                <a:solidFill>
                  <a:srgbClr val="f06157"/>
                </a:solidFill>
                <a:latin typeface="Lucida Sans Unicode"/>
              </a:rPr>
              <a:t> </a:t>
            </a:r>
            <a:r>
              <a:rPr b="1" lang="it-IT" sz="3200" spc="-1" strike="noStrike">
                <a:solidFill>
                  <a:srgbClr val="f06157"/>
                </a:solidFill>
                <a:latin typeface="Symbol"/>
                <a:ea typeface="Symbol"/>
              </a:rPr>
              <a:t></a:t>
            </a:r>
            <a:r>
              <a:rPr b="1" lang="it-IT" sz="3200" spc="-1" strike="noStrike">
                <a:solidFill>
                  <a:srgbClr val="f06157"/>
                </a:solidFill>
                <a:latin typeface="Lucida Sans Unicode"/>
              </a:rPr>
              <a:t> </a:t>
            </a:r>
            <a:r>
              <a:rPr b="1" lang="it-IT" sz="3200" spc="-1" strike="noStrike">
                <a:solidFill>
                  <a:srgbClr val="f06157"/>
                </a:solidFill>
                <a:latin typeface="Courier New"/>
              </a:rPr>
              <a:t>0x12345678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+4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pertanto </a:t>
            </a:r>
            <a:r>
              <a:rPr b="1" lang="it-IT" sz="3200" spc="-1" strike="noStrike">
                <a:solidFill>
                  <a:srgbClr val="f06157"/>
                </a:solidFill>
                <a:latin typeface="Courier New"/>
              </a:rPr>
              <a:t>R1</a:t>
            </a:r>
            <a:r>
              <a:rPr b="1" lang="it-IT" sz="3200" spc="-1" strike="noStrike">
                <a:solidFill>
                  <a:srgbClr val="f06157"/>
                </a:solidFill>
                <a:latin typeface="Lucida Sans Unicode"/>
              </a:rPr>
              <a:t> </a:t>
            </a:r>
            <a:r>
              <a:rPr b="1" lang="it-IT" sz="3200" spc="-1" strike="noStrike">
                <a:solidFill>
                  <a:srgbClr val="f06157"/>
                </a:solidFill>
                <a:latin typeface="Symbol"/>
                <a:ea typeface="Symbol"/>
              </a:rPr>
              <a:t></a:t>
            </a:r>
            <a:r>
              <a:rPr b="1" lang="it-IT" sz="3200" spc="-1" strike="noStrike">
                <a:solidFill>
                  <a:srgbClr val="f06157"/>
                </a:solidFill>
                <a:latin typeface="Lucida Sans Unicode"/>
              </a:rPr>
              <a:t> </a:t>
            </a:r>
            <a:r>
              <a:rPr b="1" lang="it-IT" sz="3200" spc="-1" strike="noStrike">
                <a:solidFill>
                  <a:srgbClr val="f06157"/>
                </a:solidFill>
                <a:latin typeface="Courier New"/>
              </a:rPr>
              <a:t>0x00008104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"/>
          <p:cNvSpPr/>
          <p:nvPr/>
        </p:nvSpPr>
        <p:spPr>
          <a:xfrm>
            <a:off x="1008000" y="1917720"/>
            <a:ext cx="7128000" cy="4924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DR R0, [R1], #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0A42-FA8B-45B6-80B1-F74364752F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rcizio 2: soluzione (2)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0   =0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0010010001101000101011001111000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1&gt;&gt;1=0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0000000000000000100000010000010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  =0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0000000000000000100000000000000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ertanto </a:t>
            </a:r>
            <a:r>
              <a:rPr b="1" lang="en-US" sz="3200" spc="-1" strike="noStrike">
                <a:solidFill>
                  <a:srgbClr val="f06157"/>
                </a:solidFill>
                <a:latin typeface="Courier New"/>
              </a:rPr>
              <a:t>R0</a:t>
            </a:r>
            <a:r>
              <a:rPr b="1" lang="en-US" sz="3200" spc="-1" strike="noStrike">
                <a:solidFill>
                  <a:srgbClr val="f06157"/>
                </a:solidFill>
                <a:latin typeface="Lucida Sans Unicode"/>
              </a:rPr>
              <a:t> </a:t>
            </a:r>
            <a:r>
              <a:rPr b="1" lang="en-US" sz="3200" spc="-1" strike="noStrike">
                <a:solidFill>
                  <a:srgbClr val="f06157"/>
                </a:solidFill>
                <a:latin typeface="Symbol"/>
                <a:ea typeface="Symbol"/>
              </a:rPr>
              <a:t></a:t>
            </a:r>
            <a:r>
              <a:rPr b="1" lang="en-US" sz="3200" spc="-1" strike="noStrike">
                <a:solidFill>
                  <a:srgbClr val="f06157"/>
                </a:solidFill>
                <a:latin typeface="Lucida Sans Unicode"/>
              </a:rPr>
              <a:t> </a:t>
            </a:r>
            <a:r>
              <a:rPr b="1" lang="en-US" sz="3200" spc="-1" strike="noStrike">
                <a:solidFill>
                  <a:srgbClr val="f06157"/>
                </a:solidFill>
                <a:latin typeface="Courier New"/>
              </a:rPr>
              <a:t>0x00004000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uffisso “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”: impostati i bit di stat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"/>
          <p:cNvSpPr/>
          <p:nvPr/>
        </p:nvSpPr>
        <p:spPr>
          <a:xfrm>
            <a:off x="1008000" y="1916280"/>
            <a:ext cx="7128000" cy="4924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ANDS R0, R0, R1, ASR #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40520" y="5187960"/>
            <a:ext cx="607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06157"/>
                </a:solidFill>
                <a:latin typeface="Courier New"/>
              </a:rPr>
              <a:t>N</a:t>
            </a:r>
            <a:r>
              <a:rPr b="1" lang="it-IT" sz="2400" spc="-1" strike="noStrike">
                <a:solidFill>
                  <a:srgbClr val="f06157"/>
                </a:solidFill>
                <a:latin typeface="Lucida Sans Unicode"/>
              </a:rPr>
              <a:t> </a:t>
            </a:r>
            <a:r>
              <a:rPr b="1" lang="it-IT" sz="2400" spc="-1" strike="noStrike">
                <a:solidFill>
                  <a:srgbClr val="f06157"/>
                </a:solidFill>
                <a:latin typeface="Symbol"/>
                <a:ea typeface="Symbol"/>
              </a:rPr>
              <a:t></a:t>
            </a:r>
            <a:r>
              <a:rPr b="1" lang="it-IT" sz="2400" spc="-1" strike="noStrike">
                <a:solidFill>
                  <a:srgbClr val="f06157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06157"/>
                </a:solidFill>
                <a:latin typeface="Lucida Sans Unicode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  (bit 31, o di segno, del risulta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06157"/>
                </a:solidFill>
                <a:latin typeface="Courier New"/>
              </a:rPr>
              <a:t>Z</a:t>
            </a:r>
            <a:r>
              <a:rPr b="1" lang="it-IT" sz="2400" spc="-1" strike="noStrike">
                <a:solidFill>
                  <a:srgbClr val="f06157"/>
                </a:solidFill>
                <a:latin typeface="Lucida Sans Unicode"/>
              </a:rPr>
              <a:t> </a:t>
            </a:r>
            <a:r>
              <a:rPr b="1" lang="it-IT" sz="2400" spc="-1" strike="noStrike">
                <a:solidFill>
                  <a:srgbClr val="f06157"/>
                </a:solidFill>
                <a:latin typeface="Symbol"/>
                <a:ea typeface="Symbol"/>
              </a:rPr>
              <a:t></a:t>
            </a:r>
            <a:r>
              <a:rPr b="1" lang="it-IT" sz="2400" spc="-1" strike="noStrike">
                <a:solidFill>
                  <a:srgbClr val="f06157"/>
                </a:solidFill>
                <a:latin typeface="Lucida Sans Unicode"/>
              </a:rPr>
              <a:t> 0</a:t>
            </a: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  (Z=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 il risultato è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06157"/>
                </a:solidFill>
                <a:latin typeface="Courier New"/>
              </a:rPr>
              <a:t>C</a:t>
            </a:r>
            <a:r>
              <a:rPr b="1" lang="it-IT" sz="2400" spc="-1" strike="noStrike">
                <a:solidFill>
                  <a:srgbClr val="f06157"/>
                </a:solidFill>
                <a:latin typeface="Lucida Sans Unicode"/>
              </a:rPr>
              <a:t> </a:t>
            </a:r>
            <a:r>
              <a:rPr b="1" lang="it-IT" sz="2400" spc="-1" strike="noStrike">
                <a:solidFill>
                  <a:srgbClr val="f06157"/>
                </a:solidFill>
                <a:latin typeface="Symbol"/>
                <a:ea typeface="Symbol"/>
              </a:rPr>
              <a:t></a:t>
            </a:r>
            <a:r>
              <a:rPr b="1" lang="it-IT" sz="2400" spc="-1" strike="noStrike">
                <a:solidFill>
                  <a:srgbClr val="f06157"/>
                </a:solidFill>
                <a:latin typeface="Lucida Sans Unicode"/>
              </a:rPr>
              <a:t> 0</a:t>
            </a: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  (carry dallo shifter oper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06157"/>
                </a:solidFill>
                <a:latin typeface="Courier New"/>
              </a:rPr>
              <a:t>V</a:t>
            </a:r>
            <a:r>
              <a:rPr b="1" lang="it-IT" sz="2400" spc="-1" strike="noStrike">
                <a:solidFill>
                  <a:srgbClr val="f06157"/>
                </a:solidFill>
                <a:latin typeface="Lucida Sans Unicode"/>
              </a:rPr>
              <a:t> </a:t>
            </a:r>
            <a:r>
              <a:rPr b="1" lang="it-IT" sz="2400" spc="-1" strike="noStrike">
                <a:solidFill>
                  <a:srgbClr val="f06157"/>
                </a:solidFill>
                <a:latin typeface="Symbol"/>
                <a:ea typeface="Symbol"/>
              </a:rPr>
              <a:t></a:t>
            </a:r>
            <a:r>
              <a:rPr b="1" lang="it-IT" sz="2400" spc="-1" strike="noStrike">
                <a:solidFill>
                  <a:srgbClr val="f06157"/>
                </a:solidFill>
                <a:latin typeface="Lucida Sans Unicode"/>
              </a:rPr>
              <a:t> ?</a:t>
            </a: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  (non cambia; valore iniziale igno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83D8-A630-404C-A9A5-8AB4964BFF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rcizio 2: soluzione (3)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Suffisso “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CS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”=”Carry Set”: l’istruzione viene eseguita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Poiché 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=0, l’istruzione non viene eseguita e </a:t>
            </a:r>
            <a:r>
              <a:rPr b="1" lang="it-IT" sz="3200" spc="-1" strike="noStrike">
                <a:solidFill>
                  <a:srgbClr val="f06157"/>
                </a:solidFill>
                <a:latin typeface="Lucida Sans Unicode"/>
              </a:rPr>
              <a:t>non produce alcun effett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"/>
          <p:cNvSpPr/>
          <p:nvPr/>
        </p:nvSpPr>
        <p:spPr>
          <a:xfrm>
            <a:off x="1008000" y="1916280"/>
            <a:ext cx="7128000" cy="4924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CS R0, [R1, #4]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F8EC-BDE9-4004-AE6C-CFDAD7748C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rcizio 3: testo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Scrivere una subroutine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NMAX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che ricerca il massimo in un vettore di word (che si assume avere almeno 2 elementi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Parametri di ingress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R0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: indirizzo primo elemento del vettor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: lunghezza del vettore in wor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Parametri di uscit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R0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: valore massimo trovat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CBE0-2C19-48C9-86DC-E89E606E40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rcizio 3: soluzione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52" name=""/>
          <p:cNvSpPr/>
          <p:nvPr/>
        </p:nvSpPr>
        <p:spPr>
          <a:xfrm>
            <a:off x="322200" y="2198520"/>
            <a:ext cx="8497800" cy="40298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NMAX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TMFD SP!, {R1-R3}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@ salva registri us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LDR   R2, [R0], #4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@ max iniziale = primo el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UB   R1, R1, #1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@ N-1 confronti da f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LDR   R3, [R0], #4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@ nuovo elemento in 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CMP   R3, R2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  @ R3 e’ maggiore del max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GT R2, R3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  @ se si, aggiorna 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UBS  R1, R1, #1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@ un confronto in m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BNE   LOOP      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@ prossima iterazion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  R0, R2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  @ max in R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LDMFD SP!, {R1-R3}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@ ripristina regis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  PC, L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  @ fine subrout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BF03-C541-45DC-B256-75A78DF937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rcizio 4: testo (1)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Scrivere una subroutine ricorsiva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BSEARCH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 che realizza </a:t>
            </a:r>
            <a:r>
              <a:rPr b="1" lang="it-IT" sz="3200" spc="-1" strike="noStrike">
                <a:solidFill>
                  <a:srgbClr val="f06157"/>
                </a:solidFill>
                <a:latin typeface="Lucida Sans Unicode"/>
              </a:rPr>
              <a:t>l’algoritmo di ricerca binari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La ricerca opera su un vettore di interi da 32 bit, positivi e tutti diversi, in numero non prefissat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Si assuma che il vettore sia ordinato in senso crescen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ECC6-43F6-404A-8203-01D00460B4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rcizio 4: testo (2)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I parametri sono </a:t>
            </a: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passati sullo stack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Parametri di ingress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: indirizzo primo elemento del vettor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: primo elem. dell’intervallo su cui cercar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: ultimo elem. dell’intervallo su cui cercar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key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: valore da cercar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Parametri di uscit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retval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: posizione dell’elemento se trovato,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-1 altriment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3372-B2B1-473E-A456-78B842C1B7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Es. 4: algoritmo e parametri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1844640"/>
            <a:ext cx="6337080" cy="472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int bsearch(int v[], int i, int j, int key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int te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/* sezione vuota, non trovato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if (i&gt;j) return -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temp = (i+j)&gt;&gt;1;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// &lt;=&gt; temp=(i+j)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// trovato, ritorna la posi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if (v[temp] == key) return te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// non trovato in posizione inter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if (v[temp] &gt; k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return bsearch(v, i, temp-1, 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return bsearch(v, temp+1, j, 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453440" y="2637000"/>
            <a:ext cx="1296720" cy="31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453440" y="4005360"/>
            <a:ext cx="1296720" cy="299880"/>
          </a:xfrm>
          <a:prstGeom prst="rect">
            <a:avLst/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ret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56120" y="3933720"/>
            <a:ext cx="69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P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453440" y="4292640"/>
            <a:ext cx="1296720" cy="299880"/>
          </a:xfrm>
          <a:prstGeom prst="rect">
            <a:avLst/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53440" y="4581360"/>
            <a:ext cx="1296720" cy="300240"/>
          </a:xfrm>
          <a:prstGeom prst="rect">
            <a:avLst/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53440" y="4869000"/>
            <a:ext cx="1296720" cy="299880"/>
          </a:xfrm>
          <a:prstGeom prst="rect">
            <a:avLst/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53440" y="5157720"/>
            <a:ext cx="1296720" cy="300240"/>
          </a:xfrm>
          <a:prstGeom prst="rect">
            <a:avLst/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&amp;v[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8E7E-6AEB-4EB0-8A76-157A82E680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rcizio 4: soluzione (1)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Vengono messe a confronto la subroutine per PD32 e la subroutine per AR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Per lo stack frame (variabili locali e salvataggio dei registri) si usa anche per ARM la convenzione del PD3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"/>
          <p:cNvSpPr/>
          <p:nvPr/>
        </p:nvSpPr>
        <p:spPr>
          <a:xfrm>
            <a:off x="3583080" y="4365720"/>
            <a:ext cx="2376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3080" y="6238800"/>
            <a:ext cx="2376360" cy="430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arametri ingr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83080" y="5950080"/>
            <a:ext cx="2376360" cy="299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arametri  usc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3080" y="5661000"/>
            <a:ext cx="2376360" cy="300240"/>
          </a:xfrm>
          <a:prstGeom prst="rect">
            <a:avLst/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3080" y="5373720"/>
            <a:ext cx="2376360" cy="299880"/>
          </a:xfrm>
          <a:prstGeom prst="rect">
            <a:avLst/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Vecchi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3080" y="5084640"/>
            <a:ext cx="2376360" cy="300240"/>
          </a:xfrm>
          <a:prstGeom prst="rect">
            <a:avLst/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Variabili loc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3080" y="4653000"/>
            <a:ext cx="2376360" cy="444600"/>
          </a:xfrm>
          <a:prstGeom prst="rect">
            <a:avLst/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Regist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66680" y="4508640"/>
            <a:ext cx="69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P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87200" y="5300640"/>
            <a:ext cx="69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P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E5EF-61F8-42A8-863A-F43AE1B965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rcizio 1: testo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i completi il seguente segmento di codice ARM che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arica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0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l’elemento (word) del vettore il cui indirizzo iniziale è contenuto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di indice contenuto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3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erifica se il word appena caricato ha lo stesso segno di quello contenuto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4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 caso affermativo somma al contenuto del registr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0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quello del registr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4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trimenti carica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0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la differenz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4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0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F68F-5727-43EF-9D8B-E7A714FEC3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rcizio 4: soluzione (2)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78" name=""/>
          <p:cNvSpPr/>
          <p:nvPr/>
        </p:nvSpPr>
        <p:spPr>
          <a:xfrm>
            <a:off x="1403280" y="1844640"/>
            <a:ext cx="6337440" cy="614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int bsearch(int v[], int i, int j, int key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int te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3429000"/>
            <a:ext cx="4176720" cy="2256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BSEARCH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MOVL   FP, -(SP)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; alloca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MOVL   SP, F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ADDL   #-4, SP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; alloca te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PUSH   R0     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; salva re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PUSH   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PUSH   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16360" y="3429000"/>
            <a:ext cx="4176720" cy="27428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BSEARCH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STMFD SP!, {LR}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@ ind. di r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STMFD SP!, {FP}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@ alloca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MOV   FP, 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ADD   SP, SP, #-4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@ alloca te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STMFD SP!, {R0}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@ salva re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STMFD SP!, {R1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STMFD SP!, {R2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STMFD SP!, {R3}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@ reg. ex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14400" y="297180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PD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70560" y="2971800"/>
            <a:ext cx="8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52E3-093E-4456-A7C3-F038635DF7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Esercizio 4: lo stack PD32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6092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Stack ARM: c’è anche 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R3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FP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-20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"/>
          <p:cNvSpPr/>
          <p:nvPr/>
        </p:nvSpPr>
        <p:spPr>
          <a:xfrm>
            <a:off x="2835360" y="1917720"/>
            <a:ext cx="3311280" cy="403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35360" y="3789360"/>
            <a:ext cx="3311280" cy="299880"/>
          </a:xfrm>
          <a:prstGeom prst="rect">
            <a:avLst/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C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(indirizzo di ritorn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35360" y="3502080"/>
            <a:ext cx="3311280" cy="299880"/>
          </a:xfrm>
          <a:prstGeom prst="rect">
            <a:avLst/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Vecchi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35360" y="3213000"/>
            <a:ext cx="3311280" cy="300240"/>
          </a:xfrm>
          <a:prstGeom prst="rect">
            <a:avLst/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 Unicode"/>
              </a:rPr>
              <a:t>Variabile locale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te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38040" y="2276640"/>
            <a:ext cx="69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P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39480" y="3429000"/>
            <a:ext cx="69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P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35360" y="4076640"/>
            <a:ext cx="3311280" cy="300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ret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35360" y="4365720"/>
            <a:ext cx="3311280" cy="299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35360" y="4653000"/>
            <a:ext cx="3311280" cy="299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35360" y="4941720"/>
            <a:ext cx="3311280" cy="300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35360" y="5229360"/>
            <a:ext cx="3311280" cy="299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&amp;v[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35360" y="2925720"/>
            <a:ext cx="3311280" cy="300240"/>
          </a:xfrm>
          <a:prstGeom prst="rect">
            <a:avLst/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35360" y="2637000"/>
            <a:ext cx="3311280" cy="299880"/>
          </a:xfrm>
          <a:prstGeom prst="rect">
            <a:avLst/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35360" y="2349360"/>
            <a:ext cx="3311280" cy="300240"/>
          </a:xfrm>
          <a:prstGeom prst="rect">
            <a:avLst/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8440" y="3465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47000" y="3178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P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48440" y="2889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P-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138720" y="26020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P-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38720" y="2313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P-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47000" y="37544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P+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48440" y="4006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P+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46640" y="42940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P+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46640" y="45831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P+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48440" y="49053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P+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46640" y="51944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P+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1EE1-994C-4CF3-B371-EA89BC1D98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rcizio 4: soluzione (3)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11" name=""/>
          <p:cNvSpPr/>
          <p:nvPr/>
        </p:nvSpPr>
        <p:spPr>
          <a:xfrm>
            <a:off x="1403280" y="1844640"/>
            <a:ext cx="6337440" cy="614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/* sezione vuota, non trovato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if (i&gt;j) return -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3429000"/>
            <a:ext cx="4176720" cy="201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MOVL    16(FP), R0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; j -&gt; R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CMPL    20(FP), R0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; j-i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JNN     N_EMP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MOVL    #-1, 8(F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JMP     BS_EX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16360" y="3429000"/>
            <a:ext cx="4176720" cy="24994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LDR   R0, [FP,#16]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@ j -&gt; R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LDR   R3, [FP,#20]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@ i -&gt; R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CMP   R0, R3    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@ j-i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BGE   N_EMP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MOV   R3, #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STR   R3, [FP, #8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B     BS_EX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14400" y="297180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PD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70560" y="2971800"/>
            <a:ext cx="8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7F2C-15C3-4081-BD13-0ACF9AEB03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rcizio 4: soluzione (4)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17" name=""/>
          <p:cNvSpPr/>
          <p:nvPr/>
        </p:nvSpPr>
        <p:spPr>
          <a:xfrm>
            <a:off x="1403280" y="1844640"/>
            <a:ext cx="6337440" cy="34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temp = (i+j)&gt;&gt;1;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// &lt;=&gt; temp=(i+j)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0920" y="3429000"/>
            <a:ext cx="4176720" cy="1526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N_EMPT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ADDL 20(FP), R0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; i+j -&gt; R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ASRL 1, R0 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; (i+j)&gt;&gt;1 -&gt;R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MOVL R0, -4(FP)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; (i+j)&gt;&gt;1 -&gt;te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16360" y="3429000"/>
            <a:ext cx="4176720" cy="15260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N_EMPT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ADD R0, R0, R3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@ i+j -&gt; R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MOV R0, R0,ASR #1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@ (i+j)/2 -&gt;R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STR R0, [FP,#-4]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@ (i+j)/2-&gt;te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14400" y="297180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PD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370560" y="2971800"/>
            <a:ext cx="8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1DA1-86E4-4996-B916-2A5CB093F1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rcizio 4: soluzione (5)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23" name=""/>
          <p:cNvSpPr/>
          <p:nvPr/>
        </p:nvSpPr>
        <p:spPr>
          <a:xfrm>
            <a:off x="1403280" y="1844640"/>
            <a:ext cx="6337440" cy="614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// trovato, ritorna la posi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if (v[temp] == key) return te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0920" y="3238560"/>
            <a:ext cx="4176720" cy="2986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MOVL 12(FP), R1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; key -&gt; 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MOVL 24(FP), R2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; &amp;v[0] -&gt; 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ASLL 2, R0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; temp*sz(int)-&gt;R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ADDL R0, R2  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; &amp;v[temp] -&gt;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CMPL (R2), R1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; key-v[temp]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JNZ  N_KEY   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; salta se &lt;&gt;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FOU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MOVL -4(FP), 8(F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JMP  BS_EX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16360" y="3238560"/>
            <a:ext cx="4176720" cy="34729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600" spc="-1" strike="noStrike" u="sng">
                <a:solidFill>
                  <a:srgbClr val="000000"/>
                </a:solidFill>
                <a:uFillTx/>
                <a:latin typeface="Courier New"/>
              </a:rPr>
              <a:t>L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DR R1, [FP,#12]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@ key -&gt; 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LDR R2, [FP,#24]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@ &amp;v[0] -&gt; 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MOV R0, R0,ASL #2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@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temp*sz(int)-&gt;R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ADD R0, R0, R2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@ &amp;v[temp]-&gt;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LDR R3, [R2]  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@ v[temp] -&gt;R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CMP R1, R3    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@ key-v[temp]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BNE N_KEY     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@ salta se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≠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FOU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LDR R3, [FP,#-4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STR R3, [FP,#8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B   BS_EX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14400" y="278136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PD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70560" y="2781360"/>
            <a:ext cx="8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ECE3-DAE8-4C4E-BE93-8ECAB3CDF95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rcizio 4: soluzione (6)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29" name=""/>
          <p:cNvSpPr/>
          <p:nvPr/>
        </p:nvSpPr>
        <p:spPr>
          <a:xfrm>
            <a:off x="1403280" y="1844640"/>
            <a:ext cx="6337440" cy="888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// non trovato in posizione inter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if (v[temp] &gt; k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return bsearch(v, i, temp-1, 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0920" y="3262320"/>
            <a:ext cx="4176720" cy="2836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N_KE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JNN ELSE1 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; salta se key-v[temp] &gt;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PUSH 24(FP)      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; &amp;v[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PUSH 20(FP)      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;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MOVL -4(FP), 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SUBL #1, 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PUSH R0          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; temp-1 è nuovo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PUSH R1          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;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PUSH #0          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; nuovo ret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JSR  B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MOVL (SP)+, 8(FP)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; assegna ret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ADDL #16, SP     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; elimina garb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JMP  BS_EX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16360" y="3262320"/>
            <a:ext cx="4176720" cy="347580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N_KE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BPL   ELSE1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@ salta se key-v[temp]&gt;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LDR   R3, [FP,#24]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@ predispone 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STMFD SP!, {R3}   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@ &amp;v[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LDR   R3, [FP,#2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STMFD SP!, {R3}   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@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SUB   R0, R0, #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STMFD SP!, {R0}   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@ temp-1 è nuovo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STMFD SP!, {R1}   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@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MOV   R3, #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STMFD SP!, {R3}   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@ nuovo ret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BL    B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LDR   R3, [SP,#4]!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@ anziche' LDMF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STR   R3, [FP,#8] 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@ assegna ret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ADD   SP, SP, #16 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@ elimina garb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B     BS_EX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14400" y="285264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PD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70560" y="2852640"/>
            <a:ext cx="8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8BDA-FE75-422D-8399-76FD236B3BD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rcizio 4: soluzione (7)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35" name=""/>
          <p:cNvSpPr/>
          <p:nvPr/>
        </p:nvSpPr>
        <p:spPr>
          <a:xfrm>
            <a:off x="1403280" y="1844640"/>
            <a:ext cx="6337440" cy="614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return bsearch(v, temp+1, j, 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0920" y="2998800"/>
            <a:ext cx="4176720" cy="2742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ELSE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PUSH 24(FP)  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; &amp;v[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MOVL -4(FP), R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ADDL #1, R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PUSH R0      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; temp+1 è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PUSH 16(FP)  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; 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PUSH R1      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; 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PUSH #0      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; nuovo ret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JSR  B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MOVL (SP)+, 8(F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ADDL #16, 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16360" y="2998800"/>
            <a:ext cx="4176720" cy="37162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ELSE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LDR   R3, [FP,#24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STMFD SP!, {R3}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@ &amp;v[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LDR   R0, [FP,#-4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ADD   R0, R0, #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STMFD SP!, {R0}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@ temp+1 è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LDR   R3, [FP,#16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STMFD SP!, {R3}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@ 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STMFD SP!, {R1}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@ 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MOV   R3, #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STMFD SP!, {R3}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@ nuovo ret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BL    B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LDR   R3, [SP,#4]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STR   R3, [FP,#8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ADD   SP, SP, #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14400" y="256536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PD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70560" y="2565360"/>
            <a:ext cx="8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5498-6BA3-4FD4-B857-138EBC616E1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rcizio 4: soluzione (8)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41" name=""/>
          <p:cNvSpPr/>
          <p:nvPr/>
        </p:nvSpPr>
        <p:spPr>
          <a:xfrm>
            <a:off x="1403280" y="1844640"/>
            <a:ext cx="6337440" cy="34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0920" y="3429000"/>
            <a:ext cx="4176720" cy="2256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BS_EXI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POP  R2  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; recupera regis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POP  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POP  R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MOVL FP, SP 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; dealloca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MOVL (SP)+, F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16360" y="3429000"/>
            <a:ext cx="4176720" cy="24994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BS_EXI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LDMFD SP!, {R3}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@ recupera re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LDMFD SP!, {R2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LDMFD SP!, {R1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LDMFD SP!, {R0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MOV   SP, FP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@ dealloca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LDMFD SP!, {FP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LDMFD SP!, {PC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14400" y="297180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PD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70560" y="2971800"/>
            <a:ext cx="8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771F-A1EA-4423-992C-8F5C7BFA108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rcizio 5: testo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Scrivere una subroutine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BREV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che fornisce l’immagine speculare dei bit di un wor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Esempio: </a:t>
            </a: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BREV(0x16300000)=0x00000C68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Parametri di ingress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R0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: word (32 bit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Parametri di uscit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R0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: immagine speculare dei bit in ingress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334E-4E42-49ED-87FF-27D21956399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rcizio 5: soluzione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49" name=""/>
          <p:cNvSpPr/>
          <p:nvPr/>
        </p:nvSpPr>
        <p:spPr>
          <a:xfrm>
            <a:off x="322200" y="2448000"/>
            <a:ext cx="8497800" cy="342000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BREV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TMFD   SP!, {R1, R2}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@ salva registri us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    R2, #32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 @ R2=contatore sh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ONEBI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S    R0, R0, LSL #1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@ C &lt;- R0[3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    R1, R1, RRX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@ C entra da sx in 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UBS    R2, R2, #1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@ decrementa conta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BNE     ONEBI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  @ prossima iteraz. se R2&gt;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    R0, R1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  @ copia risultato in R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LDMFD   SP!, {R1, R2}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@ ripristina regis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    PC, L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  @ fine subrout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E45B-214B-460C-A07A-21258016ABD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Es. 1: codice da completare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19" name=""/>
          <p:cNvSpPr/>
          <p:nvPr/>
        </p:nvSpPr>
        <p:spPr>
          <a:xfrm>
            <a:off x="193680" y="2514600"/>
            <a:ext cx="8755200" cy="3357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___ R0, ________________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@ ca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TEQ ______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              @ veri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_____ R0, R0, R4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        @ caso afferm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RSBMI __________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        @ caso neg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5A1D-0E39-420E-9A3A-3D292E0AE0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rcizio 6: testo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Scrivere una subroutine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WO2BY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che copia un vettore di word in un vettore di byte con saturazione e segnalando l’eventuale perdita di precision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Parametri di ingress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R0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: indirizzo primo elem. vettore sorgent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: indirizzo primo elem. vettore destinaz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R2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: lunghezza vettore sorgente (in word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Parametri di uscit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R0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: 1 se c’è perdita di precisione, 0 altrim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8680-3ACF-4B47-B384-C68C71F54FF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rcizio 6: soluzione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53" name=""/>
          <p:cNvSpPr/>
          <p:nvPr/>
        </p:nvSpPr>
        <p:spPr>
          <a:xfrm>
            <a:off x="503280" y="1989000"/>
            <a:ext cx="8136000" cy="444636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WO2B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STMFD SP!, {R2-R4}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@ salva registri us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NEXTW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SUBS  R2, R2, #1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 @ nuovo off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BMI   FINE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       @ fine se offset neg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LDR   R3, [R0, R2,LSL #2]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@ carica nuovo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CMP   R3, #127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   @ R3 &gt; 127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MOVGT R4, #1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     @ si: perdita di precis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MOVGT R3, #127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   @ satur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CMP   R3, #-128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  @ R3 &lt; -128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MOVLT R4, #1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     @ si: perdita di precis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MOVLT R3, #-128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  @ satur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STRB  R3, [R1, R2]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@ salva byte meno signifi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B     NEXTW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      @ iterazione success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FI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MOV     R0, R4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   @ segnala perdita p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LDMFD   SP!, {R2-R4}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@ ripristina regis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MOV     PC, LR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   @ fine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1B77-8D1A-418D-A4A2-B44BEBD29C7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rcizio 7: testo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Scrivere una subroutine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BY2WO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che copia un vettore di byte in un vettore di word con estensione del segn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Parametri di ingress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R0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: indirizzo primo elem. vettore sorgent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: indirizzo primo elem. vettore destinaz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R2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: lunghezza vettore sorgente (in byte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Parametri di uscit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Nessun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72E6-497C-4BC0-B419-5BBE0B21504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rcizio 7: soluzione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57" name=""/>
          <p:cNvSpPr/>
          <p:nvPr/>
        </p:nvSpPr>
        <p:spPr>
          <a:xfrm>
            <a:off x="414360" y="2349360"/>
            <a:ext cx="8316720" cy="36320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BY2W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STMFD SP!, {R2, R3}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@ salva registri us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NEXTB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SUBS  R2, R2, #1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 @ nuovo 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BMI   FINE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       @ fine se offset neg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LDRSB R3, [R0, R2]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@ carica nuovo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STR   R3, [R1, R2,LSL #2]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@ salva nuovo 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B     NEXTB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      @ iterazione success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FI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LDMFD   SP!, {R2, R3}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@ ripristina regist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MOV     PC, LR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   @ fine subrout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A7F5-4492-4F99-99E8-45D64630469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rcizio 8: testo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9836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Scrivere una subroutine ricorsiva 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RFIB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che calcola i </a:t>
            </a:r>
            <a:r>
              <a:rPr b="1" lang="it-IT" sz="3200" spc="-1" strike="noStrike">
                <a:solidFill>
                  <a:srgbClr val="f06157"/>
                </a:solidFill>
                <a:latin typeface="Lucida Sans Unicode"/>
              </a:rPr>
              <a:t>numeri di Fibonacci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Lucida Sans Unicode"/>
              </a:rPr>
              <a:t>Ingresso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R0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 contiene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Lucida Sans Unicode"/>
              </a:rPr>
              <a:t>Uscita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R0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 contiene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IB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oppure -1 in caso di overflow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330200" y="3363840"/>
                <a:ext cx="648180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B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IB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FIB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er</m:t>
                              </m:r>
                              <m:r>
                                <m:t xml:space="preserve"> </m:t>
                              </m:r>
                              <m:r>
                                <m:t xml:space="preserve">n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er</m:t>
                              </m:r>
                              <m:r>
                                <m:t xml:space="preserve"> </m:t>
                              </m:r>
                              <m:r>
                                <m:t xml:space="preserve">n</m:t>
                              </m:r>
                              <m:r>
                                <m:t xml:space="preserve">=</m:t>
                              </m:r>
                              <m:r>
                                <m:t xml:space="preserve">0,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B314-DBED-4A8C-9752-691659582DA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rcizio 8: soluzione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62" name=""/>
          <p:cNvSpPr/>
          <p:nvPr/>
        </p:nvSpPr>
        <p:spPr>
          <a:xfrm>
            <a:off x="414360" y="1989000"/>
            <a:ext cx="8316720" cy="445500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RFIB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CMP   R0, #42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  @ c'e' overflow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MOVHI R0, #-1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  @ si: segnalalo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MOVHI PC, LR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   @ ...ed e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DOIT_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CMP   R0, #1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   @ R0 uguale a 0 o a 1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MOVLS PC, LR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   @ si: niente da calcol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STMFD SP!, {R1, R2, LR}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@ salva registri us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MOV   R2, R0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   @ R2 per salvare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SUB   R0, R2, #1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@ n-1 -&gt; 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BL    DOIT_R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   @ prima chiam. ricors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MOV   R1, R0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   @ risult. parziale in 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SUB   R0, R2, #2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@ n-2 -&gt; 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BL    DOIT_R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   @ seconda chiam. ricors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ADD   R0, R0, R1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@ calcolo fattor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LDMFD SP!, {R1, R2, PC}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@ fine subrout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752D-7E92-41F9-A02B-6B0858B3E3D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rcizio 9: testo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upponendo che inizialmente si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0=0x1234, R1=0x12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[R0]=0x8100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ndicare gli effetti prodotti da ciascuna delle seguenti istruzioni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822c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MP R1, R0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822c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UBS R2, R1, R0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822c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SB R3, R1, R0, ASR #4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819E-6F23-4459-9DD9-DA103FDFC19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rcizio 9: soluzione (1)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Bit di stato impostati in base al risultato di 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R0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=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0x123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0x1234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1 (bit di segno del risultato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0 (è 1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il risultato è 0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0 (NOT BorrowFrom(</a:t>
            </a: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R0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0 (bit di overflow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I registri </a:t>
            </a:r>
            <a:r>
              <a:rPr b="1" lang="it-IT" sz="3200" spc="-1" strike="noStrike">
                <a:solidFill>
                  <a:srgbClr val="000000"/>
                </a:solidFill>
                <a:latin typeface="Lucida Sans Unicode"/>
              </a:rPr>
              <a:t>non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 vengono modificati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"/>
          <p:cNvSpPr/>
          <p:nvPr/>
        </p:nvSpPr>
        <p:spPr>
          <a:xfrm>
            <a:off x="1008000" y="1917720"/>
            <a:ext cx="7128000" cy="4924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 algn="ctr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MP R1, R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818A-0271-433A-86EB-6E03A6A28D1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rcizio 9: soluzione (2)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Bit di stato ancora impostati in base al risultato di 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R0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=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0x123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0x1234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1 (bit di segno del risultato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0 (è 1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il risultato è 0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0 (NOT BorrowFrom(</a:t>
            </a: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R0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0 (bit di overflow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R2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R0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=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0xFFFFEEEF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"/>
          <p:cNvSpPr/>
          <p:nvPr/>
        </p:nvSpPr>
        <p:spPr>
          <a:xfrm>
            <a:off x="1008000" y="1917720"/>
            <a:ext cx="7128000" cy="4924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 algn="ctr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BS R2, R1, R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C55D-0F78-4B84-8E91-3C819F54024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rcizio 9: soluzione (3)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0 ASR #4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0x00000123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3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0 ASR #4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) –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0x00000000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Niente suffisso “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”: i bit di stato non vengono modificati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"/>
          <p:cNvSpPr/>
          <p:nvPr/>
        </p:nvSpPr>
        <p:spPr>
          <a:xfrm>
            <a:off x="1008000" y="1917720"/>
            <a:ext cx="7128000" cy="4924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 algn="ctr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SB R3, R1, R0, ASR #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B28C-5196-487F-ACB7-7DEC41EC360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rcizio 1: soluzione (1)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Carica in 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R0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 l’elemento (word) del vettore il cui ind. iniziale è contenuto in 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R2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, di indice contenuto in 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R3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"/>
          <p:cNvSpPr/>
          <p:nvPr/>
        </p:nvSpPr>
        <p:spPr>
          <a:xfrm>
            <a:off x="193680" y="4653000"/>
            <a:ext cx="8755200" cy="116316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DR R0, [R2, R3, LSL #2]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@ ca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4CE6-6A6D-43B6-963A-04D0EAD67B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rcizio 1: soluzione (2)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Verifica se il word appena caricato ha lo stesso segno di quello i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4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"/>
          <p:cNvSpPr/>
          <p:nvPr/>
        </p:nvSpPr>
        <p:spPr>
          <a:xfrm>
            <a:off x="193680" y="4633920"/>
            <a:ext cx="8755200" cy="116316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Q R0, R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@ R0 XOR 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D698-088E-42B0-A1EB-60936F8472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rcizio 1: soluzione (3)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n caso affermativo somma al contenuto del registro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0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quello del registro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4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"/>
          <p:cNvSpPr/>
          <p:nvPr/>
        </p:nvSpPr>
        <p:spPr>
          <a:xfrm>
            <a:off x="193680" y="4633920"/>
            <a:ext cx="8755200" cy="116316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DDPL R0, R0, R4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        @ PL = “N clea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1995-B718-439C-B1C7-08D8289725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rcizio 1: soluzione (4)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n caso negativo carica i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0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la differenz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4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0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"/>
          <p:cNvSpPr/>
          <p:nvPr/>
        </p:nvSpPr>
        <p:spPr>
          <a:xfrm>
            <a:off x="193680" y="4633920"/>
            <a:ext cx="8755200" cy="116316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RSBMI R0, R0, R4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        @ MI = “N se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59F7-D8B6-4EE6-B557-4B2CFF8190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Es. 1: soluzione completa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33" name=""/>
          <p:cNvSpPr/>
          <p:nvPr/>
        </p:nvSpPr>
        <p:spPr>
          <a:xfrm>
            <a:off x="193680" y="2514600"/>
            <a:ext cx="8755200" cy="3357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LDR R0, [R2, R3, LSL #2]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@ ca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TEQ R0, R4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              @ veri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DDPL R0, R0, R4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        @ caso afferm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RSBMI R0, R0, R4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        @ caso neg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1577-FACB-4E32-BB80-ADD2758B49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rcizio 2: testo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upponendo che inizialmente si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0=0x345678A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1=0x8100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e che il contenuto della memoria si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ndicare tutti gli effetti prodotti dalla esecuzione del seguente codice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"/>
          <p:cNvSpPr/>
          <p:nvPr/>
        </p:nvSpPr>
        <p:spPr>
          <a:xfrm>
            <a:off x="1438200" y="3789360"/>
            <a:ext cx="6265800" cy="15904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[0x000080F8]: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x112233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[0x000080FC]: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x556677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[0x00008100]: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x123456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[0x00008104]: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xAABBCC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[0x00008108]: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xABCDEF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BABB-BBF9-45EF-A1A6-D1F16934BC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07:47:39Z</dcterms:created>
  <dc:creator>Carlo Fantozzi</dc:creator>
  <dc:description/>
  <dc:language>en-US</dc:language>
  <cp:lastModifiedBy>Ciccio Formaggio</cp:lastModifiedBy>
  <dcterms:modified xsi:type="dcterms:W3CDTF">2003-06-18T12:53:39Z</dcterms:modified>
  <cp:revision>138</cp:revision>
  <dc:subject/>
  <dc:title>Istruzioni PXA255</dc:title>
</cp:coreProperties>
</file>