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87B5-0125-4CAC-B8CB-640744F82C1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la sezione .data, un’inizializzazione di questo tipo è valida solo per stringhe la cui lunghezza è un multiplo di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2 è il massimo numero il cui fattoriale è rappresentabile correttamente come intero senza segno su 32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o programma non ha sezione .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ezione .bss contiene solo l’inizializzazione dello stack (bana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2 è il massimo numero il cui fattoriale è rappresentabile correttamente come intero senza segno su 32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o programma non ha sezione .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ezione .bss contiene solo l’inizializzazione dello stack (bana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assetto le istruzioni che sono state aggiunte rispetto alla slide “cuore del programm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 accade se la lunghezza del vettore non è un multiplo di 1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C90-05CE-4749-AF5B-3B564BFE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8C8-4099-4522-A6D4-C23392FD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773-C6A3-44A0-B50D-A8E9B583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85C-E832-4674-908F-D5F2830E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E464-96D0-4121-A368-CEA813CB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F81D-F85D-4D17-AAEF-066A3F59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DB11-E7D6-460E-A26E-6CCD4BA5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5CAA-1998-4B88-A1DF-46356B0C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274C-E2FC-459C-9C28-ADEBFDBF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6AE7-15E7-453F-8AB6-F0D06550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4AAA-916F-48FC-9545-DDFB5E86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8DE-D2ED-402B-87E1-6D844B20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E8F2-9D38-40C5-9DAF-BCF41094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FFF8-66C0-493E-9D55-117771C7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748A-BEFA-45E5-8083-4B076F9F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9734-0267-465C-96C8-9DE62B1E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C0C0-BC39-49B5-98B2-0C52B607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570-B975-4DC8-BA50-A21D1498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610-1FBC-4C85-9798-E6885156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77E-82F5-4AEA-A5DC-D0766B62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53E-8990-443B-AF85-AB0CB853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BEA-DDC2-483B-8A3B-7C587DCA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B21-F7DE-49C9-874E-58BC76BF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023-B5ED-4F72-9086-FAB56A17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222B-738D-4198-926D-2B6B989E079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9D4B-17E4-4B01-BDE4-1ADD7F02ADF2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chitettura  ARM</a:t>
            </a:r>
            <a:br>
              <a:rPr sz="4400"/>
            </a:b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 di programm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. Fantozzi, A. Gardich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a.a. 2002/200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5638680"/>
            <a:ext cx="1066680" cy="911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09680" y="5715000"/>
            <a:ext cx="1600200" cy="82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73760" y="5410080"/>
            <a:ext cx="17668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822cd"/>
                </a:solidFill>
                <a:latin typeface="Lucida Sans Unicode"/>
              </a:rPr>
              <a:t>Esempio 2: sezioni </a:t>
            </a:r>
            <a:r>
              <a:rPr b="1" lang="it-IT" sz="4000" spc="-1" strike="noStrike">
                <a:solidFill>
                  <a:srgbClr val="1822cd"/>
                </a:solidFill>
                <a:latin typeface="Courier New"/>
              </a:rPr>
              <a:t>.data</a:t>
            </a:r>
            <a:r>
              <a:rPr b="1" lang="it-IT" sz="4000" spc="-1" strike="noStrike">
                <a:solidFill>
                  <a:srgbClr val="1822cd"/>
                </a:solidFill>
                <a:latin typeface="Lucida Sans Unicode"/>
              </a:rPr>
              <a:t> e </a:t>
            </a:r>
            <a:r>
              <a:rPr b="1" lang="it-IT" sz="4000" spc="-1" strike="noStrike">
                <a:solidFill>
                  <a:srgbClr val="1822cd"/>
                </a:solidFill>
                <a:latin typeface="Courier New"/>
              </a:rPr>
              <a:t>.bss</a:t>
            </a:r>
            <a:endParaRPr b="1" lang="en-US" sz="40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7" name=""/>
          <p:cNvSpPr/>
          <p:nvPr/>
        </p:nvSpPr>
        <p:spPr>
          <a:xfrm>
            <a:off x="287280" y="2276640"/>
            <a:ext cx="8569440" cy="1590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/* Dati inizializzati (stringhe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tr1: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ascii "Questa stringa e' lunga 36 caratteri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long 0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@ fine stri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7280" y="4508640"/>
            <a:ext cx="8569440" cy="1590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/* Dati non inizializzati (stack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lostack: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skip 2048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@ 2048 byte per lo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iostac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3B1-9D52-4AEA-9B65-DB39EA2DD3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2: sezione .tex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5660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Esecuzione con condizio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ndirizzamento con offset da registr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"/>
          <p:cNvSpPr/>
          <p:nvPr/>
        </p:nvSpPr>
        <p:spPr>
          <a:xfrm>
            <a:off x="258840" y="1798560"/>
            <a:ext cx="8626320" cy="36320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R R13, =miostack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@ inizializza 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R R0, =str1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@ calcoleremo la lungh. di st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strl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MFD SP!, {R1, R2}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@ salva R1 e R2 sullo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 R1, R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@ R1: ind. base della strin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 R0, #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@ R0: lunghezza strin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loop: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RB R2, [R1, R0]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@ carica byte all'indirizzo R1+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MP R2, #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@ e' fine stringa (cioe' 0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DDNE R0, R0, #1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@ no: esamina carattere suc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NE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fine: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MFD SP!, {R1, R2}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@ ripristina i registri us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pippo: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 pippo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  @ fine pr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5CF-6622-413E-B2CF-EA3300C6D5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3: fattorial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9836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i vuole scrivere un programma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he calcoli il 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fattoriale di un numer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Ingresso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contien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Uscita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contien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oppure 0 in caso di overflow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411280" y="3284640"/>
                <a:ext cx="431964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er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er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845-870C-4D3D-A907-F3BA236441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3: sezio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.tex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6" name=""/>
          <p:cNvSpPr/>
          <p:nvPr/>
        </p:nvSpPr>
        <p:spPr>
          <a:xfrm>
            <a:off x="258840" y="1844640"/>
            <a:ext cx="8626320" cy="445500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R R13, =miostack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@ inizializza 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 r0, #6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@ calcoleremo 6!=720=0x02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f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MP R0, #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LS do_it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@ non c'e' overflow: proc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 R0, #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@ c'e' overflow: poni R0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 pippo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fine pr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do_it: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MFD SP!, {R1}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@ salva R1 sullo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 R1, 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ciclo: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UBS R1, R1, #1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@ R1=R1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EQ fine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@ se R1=0 il ciclo e' 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UL R0, R1, R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@ R0=R1*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 ciclo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vai all'iterazione succes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fine: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MFD SP!, {R1}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@ ripristina R1 dallo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pippo: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 pippo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fine pr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850-661B-42C4-881F-5036AAE6F9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3: esecuz. con condizion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8" name=""/>
          <p:cNvSpPr/>
          <p:nvPr/>
        </p:nvSpPr>
        <p:spPr>
          <a:xfrm>
            <a:off x="258840" y="2112840"/>
            <a:ext cx="8626320" cy="41806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LDR R13, =miostack @ inizializza 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MOV r0, #6         @ calcoleremo 6!=720=0x02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f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CMP R0, #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BLS do_it          @ non c'e' overflow: proc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MOV R0, #0         @ c'e' overflow: poni R0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B pippo            @ fine pr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do_it:   STMFD SP!, {R1}    @ salva R1 sullo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MOV R1, 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ciclo:   SUBS R1, R1, #1    @ R1=R1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ULNE R0, R1, R0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@ R0=R1*R0 se R1 e' diverso da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ciclo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@ iteraz. successiva se R1!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fine:    LDMFD SP!, {R1}    @ ripristina R1 dallo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pippo:   B pippo            @ fine pr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A7B-F810-4A47-B520-81D62AA16A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3: compilatore c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ome si comporta il compilatore c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"/>
          <p:cNvSpPr/>
          <p:nvPr/>
        </p:nvSpPr>
        <p:spPr>
          <a:xfrm>
            <a:off x="574560" y="2852640"/>
            <a:ext cx="7993080" cy="3357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unsigned int mai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unsigned int r0=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unsigned int r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1=r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while(r1&gt;1) { r1--; r0*=r1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eturn r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3BF-9F0E-42D2-A597-0DDF4C3879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3: -O0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1916280"/>
            <a:ext cx="5904000" cy="46288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00000000 &lt;fattoriale&gt;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0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1a0c00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12, 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4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92dd80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tmd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p!, {r11, r12, lr, pc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8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24cb004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11, r12, #4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; 0x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c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24dd008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p, sp, #8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; 0x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10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3a03006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#6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; 0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14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0b301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1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18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1b301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1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1c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0b3014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2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20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1b3014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2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24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3530001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cmp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#1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; 0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28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8a00000a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bhi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30 &lt;fattoriale+0x30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2c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a000012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50 &lt;fattoriale+0x50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30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1b3014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2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34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2432001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2, r3, #1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; 0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38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0b2014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2, [r11, -#2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3c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1b301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1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40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1b2014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2, [r11, -#2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44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0030392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r2, 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48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0b301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1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4c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a000006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20 &lt;fattoriale+0x20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50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1b301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1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54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1a00003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0, 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58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a000015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5c &lt;fattoriale+0x5c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5c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91ba80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md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11, {r11, sp, pc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78A-BF69-4F08-81A9-8270D2C8EC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3: -O9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5" name=""/>
          <p:cNvSpPr/>
          <p:nvPr/>
        </p:nvSpPr>
        <p:spPr>
          <a:xfrm>
            <a:off x="576360" y="2592360"/>
            <a:ext cx="7993080" cy="29919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0000000 &lt;fattoriale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3a00006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0, #6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 0x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4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1a03000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3, 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8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2433001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3, r3, #1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 0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3530001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mp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3, #1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 0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0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0000093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0, r3, 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4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8a000000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8 &lt;fattoriale+0x8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8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1a0f00e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, 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B73-B705-4019-AC58-0961DA0AF5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 propost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stemare la condizione di terminazione nel programma “copia di vettori” che usa LDM/ST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crivere un programma che copi stringhe anziché vettori generic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33C-9C34-483A-8239-BB1C6B36C2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1: copia di un vettor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 vuole scrivere un programma che esegua la </a:t>
            </a:r>
            <a:r>
              <a:rPr b="1" lang="en-US" sz="3200" spc="-1" strike="noStrike">
                <a:solidFill>
                  <a:srgbClr val="f06157"/>
                </a:solidFill>
                <a:latin typeface="Lucida Sans Unicode"/>
              </a:rPr>
              <a:t>copia di un vettor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arametri di ingres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lunghezza del vettore in wor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indirizzo primo elemen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vettore 1 (sorgente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2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indirizzo primo elemen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vettore 2 (destinazione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020-1031-4FD4-9737-230ED8D990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1: cuore del programm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896000"/>
            <a:ext cx="82296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dirizzamenti usat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di registr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di registro scala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post-incremento immedia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"/>
          <p:cNvSpPr/>
          <p:nvPr/>
        </p:nvSpPr>
        <p:spPr>
          <a:xfrm>
            <a:off x="193680" y="1916280"/>
            <a:ext cx="8755200" cy="2747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MOV R0, R0, LSL#2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@ lunghezza vettore in BY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ADD R3, R1, R0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@ R3: indirizzo di 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LDR R0, [R1], #4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@ carica dal primo vet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STR R0, [R2], #4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@ salva nel secondo vet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CMP R1, R3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    @ raggiunta la fin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BLO loop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      @ no: rientra nel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F9C-59A9-48D6-9709-90297F6D09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1: programma comple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9880"/>
            <a:ext cx="8229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i vuole copiare un vettor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able1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di 120 elementi nel vettor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able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Oltre alle istruzioni appena viste, bisog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izializzare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table1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(sezione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riservare spazio per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table2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(sezione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.bss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mpostare i parametri d’ingress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Tutti i registri </a:t>
            </a:r>
            <a:r>
              <a:rPr b="1" lang="it-IT" sz="2800" spc="-1" strike="noStrike">
                <a:solidFill>
                  <a:srgbClr val="f06157"/>
                </a:solidFill>
                <a:latin typeface="Lucida Sans Unicode"/>
              </a:rPr>
              <a:t>devono essere inalterati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l termine del programm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Uso di uno 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5F8-77E3-4E27-A6AF-3B8ABD9D2A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1: sezio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.dat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20 elementi = 480 by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4 byte “XXXX” di “guardia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"/>
          <p:cNvSpPr/>
          <p:nvPr/>
        </p:nvSpPr>
        <p:spPr>
          <a:xfrm>
            <a:off x="193680" y="3400560"/>
            <a:ext cx="8755200" cy="2742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able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Registers R0 to R7 are unbanked registers. This m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ans that each of them refers to the same 32-bit p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ysical register in all processor modes. They are c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ompletely general-purpose registers, with no speci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al uses implied by the architecture, and can be u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ed wherever an instruction allows a general-purpo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e register to be specified. Registers R8 to R14 a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e banked registers. The physical register referre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to by each of them depends on the current processo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r mode. Where a particular phyXXXX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7B3-85CB-4898-8DD5-13B3D34EBC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1: sezio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.bss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tack di tipo FD (Full Descending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miostack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primo elemento vuot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dopo lo stack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lostack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ultimo element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alla sommità dello stack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"/>
          <p:cNvSpPr/>
          <p:nvPr/>
        </p:nvSpPr>
        <p:spPr>
          <a:xfrm>
            <a:off x="509760" y="4991040"/>
            <a:ext cx="8123040" cy="1163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b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ble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.skip 4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stack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.skip 204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 2048 byte di stack "privato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ostac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1B5-C89C-43DB-8E99-4B3096B47C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1: sezio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.tex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0" name=""/>
          <p:cNvSpPr/>
          <p:nvPr/>
        </p:nvSpPr>
        <p:spPr>
          <a:xfrm>
            <a:off x="258840" y="2205000"/>
            <a:ext cx="8626320" cy="3959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R13, =miostack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@ inizializza 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R0, #120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@ copieremo un vettore lungo 120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R1, =table1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@ indirizzo del vettore so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R2, =table2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@ indirizzo del vettore destin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copyve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0-R3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@ salva R0-R3 sullo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MOV R0, R0, LSL #2    @ lunghezza del vettore in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ADD R3, R1, R0        @ R3 contiene l'indirizzo di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loop:    LDR R0, [R1], #4      @ carica dal primo v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STR R0, [R2], #4      @ salva nel secondo v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CMP R1, R3            @ raggiunta la fi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BLO loop              @ no: rientra nel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fine: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FD SP!, {R0-R3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@ ripristina i registri us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pippo: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B pippo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    @ fine progra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077-3450-456C-876D-F053C376B1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1: uso di LDM/STM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dirizzo di stop: 1 istruzione anziché 2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con l’indirizzamento di registro scala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1680" indent="-3016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Copiate 10 word alla volta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"/>
          <p:cNvSpPr/>
          <p:nvPr/>
        </p:nvSpPr>
        <p:spPr>
          <a:xfrm>
            <a:off x="258840" y="1773360"/>
            <a:ext cx="8626320" cy="34729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LDR R13, =miostack     @ inizializza S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MOV R0, #120           @ copieremo un vettore lungo 120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LDR R1, =table1        @ indirizzo del vettore so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LDR R2, =table2        @ indirizzo del vettore destin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copyvec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0-R12}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salva sullo stack i registri us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 R0, R1, R0, LSL #2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@ R0 ora contiene l'indirizzo di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loop: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IA R1!, {R3-R12}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carica dal primo v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IA R2!, {R3-R12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@ salva nel secondo v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CMP R1, R0             @ raggiunta la fi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BLO loop               @ no: rientra nel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fine: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FD SP!, {R0-R12}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ripristina tutti i regis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pippo:   B pippo                @ fine progra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387-CDF9-4F80-A5F3-370413A159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2: lunghezza di una string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 vuole scrivere un programma che calcoli la </a:t>
            </a:r>
            <a:r>
              <a:rPr b="1" lang="en-US" sz="2800" spc="-1" strike="noStrike">
                <a:solidFill>
                  <a:srgbClr val="f06157"/>
                </a:solidFill>
                <a:latin typeface="Lucida Sans Unicode"/>
              </a:rPr>
              <a:t>lunghezza di una string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 stringa è terminata da 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carattere da non includere nel calcolo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arametri di ingress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indirizzo primo carattere della string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arametri di usci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lunghezza della string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5CD-9B19-4189-80B1-6DF1DF0171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7:47:39Z</dcterms:created>
  <dc:creator>Carlo Fantozzi</dc:creator>
  <dc:description/>
  <dc:language>en-US</dc:language>
  <cp:lastModifiedBy>congiu</cp:lastModifiedBy>
  <dcterms:modified xsi:type="dcterms:W3CDTF">2003-05-22T17:39:27Z</dcterms:modified>
  <cp:revision>116</cp:revision>
  <dc:subject/>
  <dc:title>Istruzioni PXA255</dc:title>
</cp:coreProperties>
</file>