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840" y="304560"/>
            <a:ext cx="8961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ommario: 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ARM: stack e subrouti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757160"/>
            <a:ext cx="8062920" cy="25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struzioni di accesso allo st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istruzione di chiamata a sub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stione degli stack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4680" y="477216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esto di rif.to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38800"/>
            <a:ext cx="2286000" cy="179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70640" y="631980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4D94-3A13-4A96-8B08-84C0F021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Chiamata a subroutine nell’ARM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FFE-3FE8-4135-99D5-288FBFBA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400" y="1152360"/>
            <a:ext cx="9158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d"/>
                </a:solidFill>
                <a:latin typeface="ZapfDingbats"/>
                <a:ea typeface="ZapfDingbats"/>
              </a:rPr>
              <a:t>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L   nome_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struzione BL (Branch-and-Link) opera quanto seg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v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che punta alla istruzione successiva) i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1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(indirizzo di ritor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ica n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dirizzo della subroutin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ciò determina il sal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1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chiam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ink register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si può usare il simbolo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e un’istruzione apposita per il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itorno dalla subrout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si ottiene con l’istruzio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OV PC, R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Disciplina di programmazion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5F8D-6E39-4DE6-ADA5-8EB1A2354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55720"/>
            <a:ext cx="914400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iché l’indirizzo di ritorno è salvato in R14, prima di chiamar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un’altra subroutine è necessario aver prim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alvato R1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buona disciplina di programmazione prevede che un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subroutin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non modifichi i regist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e non quelli esplicitament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usati per restituire i risultati (parametri di usci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è un esempio di applicazione del principio di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“information hiding”: nascondere al programma chiamant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i dettagli di cosa fa la subroutine al suo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ttenere questi due obiettivi, conviene usare lo stack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ff"/>
                </a:solidFill>
                <a:latin typeface="Arial"/>
              </a:rPr>
              <a:t>salvare R1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ff"/>
                </a:solidFill>
                <a:latin typeface="Arial"/>
              </a:rPr>
              <a:t>salvare il contenuto dei registri usati dalla subrout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ch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non siano usati per i parametri di uscita), prima di modificarl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ff"/>
                </a:solidFill>
                <a:latin typeface="Arial"/>
              </a:rPr>
              <a:t>ripristinare il contenuto di questi regist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rima di ritornare al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programma chia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Salvataggi nello stack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021-6DB1-4D67-8D7B-414B428E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11160"/>
            <a:ext cx="914400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L SU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UB1: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MED r13!, {r14, r0-r2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sh LR e i registri u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BL SUB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amata a una subroutine ann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DMED r13!, {r14, r0-r2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R e i registri usa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OV pc, r14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240" y="1614600"/>
            <a:ext cx="8915400" cy="20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7480" y="4005360"/>
            <a:ext cx="8666640" cy="2530440"/>
            <a:chOff x="87480" y="4005360"/>
            <a:chExt cx="8666640" cy="25304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87480" y="4005360"/>
              <a:ext cx="8310240" cy="253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7905240" y="4518000"/>
              <a:ext cx="848880" cy="1314720"/>
              <a:chOff x="7905240" y="4518000"/>
              <a:chExt cx="848880" cy="13147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8308800" y="4518000"/>
                <a:ext cx="0" cy="100008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05240" y="5530680"/>
                <a:ext cx="8488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ff"/>
                    </a:solidFill>
                    <a:latin typeface="Arial"/>
                  </a:rPr>
                  <a:t>indirizz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Annidamento delle subroutin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488-0613-4D62-8591-ED5D2B5A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9208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UB1: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MED r13!, {r14, r0-r2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sh LR e i registri u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1 chiama un’altra subroutine SUB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to che anche SUB2 salvi nello stack il suo link register (r14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e i suoi registri usati, lo situazione dello stack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280" y="3381480"/>
            <a:ext cx="4854600" cy="29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68560" y="5460840"/>
            <a:ext cx="2839320" cy="820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iene usare un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ck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22320" y="3652920"/>
            <a:ext cx="848880" cy="2670480"/>
            <a:chOff x="4522320" y="3652920"/>
            <a:chExt cx="848880" cy="2670480"/>
          </a:xfrm>
        </p:grpSpPr>
        <p:sp>
          <p:nvSpPr>
            <p:cNvPr id="108" name=""/>
            <p:cNvSpPr/>
            <p:nvPr/>
          </p:nvSpPr>
          <p:spPr>
            <a:xfrm flipV="1">
              <a:off x="4925880" y="3652920"/>
              <a:ext cx="0" cy="235584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22320" y="6021360"/>
              <a:ext cx="848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indiri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struzioni per gestire uno stack fram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106C-6590-4F26-A0D4-5EF5E0AC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892080"/>
            <a:ext cx="682776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frame pointer si può usare R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Arial"/>
              </a:rPr>
              <a:t>Allocazione di un fra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TMFD SP!,  {FP, L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OV FP,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UB SP, SP, #e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e è l’estensione del fram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(spesso multiplo di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ff"/>
                </a:solidFill>
                <a:latin typeface="Arial"/>
              </a:rPr>
              <a:t>Rimozione di un frame e ritorno dalla subrout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OV SP,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DMFD SP!,  {FP, PC }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R14 va in R15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46000" y="988920"/>
            <a:ext cx="1510200" cy="155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 = R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= R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 = R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= R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61600" y="2995560"/>
            <a:ext cx="7350480" cy="3657600"/>
            <a:chOff x="1461600" y="2995560"/>
            <a:chExt cx="7350480" cy="3657600"/>
          </a:xfrm>
        </p:grpSpPr>
        <p:sp>
          <p:nvSpPr>
            <p:cNvPr id="115" name=""/>
            <p:cNvSpPr/>
            <p:nvPr/>
          </p:nvSpPr>
          <p:spPr>
            <a:xfrm>
              <a:off x="2951280" y="5043600"/>
              <a:ext cx="0" cy="15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3720" y="5067360"/>
              <a:ext cx="0" cy="15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5920" y="5343480"/>
              <a:ext cx="4528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61600" y="6124680"/>
              <a:ext cx="4406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1280" y="5357880"/>
              <a:ext cx="12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60640" y="563868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55960" y="617688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1280" y="6472080"/>
              <a:ext cx="12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61280" y="2995560"/>
              <a:ext cx="0" cy="36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13720" y="3033720"/>
              <a:ext cx="0" cy="36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75920" y="5338800"/>
              <a:ext cx="45288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71600" y="6119640"/>
              <a:ext cx="440640" cy="33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61280" y="53532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70640" y="56340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5960" y="61722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1280" y="64674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0640" y="476244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65960" y="504360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0520" y="4743360"/>
              <a:ext cx="100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2 (F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79720" y="5024520"/>
              <a:ext cx="101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14 (L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8000" y="6300720"/>
              <a:ext cx="10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32120" y="5510160"/>
              <a:ext cx="10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323040" y="4886280"/>
              <a:ext cx="1042920" cy="14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351480" y="3414240"/>
              <a:ext cx="1028880" cy="20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80400" y="3300480"/>
              <a:ext cx="0" cy="145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6920" y="3900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5960" y="330048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3610080"/>
              <a:ext cx="12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681440" y="5156280"/>
              <a:ext cx="0" cy="13651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3480" y="4875120"/>
              <a:ext cx="848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indiri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812080" y="3036960"/>
              <a:ext cx="0" cy="319392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Passaggio dei parametri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5784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7C3-68E7-4949-A66E-77664454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1677960"/>
            <a:ext cx="89852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 parametri sono pochi, conviene inserirli nei registri,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dopodiché è responsabilità della subroutine salvarli nello stack,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se necessario (per poterli ripristinare o per essere rient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 parametri sono molti: alcuni nei registri gli altri nello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20600" y="331920"/>
            <a:ext cx="6932880" cy="6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41720" y="2595600"/>
            <a:ext cx="2286000" cy="1798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70640" y="631980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9AD-8AE3-4F82-94A7-AA6CE188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FINE DELLA PRESENTAZION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360" y="158400"/>
            <a:ext cx="902520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struzione di store multiplo (STM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F08-F200-4C8C-A5F0-F20943F9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" y="817560"/>
            <a:ext cx="914400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istruzioni</a:t>
            </a:r>
            <a:r>
              <a:rPr b="0" lang="it-IT" sz="2400" spc="-1" strike="noStrike">
                <a:solidFill>
                  <a:srgbClr val="3333cd"/>
                </a:solidFill>
                <a:latin typeface="ZapfDingbats"/>
                <a:ea typeface="ZapfDingbats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DR e STR operano su parole da 32-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cessore</a:t>
            </a:r>
            <a:r>
              <a:rPr b="0" lang="it-IT" sz="2400" spc="-1" strike="noStrike">
                <a:solidFill>
                  <a:srgbClr val="3333cd"/>
                </a:solidFill>
                <a:latin typeface="ZapfDingbats"/>
                <a:ea typeface="ZapfDingbats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M è in grado di trasferire, da o in memoria, u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qualsiasi sottoinsieme dei 16 register con una singola istr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STM trasferisce in memoria copia di n regist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MIA r1, {r0, r2, r4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mem32[r1]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mem32[r1 + 4]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mem32[r1 + 8]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96880" y="4022640"/>
            <a:ext cx="8049240" cy="2241720"/>
            <a:chOff x="596880" y="4022640"/>
            <a:chExt cx="8049240" cy="2241720"/>
          </a:xfrm>
        </p:grpSpPr>
        <p:sp>
          <p:nvSpPr>
            <p:cNvPr id="47" name=""/>
            <p:cNvSpPr/>
            <p:nvPr/>
          </p:nvSpPr>
          <p:spPr>
            <a:xfrm flipV="1">
              <a:off x="8201160" y="4761000"/>
              <a:ext cx="0" cy="10000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96880" y="4022640"/>
              <a:ext cx="7383600" cy="22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797240" y="5773680"/>
              <a:ext cx="848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indiri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60" y="158400"/>
            <a:ext cx="902520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struzione di load multiplo (LDM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A6AF-D516-47A2-BEA1-E5F74554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4560"/>
            <a:ext cx="914400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trasferimento opposto (da memoria a registri) è fatto dall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truzione LDM. Ad 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DMIA r1, {r0, r2, r4}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r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m32[r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r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m32[r1+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r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m32[r1+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nella lista di registri si include R15 (PC), l’istruzione compor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che un s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80920" y="4398840"/>
            <a:ext cx="7495560" cy="2106720"/>
            <a:chOff x="880920" y="4398840"/>
            <a:chExt cx="7495560" cy="21067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880920" y="4398840"/>
              <a:ext cx="692172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V="1">
              <a:off x="7931160" y="5046840"/>
              <a:ext cx="0" cy="100008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27600" y="6059520"/>
              <a:ext cx="848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indiri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58400"/>
            <a:ext cx="86533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Aggiornamento dell’indirizzo bas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5095-959D-4381-A038-E3166131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520" y="896760"/>
            <a:ext cx="87328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istruzioni precedenti il registro contenente l’indirizz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base non veniva modifi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modificarlo basta aggiungere ! dopo il simbolo del 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DMIA r1 ! , {r2-r9}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; r2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mem32[r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; 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; r9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mem32[r1+2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; r1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r1 +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8360" y="2481120"/>
            <a:ext cx="5288040" cy="4130640"/>
            <a:chOff x="198360" y="2481120"/>
            <a:chExt cx="5288040" cy="4130640"/>
          </a:xfrm>
        </p:grpSpPr>
        <p:sp>
          <p:nvSpPr>
            <p:cNvPr id="61" name=""/>
            <p:cNvSpPr/>
            <p:nvPr/>
          </p:nvSpPr>
          <p:spPr>
            <a:xfrm>
              <a:off x="198360" y="4017960"/>
              <a:ext cx="18288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oad multip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0"/>
            </p:cNvCxnSpPr>
            <p:nvPr/>
          </p:nvCxnSpPr>
          <p:spPr>
            <a:xfrm flipV="1">
              <a:off x="1112400" y="3074400"/>
              <a:ext cx="353160" cy="94356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946080" y="2481120"/>
              <a:ext cx="1036800" cy="579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2523960"/>
              <a:ext cx="2127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89280" y="2538360"/>
              <a:ext cx="533160" cy="471600"/>
            </a:xfrm>
            <a:prstGeom prst="ellipse">
              <a:avLst/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400" y="5942160"/>
              <a:ext cx="3948120" cy="66960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 = incrementa l’indirizzo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= (after) dopo averlo us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6" idx="0"/>
              <a:endCxn id="65" idx="4"/>
            </p:cNvCxnSpPr>
            <p:nvPr/>
          </p:nvCxnSpPr>
          <p:spPr>
            <a:xfrm flipH="1" flipV="1">
              <a:off x="2154960" y="3023640"/>
              <a:ext cx="383400" cy="2918520"/>
            </a:xfrm>
            <a:prstGeom prst="straightConnector1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2711520" y="2552760"/>
              <a:ext cx="395280" cy="457200"/>
            </a:xfrm>
            <a:prstGeom prst="ellipse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4902120"/>
              <a:ext cx="2819520" cy="533520"/>
            </a:xfrm>
            <a:prstGeom prst="rect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ggiorna il punta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8" idx="4"/>
            </p:cNvCxnSpPr>
            <p:nvPr/>
          </p:nvCxnSpPr>
          <p:spPr>
            <a:xfrm flipH="1" flipV="1">
              <a:off x="2909160" y="3024000"/>
              <a:ext cx="1167480" cy="1878480"/>
            </a:xfrm>
            <a:prstGeom prst="straightConnector1">
              <a:avLst/>
            </a:prstGeom>
            <a:ln w="12600">
              <a:solidFill>
                <a:srgbClr val="33cc33"/>
              </a:solidFill>
              <a:miter/>
              <a:tailEnd len="med" type="triangle" w="med"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1160" y="158400"/>
            <a:ext cx="86533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Forme diverse di LDM e STM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58F-EE8D-4047-A083-DF5CF39B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28440" y="1515960"/>
            <a:ext cx="917244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4 forme diverse per ciascuna delle istruzioni LDM e ST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ncrement-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fter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LD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A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 ST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33cd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d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ncrement-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fore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LD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B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 ST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33cd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d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crement-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fter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LD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A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 ST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33cd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d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crement-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fore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LD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B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e STM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58400"/>
            <a:ext cx="86533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sempio d’uso di LDM-STM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9E6-6D3F-4B70-8C48-6C84771A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9680" y="1123920"/>
            <a:ext cx="896148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 per copiare 8 word (da 32 bit) da un posto all’altro in memoria, si può scriv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DR r0, src_addr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inizializza il puntatore all’area sor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DR r1, dest_addr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; inizializza il puntatore all’area destin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DMIA r0!, {r2-r9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preleva 8 word dall’area sor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… e aggiorna r0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r0 +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MIA r1, {r2-r9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copia gli 8 word nell’area destinaz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; (senza modificare r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58400"/>
            <a:ext cx="86533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4 modi diversi di realizzare uno stack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015-988F-4FD9-9C67-51C526CC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848880"/>
            <a:ext cx="8915400" cy="31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cending/Descen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o stack può crescere ver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rizzi crescenti     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ascending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rizzi descrescenti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desce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ull/Emp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o stack pointer può pun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’ultimo elemento con il dato in cima allo stack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full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primo elemento libero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empy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nel quale sarà inserito il prossimo elemento con un pu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7960" y="3786120"/>
            <a:ext cx="86169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elazione tra le due visioni di LDM/STM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CCB-09D2-423D-A70A-2FB3AB8D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82640" y="1079640"/>
            <a:ext cx="7510320" cy="53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90248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Chiamata a subroutine nell’ARM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08880" y="638316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D67B-95A2-4E1C-A624-DA80ECBD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1000" y="1590840"/>
            <a:ext cx="8231040" cy="358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7T02:40:56Z</dcterms:created>
  <dc:creator>S. Congiu</dc:creator>
  <dc:description/>
  <dc:language>en-US</dc:language>
  <cp:lastModifiedBy>caterina</cp:lastModifiedBy>
  <cp:lastPrinted>2002-04-27T07:52:09Z</cp:lastPrinted>
  <dcterms:modified xsi:type="dcterms:W3CDTF">2003-05-29T20:34:16Z</dcterms:modified>
  <cp:revision>183</cp:revision>
  <dc:subject>ARM: stack e subroutine</dc:subject>
  <dc:title>Architettura degli elaboratori 1 (02/03)</dc:title>
</cp:coreProperties>
</file>