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8590-F6DA-4DB5-999F-C4161F7AC16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indirizzamento è di tipo “flat”: niente segmenti o affi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iché la lunghezza di una istruzione è sempre un multiplo di 32 bit, il PXA255 ignora i 2 bit meno significativi del registro Program Cou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indirizzamento è di tipo “flat”: niente segmenti o affi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iché la lunghezza di una istruzione è sempre un multiplo di 32 bit, il PXA255 ignora i 2 bit meno significativi del registro Program Cou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RM has 31 general purpose 32-bit registers. At any one time, 16 of these registers are 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grigio sono indicati i registri replicati per ciascuno dei 7 modi operativi del processore. In altre parole, per i registri in grigio in un determinato modo operativo esiste una copia RISERVATA a quel modo oper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R contiene l’indirizzo della prima istruzione immediatamente successiva a quella di branch-and-link (B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mnemonici SP, LR e anche PC sono riconosciuti dall’assemblatore (tra l’altro, è quindi possibile scrivere direttamente nel P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hen an instruction reads the PC, it gets the address of the instruction that is two after itself. (Historically, there is a link between this two-instruction offset for PC reads and the two-instruction prefetch of the original ARM implementatio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it 5 (T): Thumb instruction set off/on (0/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it 6 (F): fast IRQ on/off (0/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ttle endian”=“byte meno significativo all’indirizzo più basso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Halfword”=16 bit; “Byte”=8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empi sui modi di indirizzamento saranno forniti poco più avanti durante la descrizione delle istruzioni 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maggiori informazioni sui modi di indirizzamento, si può consultare il capitolo A5 dell’ARM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ASR=“Arithmetic shift r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LSL=“Logical shift lef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LSR=“Logical shift r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ROR=“Rotate r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RRX=“Rotate right with exten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secondo modo di indirizzamento è quello che nel PD32 viene chiamato “indirizzamento con registro indic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questo caso, i bit sono tutti a disposizione per la rappresentazione della costante (niente shift): alcune istruzioni hanno a disposizione 8 bit, altre ne hanno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l posto dell’offset si può usare anche un registr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re che dopo l’esecuzione dell’istruzione il contenuto del registro Rn riman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alterat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o modo di indirizzamento è una versione estesa di quello che nel PD32 è l’indirizzamento auto-increment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l posto dell’offset si può usare anche un registr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tutti i casi, il contenuto di Rn viene alterato dall’esecuzione dell’istru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o modo di indirizzamento è una versione estesa di quello che nel PD32 è l’indirizzamento auto-increment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l posto dell’offset si può usare anche un registr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tutti i casi, il contenuto di Rn viene alterato dall’esecuzione dell’istru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o dei 2 operandi è sempre un regi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 registro può essere contemporaneamente usato come operando e come posto dove scrivere il risult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ggiungendo “S” allo mnemonico di un’istruzione, l’assemblatore imposterà ad 1 un opportuno bit nell’opcode dell’istruzione stes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struzioni di confronto: CMP, TST, TEQ, CMN, … (vedi più avan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di ARMARM sezione A3.2 per una lista completa delle condi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se of condition “NE” (code 0x1111) is now obsolete and unsuppo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ù precisamente si tratta di “istruzioni eseguite condizionalment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rse questo è un argomento troppo avanzat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tile per il debugging: con il suffisso NV una qualsiasi istruzione può essere rapidamente trasformata in una N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’ davvero impossibile elencare tutti i dispositivi che fanno uso di un core AR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B829-7BAF-4D8B-8932-FC5835A83A1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463760" y="960480"/>
            <a:ext cx="4387680" cy="3290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116000" y="4568400"/>
            <a:ext cx="50896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6-bit SIMD perché questa è la dimensione di un campione 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RM* Version 5 introduces a few more architecture features over Version 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iny pages of 1 Kbyte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 new instruction (CLZ) that counts the leading zeroes in a data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nhanced ARM-Thumb transfer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w breakpoint instructions (BK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 modification of the system control coprocessor, CP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pcode “compatti” = opcode a 16 bit: questo permette di scrivere codice che occupa poco spazio in applicazioni dove le risorse di sistema sono molto limitate. Naturalmente con le istruzioni Thumb si perdono alcune funzionalità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M variant is standard in architectures 4 and above, therefore it is not normally lis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n parleremo delle istruzioni T ed E: per maggiori informazioni si possono consultare i capitoli A6, A7 e A10 di “ARM Architecture Reference Manua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indirizzamento è di tipo “flat”: niente segmenti o affi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iché la lunghezza di una istruzione è sempre un multiplo di 32 bit, il PXA255 ignora i 2 bit meno significativi del registro Program Cou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9F9-10F7-441D-B8F7-00D6943C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EED-130A-4D0E-8963-9689410F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B6C-3C30-4F18-97CA-91B8D0CE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06B-63E9-437B-995B-6F52524E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2E8B-CB7E-4834-80C7-EB337902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3B14-6E35-45F8-B312-174540A4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632D-E128-4118-9230-D8C734CF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B6F2-2F23-40A5-AD3D-B20CC573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60BA-25F4-4B23-ADFC-F8DF20DE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A44D-DA3E-49F6-90D2-904D2260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F147-9B57-4C2A-A121-10BF78F1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82F-32FA-47BB-9EA0-2CDBDFFA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953C-5303-4D75-B0E0-0CD5D654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98C9-EF7D-41A6-91ED-EE0A69F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1180-30CD-4E9C-88B5-C650C259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7FE7-315B-4D5C-AD56-CEC73E56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0A06-78B9-4825-9562-93BAFEAC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0A9-DA90-487B-841D-B42810DE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9B8-74C2-4C9D-80B9-851B5AB9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C13-D745-4039-B5FD-33A5D46C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4CE-36F6-467C-9B00-126C7B88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9AED-6F96-4315-9113-2A0C1973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391-5BEC-492C-AE05-8D273D5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1C0-B7C2-4694-A81A-EB4652EB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4C2E-24A7-410B-BDEC-4CC90C0907E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F041-3F3D-4405-AF91-0D4E7107492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Introduzione ad ARM, XScale,</a:t>
            </a:r>
            <a:br>
              <a:rPr sz="4400"/>
            </a:b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 al processore PXA255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. Fantozzi, A. Gardich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a.a. 2002/200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5638680"/>
            <a:ext cx="1066680" cy="911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09680" y="5715000"/>
            <a:ext cx="1600200" cy="82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81680" y="5410080"/>
            <a:ext cx="176688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C173-51DE-4AD3-9674-DDE074C458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Mv5: caratteristiche RISC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L’architettura ARMv5 è di tipo </a:t>
            </a:r>
            <a:r>
              <a:rPr b="1" lang="it-IT" sz="2800" spc="-1" strike="noStrike">
                <a:solidFill>
                  <a:srgbClr val="f06157"/>
                </a:solidFill>
                <a:latin typeface="Lucida Sans Unicode"/>
              </a:rPr>
              <a:t>RIS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un numero elevato di registri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struzioni con lunghezza fissa di 32 bit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le parole di estensione non esistono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rchitettura load/store: ad esclusione di </a:t>
            </a:r>
            <a:r>
              <a:rPr b="1" i="1" lang="it-IT" sz="28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e </a:t>
            </a:r>
            <a:r>
              <a:rPr b="1" i="1" lang="it-IT" sz="2800" spc="-1" strike="noStrike">
                <a:solidFill>
                  <a:srgbClr val="000000"/>
                </a:solidFill>
                <a:latin typeface="Courier New"/>
              </a:rPr>
              <a:t>store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, tutte le istruzioni operano su registri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modi di indirizzamento semplici: tutti gli indirizzi di memoria nelle istruz. load/store sono specificati da informazioni contenute in registri o nei campi dell’istruzion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753-289A-422B-A949-5C587E06DD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Mv5: altre caratteristich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controllo sia dell’ALU sia dello shifter, con tutte le istruzioni di elaborazione-dati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modalità di indirizzamento auto-incrementanti e auto-decrementanti (efficienza nei loop)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esecuzione condizionata specificabile in tutte le istruzioni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struzioni di load e store multipli (più registri)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hift di n posizioni in un solo ciclo di clock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struzioni a 3 operandi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588-AC02-4839-AD45-786A32CE6F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Modi operativ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modo ut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Q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Q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gestione veloce interruzion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RQ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RQ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gestione interruzion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uperviso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VC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“modo protetto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bort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BT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per gestione memo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Undefined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ND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emulaz. coprocessor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usa risorse di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           ma senza limitazioni d’acces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9D5-FEFF-4F93-A0A8-505A9E241E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 registri: panoramic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0536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FFA-7EAE-4A31-A44C-670EF97AB8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 registr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urier New"/>
              </a:rPr>
              <a:t>R0-R13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registri di uso general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urier New"/>
              </a:rPr>
              <a:t>SP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stack pointer (R13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urier New"/>
              </a:rPr>
              <a:t>L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link register (R14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morizza l’indirizzo di ritorno da subrouti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urier New"/>
              </a:rPr>
              <a:t>PC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program counter (R15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unta all’istruzione da esegui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urier New"/>
              </a:rPr>
              <a:t>CPS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Current Program Status Register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tiene i bit di sta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urier New"/>
              </a:rPr>
              <a:t>SPS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Saved Program Status Register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pia di CPSR prima del cambio di mod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624-6CA9-4FDB-9537-5E5AB67620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PSR: bit util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874520"/>
            <a:ext cx="84582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Bit 0</a:t>
            </a:r>
            <a:r>
              <a:rPr b="1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–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4(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M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): modo operativo (su 7 attualmente previ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Bit 7   (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): interruzioni on/off (0/1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Bit 28 (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V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): indica errore di overflow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(aritmetica con segno in complemento a 2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Bit 29 (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C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): indica il </a:t>
            </a:r>
            <a:r>
              <a:rPr b="1" i="1" lang="it-IT" sz="2400" spc="-1" strike="noStrike">
                <a:solidFill>
                  <a:srgbClr val="000000"/>
                </a:solidFill>
                <a:latin typeface="Lucida Sans Unicode"/>
              </a:rPr>
              <a:t>carry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 o riporto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(indica overflow nell’aritmetica senza segn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Bit 30 (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Z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): indica un risultato zer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Bit 31 (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): indica un risultato negativo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(aritmetica con segno in complemento a 2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52280" y="5437080"/>
            <a:ext cx="8839440" cy="963720"/>
            <a:chOff x="152280" y="5437080"/>
            <a:chExt cx="8839440" cy="9637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52280" y="5437080"/>
              <a:ext cx="88394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5791320"/>
              <a:ext cx="3124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servati (non usat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C4D-1467-4AD9-A653-185DF29065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Big o Little Endian?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PXA255 supporta tutte e 2 le modalit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l comportamento predefinito è</a:t>
            </a:r>
            <a:br>
              <a:rPr sz="3200"/>
            </a:b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little endian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, secondo specifiche AR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9640" y="4486320"/>
            <a:ext cx="80661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C9A-9F50-4287-9C06-F18ECB1527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Operazioni di I/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L’I/O è di tipo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memory mapped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 registri delle periferiche si trovano ad opportuni indirizzi di memo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2 tipi di interruzioni: normale e fas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hardware per l’accesso diretto delle periferiche alla memoria (DM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2E7-960B-49DA-8563-C50DE9CAB5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 modi di indirizzamen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8748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Ogni categoria di istruzioni ha i propri modi di indirizzamen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spcBef>
                <a:spcPts val="2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RISC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174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niente indirizzamento assoluto (non usa puntatori in memoria, ma solo nei registri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174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dirizzamento in memoria solo per le istruzioni LDR (load) e STR (stor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5CF-802E-4D98-84FC-26E272EA11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ndirizzamento immedia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8748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l campo dell’istruzione contiene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l valore su cui operar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intassi: 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#numer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12 bit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a disposizione: 8 bit (c) per una costante, 4 bit (r) per una rotazione a dx di un numero pari di bit (2*r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mmediato valido: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#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0x104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c=0x41, r=15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mmediato 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non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valido: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#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0x10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F76-D2B3-4BBD-9E30-9CC5A5EF7F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he cosa è ARM?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RM=“Advanced RISC Machine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RM Ltd. non produce microprocessori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getta e vend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prietà intellettua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RM è una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rchitettur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sieme dei registri e delle istruzioni disponibil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di d’indirizzamen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estione delle interruzion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istono molte versioni dell’architettura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 molti processori per versio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415-E658-4DC0-B113-2C4D79574B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ndirizzamento di registr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8745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l valore su cui operare è contenuto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 un registro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Tale valore può essere shiftato di una quantità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pecificata in modo immediato (0..31: 5 bit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120000"/>
              </a:lnSpc>
              <a:spcAft>
                <a:spcPts val="1749"/>
              </a:spcAft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pecificata da un secondo registro:</a:t>
            </a:r>
            <a:br>
              <a:rPr sz="2800"/>
            </a:b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LSR #numero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oppure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LSR Rs</a:t>
            </a:r>
            <a:br>
              <a:rPr sz="2800"/>
            </a:b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ASR #numero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oppure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ASR Rs</a:t>
            </a:r>
            <a:br>
              <a:rPr sz="2800"/>
            </a:b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LSL #numero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oppure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LSL Rs</a:t>
            </a:r>
            <a:br>
              <a:rPr sz="2800"/>
            </a:b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ROR #numero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oppure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ROR Rs</a:t>
            </a:r>
            <a:br>
              <a:rPr sz="2800"/>
            </a:b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                      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RRX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E3B-8C50-4956-8604-F6F9945369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Indirizz. indiretto con registr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Usato nelle istruzioni load/store per accedere alla memo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l valore dell’operando è puntato da un registro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 (cioè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contiene l’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indirizzo dell’operando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intassi: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]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31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i può specificare un offset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(12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bit) da sommare o sottrarre a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per formare l’indirizzo (ind. a 2 componenti, simile all’ind. con registro indic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intassi: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#offset_12]</a:t>
            </a:r>
            <a:br>
              <a:rPr sz="2800"/>
            </a:b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     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Rm]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2A8-944F-441D-80AE-A766739EBC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Indir. con pre/post-incremen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899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re-incremento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chiamato anche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 Unicode"/>
              </a:rPr>
              <a:t>pre-indexed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):     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viene modificato sommando l’offset,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rima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di usare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come puntatore all’operand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intassi: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#offset_12]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Rm]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17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ost-incremento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chiamato anche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 Unicode"/>
              </a:rPr>
              <a:t>post-indexed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): 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è usato come indirizzo dell’operando,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oi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viene modificato sommando l’offse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intassi: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#offset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R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5FE-9DD1-4866-AF60-5B15E868BD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Pre/post-increm. con registr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l registro 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Rm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può essere shiftat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di un valore immediato di 5 bi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intassi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"/>
          <p:cNvSpPr/>
          <p:nvPr/>
        </p:nvSpPr>
        <p:spPr>
          <a:xfrm>
            <a:off x="682920" y="443700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  <a:ea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LSL #num]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LSR #num]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ASR #num]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ROR #num]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RRX]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5640" y="4437000"/>
            <a:ext cx="365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LSL #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LSR #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ASR #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ROR #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R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01880" y="3716280"/>
            <a:ext cx="33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Pre-incre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1560" y="3716280"/>
            <a:ext cx="35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ost-incre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429264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3716280"/>
            <a:ext cx="0" cy="288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F39-48E1-4B93-B487-1E9FDF694F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Indirizzamento auto-relativ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i ottiene usando il registro R15 (PC) nell’indirizzamento indiretto con registro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15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#offset_12]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il valore di R15 usato è PC_istruz.+8 (prefetch!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0"/>
              </a:spcBef>
              <a:buClr>
                <a:srgbClr val="3568c7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Le istruzioni di salto (branch) (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) usano una forma particolare di ind. autorelativo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B label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l’assemblatore trasforma label in PC + X (offset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DB9-78A2-48B5-B115-080177A5CD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Indirizzamento di branch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L’indirizzo di destinazione 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indd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è dato dalla somma di 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PC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e di un offset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X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indd=PC+X 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(PC è ind_istruzione+8: prefetch!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l’offset è codificato come CX da 24 bit (con segno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X = CX*4    (X =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±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32MB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l calcolo di CX è eseguito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automaticamente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dall’assemblator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Esempio: l’istruzione di salto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LAB1: B LAB2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    @ CX= (LAB2-LAB1-8)/4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B5E-3E64-47B4-9418-6681C79766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Le istruzion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960" y="17226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RMv5 prevede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struzioni di elaborazione dati a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 3 operand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uno (registro) per il risultato, due per gli operandi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7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UB R2, R0, R1        @ R2=R0-R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7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UB R2, R0, R1 LSL #4 @ R2=R0-R1*1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ltre istruzioni  a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2 operandi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uno per l’op. destinazione, uno per l’op. sorgent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7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MOV R2, R2 ASR #2     @ R2=R2/4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ltre istruzioni  a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1 operando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ad es. le istruzioni di branch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7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B LAB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CA7-5F23-4003-B05B-AFBFEBDFDF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Modifica dei bit di sta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r default le istruzion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non modificano i bit di stat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r modificare i bit di stato si acco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“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” allo mnemonico dell’istruzio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 R2, R0, R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@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n modific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ZCV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2, R0, R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@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dific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ZCV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on vale per le istruzioni di confronto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900-4510-499C-A9A8-D883270E43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struzioni con condizione (1/2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ggiungendo specifici suffissi, un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truzione viene eseguita solo se i bit di stato verificano precise condizion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sempi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"/>
          <p:cNvSpPr/>
          <p:nvPr/>
        </p:nvSpPr>
        <p:spPr>
          <a:xfrm>
            <a:off x="959760" y="4276800"/>
            <a:ext cx="722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R0, #0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ni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=0 solo 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R0, #0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egui 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=0 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R0, #0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egui 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=1 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≠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R0, #0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egui semp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R0, #0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egui 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=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E6F-30DE-48E1-A8B6-6C1F99278C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struzioni con condizione (2/2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rmettono di velocizzare il codic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isparmiando salti condizionat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ntenendo pieni i pipeli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essun branch mispredic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3840" y="4008600"/>
            <a:ext cx="8525160" cy="1556280"/>
            <a:chOff x="393840" y="4008600"/>
            <a:chExt cx="8525160" cy="1556280"/>
          </a:xfrm>
        </p:grpSpPr>
        <p:sp>
          <p:nvSpPr>
            <p:cNvPr id="188" name=""/>
            <p:cNvSpPr/>
            <p:nvPr/>
          </p:nvSpPr>
          <p:spPr>
            <a:xfrm>
              <a:off x="5568480" y="4008600"/>
              <a:ext cx="3350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CMP   r0, #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MOVGT r0, #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MOVLE r0, #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3840" y="4406760"/>
              <a:ext cx="4021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urier New"/>
                </a:rPr>
                <a:t>if (a &gt; 10) return 0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urier New"/>
                </a:rPr>
                <a:t>else retur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0" y="4551480"/>
              <a:ext cx="792000" cy="503280"/>
            </a:xfrm>
            <a:prstGeom prst="rightArrow">
              <a:avLst>
                <a:gd name="adj1" fmla="val 50000"/>
                <a:gd name="adj2" fmla="val 39342"/>
              </a:avLst>
            </a:prstGeom>
            <a:solidFill>
              <a:srgbClr val="3568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462-7EF6-4041-81AA-479D1475F8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M nella vita quotidian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outer ADSL (Samsung KS32C5000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okia “Serie 60” (ARM9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ame Boy Advance (cust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lti palmari (StrongARM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ntel PXA255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“XScale”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86200" y="5181480"/>
            <a:ext cx="2514600" cy="1281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74312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14400" y="5029200"/>
            <a:ext cx="2438280" cy="147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010280" y="2514600"/>
            <a:ext cx="159732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412-F068-4930-BA24-102B13A82B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Lista delle condizion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95640" y="1754280"/>
            <a:ext cx="4873320" cy="498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B4E-C555-49E3-96F3-97FC983A6E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9172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Sans Unicode"/>
              </a:rPr>
              <a:t>Classificazione delle istruzion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80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Elaborazione di dat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2872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operazioni aritmetico logich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2872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di movimento tra registr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2872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di confron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Movimento di dat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2872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load / store tra memoria e registr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Controllo di flus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2872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branch su condizio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indent="0"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indent="0"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25B-A3ED-4061-B232-D1D8955F8653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PXA255: obiettivi di proget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idotto time-to-marke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lessibilit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levata integrazion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eno componenti, meno are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levata potenza di calcol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asso cos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asso consum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1DC-A393-489B-9F1C-AFD4EB2202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PXA255: applicazion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Hand-hel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stemi “chiusi”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ireless Internet Devices (?!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etworking devic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orage devic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mote access serv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A95-9118-4AD0-801E-02061A5C73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PXA255: la “ferraglia”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7x17 mm 256-pin mBG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(mini Ball Grid Array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cesso produttivo a 0.18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equenza del core: 400 MHz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us memoria: fino a 100 MHz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inima tensione di alimentazione: 1 V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ssima potenza dissipata: 2.6 W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ABE-AD97-46D8-9827-A0ABDCC814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PXA255: specifiche tecnich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Processore RISC a 32 bi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ofisticata gestione memoria &amp; cach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ompatibile ARM Architecture v.5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RM V5T Thumb instruction se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RM V5E DSP extens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ntel® Media Processing Technology: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40-bit accumulator and 16-bit SIM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Nessun hardware per floating poi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A14-31F9-4478-A4DA-CDDA10A3F1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chitettura ARM: version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efinite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5 versioni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da 1 a 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el set di istruzioni AR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r ogni versione esistono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variant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dentificate da letter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tel PXA255 è conforme ad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RMv5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 = Thumb instruction se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code a 16 bit per risparmiare spazi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 = Enhanced DSP instru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734-28E6-4FD5-873A-D5631123D1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Mv5: caratteristich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L’architettura ARMv5 è a 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32 bi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Lucida Sans Unicode"/>
              </a:rPr>
              <a:t>word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=32 bit (in memoria allineati ad indirizzi multipli di 4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Lucida Sans Unicode"/>
              </a:rPr>
              <a:t>halfword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=16 bit (in memoria allineati ad indirizzi multipli di 2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Lucida Sans Unicode"/>
              </a:rPr>
              <a:t>byte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=8 bit (singolarmente indirizzabili in memoria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dirizzamento di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Lucida Sans Unicode"/>
              </a:rPr>
              <a:t>32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byte di memo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DD4-2691-4269-A4BD-B47B708505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7:47:39Z</dcterms:created>
  <dc:creator>Carlo Fantozzi</dc:creator>
  <dc:description/>
  <dc:language>en-US</dc:language>
  <cp:lastModifiedBy>congiu</cp:lastModifiedBy>
  <dcterms:modified xsi:type="dcterms:W3CDTF">2003-05-23T09:18:04Z</dcterms:modified>
  <cp:revision>60</cp:revision>
  <dc:subject/>
  <dc:title>PXA255: la “ferraglia”</dc:title>
</cp:coreProperties>
</file>