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8556-3B95-4037-9C89-03D4EEE819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programma calcola il fattoriale di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”=“step”, “c”=“continu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no circa 6,5 MB di mem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estensore “.s” identifica i sorgenti 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global specifica che il simbolo che segue è visibile anche al di fuori del file stesso (utile in fase di linking di programmi composti da più file sorgent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PC sono Dell Optiplex con sistema operativo Windows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2 banchi da 8 dip switch, i 2 pulsanti I/O e i 16 LED sono tutti mappati in memoria: ciò significa c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* è possibile leggere lo stato dei dip switch e dei pulsant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* È possibile accendere e spegnere i LED a piaci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58A-DCE7-4524-8A5A-4A5456D8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A98-20DC-43DA-8739-2836EE1D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686-313D-4384-B5F4-7450EE17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698-C911-4703-9987-3ED7649C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4592-CDB0-4CCE-B38B-4A46F97C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DE42-7EB0-40FD-8E44-4E734893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FCCA-2D79-4E64-8830-2DEB12D7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DFE5-71A6-4197-B67B-1E9FE1BA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58BF-6B92-46F9-8A3A-5CBC3EA7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B558-6BBC-410B-AB2E-84D55BAA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0397-559E-4FFA-964C-E7EF5859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5B2-452A-4AC5-BA80-54815A77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0156-E7F4-4DD5-AA54-ADBCB3C1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2B60-579F-400B-8064-BA8D342E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CB1A-A2E3-4565-A2D8-7ED688D4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05FA-AC32-40C8-BA2A-734B33F7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7F00-63E9-4893-89BE-4DD72082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9E6-6493-4614-911B-EF8B3A59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877-36C5-4B03-B634-7147E6F9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9E9-5F4B-48C3-9F55-C52FB710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56E-CEE5-455E-A41D-579D95FF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A86-2E14-46B6-BF43-CC63C22E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379-6692-43E8-92CE-2E2950F6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AE4-15D3-4AFD-A26A-83D0C333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2589-0CBD-4BD1-B6C6-BE8F93679983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480" y="1219320"/>
            <a:ext cx="9137520" cy="380160"/>
            <a:chOff x="6480" y="1219320"/>
            <a:chExt cx="9137520" cy="380160"/>
          </a:xfrm>
        </p:grpSpPr>
        <p:sp>
          <p:nvSpPr>
            <p:cNvPr id="4" name=""/>
            <p:cNvSpPr/>
            <p:nvPr/>
          </p:nvSpPr>
          <p:spPr>
            <a:xfrm flipV="1">
              <a:off x="6480" y="1241280"/>
              <a:ext cx="9137520" cy="92520"/>
            </a:xfrm>
            <a:prstGeom prst="rect">
              <a:avLst/>
            </a:prstGeom>
            <a:solidFill>
              <a:srgbClr val="b3d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480" y="1334880"/>
              <a:ext cx="9137520" cy="224280"/>
            </a:xfrm>
            <a:prstGeom prst="rect">
              <a:avLst/>
            </a:prstGeom>
            <a:gradFill rotWithShape="0">
              <a:gsLst>
                <a:gs pos="0">
                  <a:srgbClr val="3568c7"/>
                </a:gs>
                <a:gs pos="100000">
                  <a:srgbClr val="a7bd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1219320"/>
              <a:ext cx="9137520" cy="23040"/>
            </a:xfrm>
            <a:prstGeom prst="rect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868c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6480" y="1554480"/>
              <a:ext cx="9137520" cy="44280"/>
            </a:xfrm>
            <a:prstGeom prst="rect">
              <a:avLst/>
            </a:prstGeom>
            <a:gradFill rotWithShape="0">
              <a:gsLst>
                <a:gs pos="0">
                  <a:srgbClr val="a7bde6"/>
                </a:gs>
                <a:gs pos="100000">
                  <a:srgbClr val="3568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480" y="1327680"/>
              <a:ext cx="9137520" cy="44280"/>
            </a:xfrm>
            <a:prstGeom prst="rect">
              <a:avLst/>
            </a:prstGeom>
            <a:gradFill rotWithShape="0">
              <a:gsLst>
                <a:gs pos="0">
                  <a:srgbClr val="b3d1f0"/>
                </a:gs>
                <a:gs pos="100000">
                  <a:srgbClr val="3568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240" y="1600200"/>
            <a:ext cx="9140760" cy="15228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80" y="1184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37F0-1885-4256-96FD-BE524D8CB59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3505320"/>
            <a:ext cx="9137520" cy="380160"/>
            <a:chOff x="0" y="3505320"/>
            <a:chExt cx="9137520" cy="380160"/>
          </a:xfrm>
        </p:grpSpPr>
        <p:sp>
          <p:nvSpPr>
            <p:cNvPr id="53" name=""/>
            <p:cNvSpPr/>
            <p:nvPr/>
          </p:nvSpPr>
          <p:spPr>
            <a:xfrm flipV="1">
              <a:off x="0" y="3527280"/>
              <a:ext cx="9137520" cy="92520"/>
            </a:xfrm>
            <a:prstGeom prst="rect">
              <a:avLst/>
            </a:prstGeom>
            <a:solidFill>
              <a:srgbClr val="b3d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620880"/>
              <a:ext cx="9137520" cy="224280"/>
            </a:xfrm>
            <a:prstGeom prst="rect">
              <a:avLst/>
            </a:prstGeom>
            <a:gradFill rotWithShape="0">
              <a:gsLst>
                <a:gs pos="0">
                  <a:srgbClr val="3568c7"/>
                </a:gs>
                <a:gs pos="100000">
                  <a:srgbClr val="a7bd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505320"/>
              <a:ext cx="9137520" cy="23040"/>
            </a:xfrm>
            <a:prstGeom prst="rect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868c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0" y="3840480"/>
              <a:ext cx="9137520" cy="44280"/>
            </a:xfrm>
            <a:prstGeom prst="rect">
              <a:avLst/>
            </a:prstGeom>
            <a:gradFill rotWithShape="0">
              <a:gsLst>
                <a:gs pos="0">
                  <a:srgbClr val="a7bde6"/>
                </a:gs>
                <a:gs pos="100000">
                  <a:srgbClr val="3568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613680"/>
              <a:ext cx="9137520" cy="44280"/>
            </a:xfrm>
            <a:prstGeom prst="rect">
              <a:avLst/>
            </a:prstGeom>
            <a:gradFill rotWithShape="0">
              <a:gsLst>
                <a:gs pos="0">
                  <a:srgbClr val="b3d1f0"/>
                </a:gs>
                <a:gs pos="100000">
                  <a:srgbClr val="3568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240" y="3886200"/>
            <a:ext cx="9140760" cy="15228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UNI-PD-PXA</a:t>
            </a:r>
            <a:br>
              <a:rPr sz="4400"/>
            </a:b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partendo da zer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. Fantozzi, A. Gardich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a.a. 2002/200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5638680"/>
            <a:ext cx="1066680" cy="91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09680" y="5715000"/>
            <a:ext cx="1600200" cy="825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773760" y="5410080"/>
            <a:ext cx="17668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mbiente di lavoro 3/3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 scrivere programmi: un edit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Blocco Note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” è più che sufficien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 programmi semplic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22360" y="3625920"/>
            <a:ext cx="6300720" cy="30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656-A747-4248-A94C-758A9DBB1D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ccendere la sched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Controllare che l’alimentatore sia collegato alla rete elettrica e alla sched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Controllare che il cavo seriale sia collegato al PC e alla scheda (porta seriale adiacente alla porta USB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zionare l’interruttore principale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ul retro della sched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Si accende il led “ON” sul pannello fronta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Il software di boot della scheda ininzializza la memoria e la connessione serial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8EC-8060-4F0E-9680-D7DAF8231C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Scrivere il programm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crivere il seguente programma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alvare il programma come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prova.s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all’interno della cartella di lavor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26920" y="2454120"/>
            <a:ext cx="748836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944-7A04-4A8E-BC87-4FFC95A3C7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Compilare e linkar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Compilare con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xscale-elf-as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viene prodotto il file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prova.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Linkare con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xscale-elf-ld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viene prodotto il file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prova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pronto per la sched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47640" y="3789360"/>
            <a:ext cx="6048720" cy="299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C42-6779-4ACE-8CCC-7AB69A22AC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aricare il programma (1/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n GNU Debugger aprire la console (menu </a:t>
            </a:r>
            <a:r>
              <a:rPr b="0" lang="it-IT" sz="3200" spc="-1" strike="noStrike">
                <a:solidFill>
                  <a:srgbClr val="1822cd"/>
                </a:solidFill>
                <a:latin typeface="Lucida Sans Unicode"/>
              </a:rPr>
              <a:t>View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, voce </a:t>
            </a:r>
            <a:r>
              <a:rPr b="0" lang="it-IT" sz="3200" spc="-1" strike="noStrike">
                <a:solidFill>
                  <a:srgbClr val="1822cd"/>
                </a:solidFill>
                <a:latin typeface="Lucida Sans Unicode"/>
              </a:rPr>
              <a:t>Console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e digitare i seguenti 4 comandi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"/>
          <p:cNvSpPr/>
          <p:nvPr/>
        </p:nvSpPr>
        <p:spPr>
          <a:xfrm>
            <a:off x="245880" y="436572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822cd"/>
                </a:solidFill>
                <a:latin typeface="Courier New"/>
              </a:rPr>
              <a:t>set remotebaud 115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822cd"/>
                </a:solidFill>
                <a:latin typeface="Courier New"/>
              </a:rPr>
              <a:t>fil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nomefi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822cd"/>
                </a:solidFill>
                <a:latin typeface="Courier New"/>
              </a:rPr>
              <a:t>target remote co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822cd"/>
                </a:solidFill>
                <a:latin typeface="Courier New"/>
              </a:rPr>
              <a:t>load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nomefi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9720" y="6224760"/>
            <a:ext cx="239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 Unicode"/>
              </a:rPr>
              <a:t>NOTA</a:t>
            </a:r>
            <a:r>
              <a:rPr b="0" lang="it-IT" sz="1400" spc="-1" strike="noStrike">
                <a:solidFill>
                  <a:srgbClr val="000000"/>
                </a:solidFill>
                <a:latin typeface="Lucida Sans Unicode"/>
              </a:rPr>
              <a:t>: nel nostro esemp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nomefile&gt;</a:t>
            </a:r>
            <a:r>
              <a:rPr b="0" lang="it-IT" sz="1400" spc="-1" strike="noStrike">
                <a:solidFill>
                  <a:srgbClr val="000000"/>
                </a:solidFill>
                <a:latin typeface="Lucida Sans Unicode"/>
              </a:rPr>
              <a:t> è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pr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356000" y="3584520"/>
            <a:ext cx="4392720" cy="2868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492360" y="479736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CE2-124D-4013-9316-7CFEC5C39D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aricare il programma (2/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Nella finestra “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Source Window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” di GDB selezionare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prova.s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dal menu a discesa sulla sinist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Posizionare due breakpoint sulla prima e l’ultima istruzione del programma 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facendo click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con il mouse sui corrispondenti trattini “</a:t>
            </a:r>
            <a:r>
              <a:rPr b="0" lang="it-IT" sz="2400" spc="-1" strike="noStrike">
                <a:solidFill>
                  <a:srgbClr val="1822cd"/>
                </a:solidFill>
                <a:latin typeface="Lucida Sans Unicode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51280" y="3933720"/>
            <a:ext cx="4392720" cy="2776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55720" y="41497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nu a disc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51280" y="4365720"/>
            <a:ext cx="1368360" cy="35856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4" idx="3"/>
            <a:endCxn id="205" idx="2"/>
          </p:cNvCxnSpPr>
          <p:nvPr/>
        </p:nvCxnSpPr>
        <p:spPr>
          <a:xfrm>
            <a:off x="3268800" y="4377960"/>
            <a:ext cx="567360" cy="167040"/>
          </a:xfrm>
          <a:prstGeom prst="bentConnector3">
            <a:avLst>
              <a:gd name="adj1" fmla="val 51238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832320" y="609300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Brea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5805360"/>
            <a:ext cx="215640" cy="21456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7" idx="3"/>
            <a:endCxn id="208" idx="2"/>
          </p:cNvCxnSpPr>
          <p:nvPr/>
        </p:nvCxnSpPr>
        <p:spPr>
          <a:xfrm flipV="1">
            <a:off x="2598840" y="5913000"/>
            <a:ext cx="1165680" cy="408960"/>
          </a:xfrm>
          <a:prstGeom prst="bentConnector3">
            <a:avLst>
              <a:gd name="adj1" fmla="val 50664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849240" y="5084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t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0520" y="5300640"/>
            <a:ext cx="216000" cy="21420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0" idx="3"/>
            <a:endCxn id="211" idx="2"/>
          </p:cNvCxnSpPr>
          <p:nvPr/>
        </p:nvCxnSpPr>
        <p:spPr>
          <a:xfrm>
            <a:off x="2190600" y="5312880"/>
            <a:ext cx="1594800" cy="96120"/>
          </a:xfrm>
          <a:prstGeom prst="bentConnector3">
            <a:avLst>
              <a:gd name="adj1" fmla="val 50485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595-483C-441D-B9DA-5FC88E7038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guire il programma (1/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Nella finestra “Source Window” di GDB premere “</a:t>
            </a:r>
            <a:r>
              <a:rPr b="0" lang="it-IT" sz="2400" spc="-1" strike="noStrike">
                <a:solidFill>
                  <a:srgbClr val="1822cd"/>
                </a:solidFill>
                <a:latin typeface="Lucida Sans Unicode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” sulla tastiera: inizia l’esecuzione del program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Premere “</a:t>
            </a:r>
            <a:r>
              <a:rPr b="0" lang="it-IT" sz="2400" spc="-1" strike="noStrike">
                <a:solidFill>
                  <a:srgbClr val="1822cd"/>
                </a:solidFill>
                <a:latin typeface="Lucida Sans Unicod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” per avanzare di una istruzione oppure “</a:t>
            </a:r>
            <a:r>
              <a:rPr b="0" lang="it-IT" sz="2400" spc="-1" strike="noStrike">
                <a:solidFill>
                  <a:srgbClr val="1822cd"/>
                </a:solidFill>
                <a:latin typeface="Lucida Sans Unicode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” per avanzare fino al breakpoint success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79640" y="3645000"/>
            <a:ext cx="6624720" cy="2892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10920" y="58053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3720"/>
            <a:ext cx="287280" cy="28584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6" idx="3"/>
            <a:endCxn id="217" idx="2"/>
          </p:cNvCxnSpPr>
          <p:nvPr/>
        </p:nvCxnSpPr>
        <p:spPr>
          <a:xfrm flipV="1">
            <a:off x="958680" y="4075920"/>
            <a:ext cx="1221840" cy="1958040"/>
          </a:xfrm>
          <a:prstGeom prst="bentConnector3">
            <a:avLst>
              <a:gd name="adj1" fmla="val 50574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622440" y="3716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1640" y="3933720"/>
            <a:ext cx="287640" cy="28584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9" idx="3"/>
            <a:endCxn id="220" idx="0"/>
          </p:cNvCxnSpPr>
          <p:nvPr/>
        </p:nvCxnSpPr>
        <p:spPr>
          <a:xfrm flipV="1">
            <a:off x="1006200" y="3917160"/>
            <a:ext cx="1910520" cy="27720"/>
          </a:xfrm>
          <a:prstGeom prst="bentConnector4">
            <a:avLst>
              <a:gd name="adj1" fmla="val 46211"/>
              <a:gd name="adj2" fmla="val 888157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704-896E-44F5-8AB5-2F7DA16490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guire il programma (2/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5075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L’istruzione evidenziata in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verde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è quella da eseguire al passo successiv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La finestra “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Registers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” di GDB mostra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l contenuto dei registr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 può vedere anche il contenuto della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memoria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(menu </a:t>
            </a:r>
            <a:r>
              <a:rPr b="0" lang="it-IT" sz="2800" spc="-1" strike="noStrike">
                <a:solidFill>
                  <a:srgbClr val="1822cd"/>
                </a:solidFill>
                <a:latin typeface="Lucida Sans Unicode"/>
              </a:rPr>
              <a:t>View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, voce </a:t>
            </a:r>
            <a:r>
              <a:rPr b="0" lang="it-IT" sz="2800" spc="-1" strike="noStrike">
                <a:solidFill>
                  <a:srgbClr val="1822cd"/>
                </a:solidFill>
                <a:latin typeface="Lucida Sans Unicode"/>
              </a:rPr>
              <a:t>Memory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Quando l’istruzione in verde è la 13 (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b fine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 il programma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prova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è termina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851-963C-43A1-8191-5342A4901B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Mappa di memori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64 MB di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SDRA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dirizzi da 0x00000000 a 0x03FFFFF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32 MB di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FLASH RAM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(Intel StrataFlash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dirizzi da 0x50000000 a 0x51FFFFF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512 KB di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RAM static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dirizzi da 0x60000000 a 0x6007FFF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A56-14D7-4496-88B6-5251426553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Memoria: quale usare?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35240"/>
            <a:ext cx="82296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 cominciare, si consiglia l’uso della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 in particolare della regio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"/>
          <p:cNvSpPr/>
          <p:nvPr/>
        </p:nvSpPr>
        <p:spPr>
          <a:xfrm>
            <a:off x="3389760" y="3036960"/>
            <a:ext cx="23644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SDR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8920" y="5013360"/>
            <a:ext cx="77061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0x00100000 – 0x03FFFF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9C3-676C-469A-A1C7-369614D931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UNI-PD-PXA: che cos’è?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Dispositivo didattico basato su PXA25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Periferiche XScale più alcune aggiun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28680" y="2984400"/>
            <a:ext cx="4884840" cy="37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FFD-1207-4325-88D9-376B3A1931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Periferich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LED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scrivere all’indirizzo 0x70000000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(16 bit meno significativi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Microswitch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leggere dall’indirizzo 0x70000000 (16 bit meno significativi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ulsanti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indirizzo 0x40E00000, bit 10 e 1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eriale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FF UART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ind. 0x40100000 (LSBy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eriale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BT UART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ind. 0x40200000 (LSBy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3EE-66E8-4252-B59E-48B5E48D28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nizializzare le periferich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Per inizializzare le periferiche è </a:t>
            </a:r>
            <a:r>
              <a:rPr b="1" lang="it-IT" sz="2800" spc="-1" strike="noStrike">
                <a:solidFill>
                  <a:srgbClr val="f06157"/>
                </a:solidFill>
                <a:latin typeface="Lucida Sans Unicode"/>
              </a:rPr>
              <a:t>necessario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introdurre il codice che segue </a:t>
            </a:r>
            <a:r>
              <a:rPr b="1" lang="it-IT" sz="2800" spc="-1" strike="noStrike">
                <a:solidFill>
                  <a:srgbClr val="f06157"/>
                </a:solidFill>
                <a:latin typeface="Lucida Sans Unicode"/>
              </a:rPr>
              <a:t>prima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del proprio programm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"/>
          <p:cNvSpPr/>
          <p:nvPr/>
        </p:nvSpPr>
        <p:spPr>
          <a:xfrm>
            <a:off x="1751040" y="3154320"/>
            <a:ext cx="5643360" cy="350280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ldr r0, =0x26e026e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ldr r1, =0x48000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str r0,[r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ldr r1, =0x40e0000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ldr r0, [r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orr r0, r0, #0x00008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str r0, [r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ldr r1, =0x40e000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ldr r0, [r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orr r0, r0, #0x8000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str r0, [r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ldr r1, =0x40e00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ldr r0, [r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orr r0, r0, #0x00000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str r0, [r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ldr r1, =0x40e0005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ldr r0, [r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orr r0, r0, #0x00000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</a:rPr>
              <a:t>str r0, [r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B11-EB45-4ADA-BC4C-51882CC2CA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di file .s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36" name=""/>
          <p:cNvSpPr/>
          <p:nvPr/>
        </p:nvSpPr>
        <p:spPr>
          <a:xfrm>
            <a:off x="1526040" y="1700280"/>
            <a:ext cx="6093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.global _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0, #0x100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Inizia il 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ic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ubs r0, r0,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ne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pc, =0x112C /* Torna al bootload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asche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.long 0xAAAAAA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ring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.ascii "Pippo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.b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.skip spazio,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.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96160" y="595008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5661000"/>
            <a:ext cx="792360" cy="28908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6"/>
            <a:endCxn id="237" idx="1"/>
          </p:cNvCxnSpPr>
          <p:nvPr/>
        </p:nvCxnSpPr>
        <p:spPr>
          <a:xfrm>
            <a:off x="3219480" y="5805000"/>
            <a:ext cx="3658320" cy="374040"/>
          </a:xfrm>
          <a:prstGeom prst="bentConnector3">
            <a:avLst>
              <a:gd name="adj1" fmla="val 49778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115200" y="191628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2637000"/>
            <a:ext cx="934920" cy="43164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2"/>
            <a:endCxn id="240" idx="3"/>
          </p:cNvCxnSpPr>
          <p:nvPr/>
        </p:nvCxnSpPr>
        <p:spPr>
          <a:xfrm rot="10800000">
            <a:off x="1072440" y="2144160"/>
            <a:ext cx="388080" cy="708480"/>
          </a:xfrm>
          <a:prstGeom prst="bentConnector3">
            <a:avLst>
              <a:gd name="adj1" fmla="val 47910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6894000" y="422100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re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4653000"/>
            <a:ext cx="719280" cy="36036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0"/>
            <a:endCxn id="243" idx="1"/>
          </p:cNvCxnSpPr>
          <p:nvPr/>
        </p:nvCxnSpPr>
        <p:spPr>
          <a:xfrm flipH="1" flipV="1" rot="5400000">
            <a:off x="4766760" y="2526480"/>
            <a:ext cx="188280" cy="4033080"/>
          </a:xfrm>
          <a:prstGeom prst="bentConnector2">
            <a:avLst/>
          </a:prstGeom>
          <a:ln w="31680">
            <a:solidFill>
              <a:srgbClr val="f06157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31760" y="35989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str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11280" y="3573360"/>
            <a:ext cx="2089440" cy="50328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7" idx="2"/>
            <a:endCxn id="246" idx="3"/>
          </p:cNvCxnSpPr>
          <p:nvPr/>
        </p:nvCxnSpPr>
        <p:spPr>
          <a:xfrm flipV="1" rot="10800000">
            <a:off x="1775520" y="3824640"/>
            <a:ext cx="619920" cy="2520"/>
          </a:xfrm>
          <a:prstGeom prst="bentConnector3">
            <a:avLst>
              <a:gd name="adj1" fmla="val 48692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68E-61C3-4E76-B656-B9BF94BE75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Struttura di un file .s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ezione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.text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codice eseguibi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ezione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.data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dati inizializzat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ezione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.bss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 dati non inizializzat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Una label inizia alla prima colonna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e termina con “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” (due punti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Una istruzione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no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comincia alla prima colon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Un commento inizia con “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@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2C2-6922-40D8-991B-376C37419D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Direttive per l’assemblator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.long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.short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.byte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permettono di inizializzare ad un valore prefissato una parola di memoria di 32, 16 o 8 bi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.ascii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permette di allocare una stringa in memo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.skip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riserva spazio da lasciare vuo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.global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definisce un simbolo come globa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.end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indica la fine del modulo sorgen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128-B158-425F-BE61-0B0E71AC07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l bootloader Redboo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bootloader inizializza la scheda all’accensione e fornisce il promp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Quando un programma è in esecuzione i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l bootloader perde il controllo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bootloader mette a disposizione comandi per caricare codice, ecc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crivere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per avere assistenz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CB6-E4E5-4AB7-86A7-93A263D0FC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Prompt di Redboo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Dialogo con RedBoot: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HyperTermin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14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Doppio click su        , poi premere INVI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708360" y="2349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871640" y="3165480"/>
            <a:ext cx="5400720" cy="35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B82-B7A4-4627-BF49-E19F79DB62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Vista posterior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565360"/>
            <a:ext cx="8229600" cy="3167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765480" y="17334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rru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incip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66280" y="5910120"/>
            <a:ext cx="20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iment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58480" y="5910120"/>
            <a:ext cx="108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sla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64080" y="1733400"/>
            <a:ext cx="25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riale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llegamento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2800" y="591012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ggiun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4200" y="59101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riale RS4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3500280"/>
            <a:ext cx="647640" cy="86364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4508640"/>
            <a:ext cx="504720" cy="50292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4581360"/>
            <a:ext cx="576360" cy="50328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4581360"/>
            <a:ext cx="863640" cy="50328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4581360"/>
            <a:ext cx="863640" cy="50328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4724280"/>
            <a:ext cx="647640" cy="43344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0" idx="3"/>
            <a:endCxn id="126" idx="4"/>
          </p:cNvCxnSpPr>
          <p:nvPr/>
        </p:nvCxnSpPr>
        <p:spPr>
          <a:xfrm flipV="1">
            <a:off x="2990520" y="5172840"/>
            <a:ext cx="321480" cy="965880"/>
          </a:xfrm>
          <a:prstGeom prst="bentConnector2">
            <a:avLst/>
          </a:prstGeom>
          <a:ln w="31680">
            <a:solidFill>
              <a:srgbClr val="f06157"/>
            </a:solidFill>
            <a:miter/>
          </a:ln>
        </p:spPr>
      </p:cxnSp>
      <p:cxnSp>
        <p:nvCxnSpPr>
          <p:cNvPr id="128" name=""/>
          <p:cNvCxnSpPr>
            <a:stCxn id="119" idx="0"/>
            <a:endCxn id="125" idx="4"/>
          </p:cNvCxnSpPr>
          <p:nvPr/>
        </p:nvCxnSpPr>
        <p:spPr>
          <a:xfrm flipH="1" flipV="1" rot="5400000">
            <a:off x="3949200" y="5502960"/>
            <a:ext cx="810360" cy="3960"/>
          </a:xfrm>
          <a:prstGeom prst="bentConnector3">
            <a:avLst>
              <a:gd name="adj1" fmla="val 50977"/>
            </a:avLst>
          </a:prstGeom>
          <a:ln w="31680">
            <a:solidFill>
              <a:srgbClr val="f06157"/>
            </a:solidFill>
            <a:miter/>
          </a:ln>
        </p:spPr>
      </p:cxnSp>
      <p:cxnSp>
        <p:nvCxnSpPr>
          <p:cNvPr id="129" name=""/>
          <p:cNvCxnSpPr>
            <a:stCxn id="124" idx="0"/>
            <a:endCxn id="118" idx="2"/>
          </p:cNvCxnSpPr>
          <p:nvPr/>
        </p:nvCxnSpPr>
        <p:spPr>
          <a:xfrm flipV="1" rot="16200000">
            <a:off x="4266000" y="3251520"/>
            <a:ext cx="2010240" cy="618120"/>
          </a:xfrm>
          <a:prstGeom prst="bentConnector3">
            <a:avLst>
              <a:gd name="adj1" fmla="val 49596"/>
            </a:avLst>
          </a:prstGeom>
          <a:ln w="31680">
            <a:solidFill>
              <a:srgbClr val="f06157"/>
            </a:solidFill>
            <a:miter/>
          </a:ln>
        </p:spPr>
      </p:cxnSp>
      <p:cxnSp>
        <p:nvCxnSpPr>
          <p:cNvPr id="130" name=""/>
          <p:cNvCxnSpPr>
            <a:stCxn id="121" idx="0"/>
            <a:endCxn id="115" idx="2"/>
          </p:cNvCxnSpPr>
          <p:nvPr/>
        </p:nvCxnSpPr>
        <p:spPr>
          <a:xfrm flipH="1" flipV="1" rot="5400000">
            <a:off x="7065000" y="2833920"/>
            <a:ext cx="929160" cy="372240"/>
          </a:xfrm>
          <a:prstGeom prst="bentConnector3">
            <a:avLst>
              <a:gd name="adj1" fmla="val 49031"/>
            </a:avLst>
          </a:prstGeom>
          <a:ln w="31680">
            <a:solidFill>
              <a:srgbClr val="f06157"/>
            </a:solidFill>
            <a:miter/>
          </a:ln>
        </p:spPr>
      </p:cxnSp>
      <p:cxnSp>
        <p:nvCxnSpPr>
          <p:cNvPr id="131" name=""/>
          <p:cNvCxnSpPr>
            <a:stCxn id="117" idx="0"/>
            <a:endCxn id="123" idx="4"/>
          </p:cNvCxnSpPr>
          <p:nvPr/>
        </p:nvCxnSpPr>
        <p:spPr>
          <a:xfrm flipH="1" flipV="1" rot="5400000">
            <a:off x="5954400" y="5347440"/>
            <a:ext cx="810360" cy="315000"/>
          </a:xfrm>
          <a:prstGeom prst="bentConnector3">
            <a:avLst>
              <a:gd name="adj1" fmla="val 50977"/>
            </a:avLst>
          </a:prstGeom>
          <a:ln w="31680">
            <a:solidFill>
              <a:srgbClr val="f06157"/>
            </a:solidFill>
            <a:miter/>
          </a:ln>
        </p:spPr>
      </p:cxnSp>
      <p:cxnSp>
        <p:nvCxnSpPr>
          <p:cNvPr id="132" name=""/>
          <p:cNvCxnSpPr>
            <a:stCxn id="116" idx="0"/>
            <a:endCxn id="122" idx="4"/>
          </p:cNvCxnSpPr>
          <p:nvPr/>
        </p:nvCxnSpPr>
        <p:spPr>
          <a:xfrm flipV="1" rot="16200000">
            <a:off x="7172280" y="5200200"/>
            <a:ext cx="883080" cy="536760"/>
          </a:xfrm>
          <a:prstGeom prst="bentConnector3">
            <a:avLst>
              <a:gd name="adj1" fmla="val 50897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312-3A92-4A25-B8AB-32D9FF701C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Vista fianco sinistr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06560" y="2276640"/>
            <a:ext cx="7129440" cy="3935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7000" y="173340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schettone di ancor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03640" y="17334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iglia altoparl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81480" y="627048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tenziometro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789360"/>
            <a:ext cx="1655640" cy="158436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8" idx="0"/>
            <a:endCxn id="136" idx="2"/>
          </p:cNvCxnSpPr>
          <p:nvPr/>
        </p:nvCxnSpPr>
        <p:spPr>
          <a:xfrm flipH="1" flipV="1" rot="5400000">
            <a:off x="5599440" y="1990800"/>
            <a:ext cx="1583640" cy="1981800"/>
          </a:xfrm>
          <a:prstGeom prst="bentConnector3">
            <a:avLst>
              <a:gd name="adj1" fmla="val 49431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1042920" y="3789360"/>
            <a:ext cx="647640" cy="115236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0"/>
            <a:endCxn id="135" idx="2"/>
          </p:cNvCxnSpPr>
          <p:nvPr/>
        </p:nvCxnSpPr>
        <p:spPr>
          <a:xfrm flipH="1" flipV="1" rot="5400000">
            <a:off x="1068120" y="2488680"/>
            <a:ext cx="1583640" cy="986400"/>
          </a:xfrm>
          <a:prstGeom prst="bentConnector3">
            <a:avLst>
              <a:gd name="adj1" fmla="val 49431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3348000" y="4365720"/>
            <a:ext cx="503280" cy="50472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2" idx="2"/>
            <a:endCxn id="137" idx="0"/>
          </p:cNvCxnSpPr>
          <p:nvPr/>
        </p:nvCxnSpPr>
        <p:spPr>
          <a:xfrm flipV="1" rot="10800000">
            <a:off x="3305880" y="4617720"/>
            <a:ext cx="26280" cy="1653120"/>
          </a:xfrm>
          <a:prstGeom prst="bentConnector2">
            <a:avLst/>
          </a:prstGeom>
          <a:ln w="31680">
            <a:solidFill>
              <a:srgbClr val="f06157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61E-C9E6-4678-9893-73FFECC781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Vista fianco destr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5000" y="1874880"/>
            <a:ext cx="7552080" cy="4489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78440" y="6434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Slot Compact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5013360"/>
            <a:ext cx="2448000" cy="72072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7" idx="4"/>
            <a:endCxn id="146" idx="3"/>
          </p:cNvCxnSpPr>
          <p:nvPr/>
        </p:nvCxnSpPr>
        <p:spPr>
          <a:xfrm rot="5400000">
            <a:off x="5932080" y="5862600"/>
            <a:ext cx="913680" cy="687960"/>
          </a:xfrm>
          <a:prstGeom prst="bentConnector2">
            <a:avLst/>
          </a:prstGeom>
          <a:ln w="31680">
            <a:solidFill>
              <a:srgbClr val="f06157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2AA-492E-48E1-93FB-245B3B95FA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Vista frontal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8507160" cy="2919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040" y="5910120"/>
            <a:ext cx="22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gressi/us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4080" y="1738440"/>
            <a:ext cx="22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im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7360" y="5900760"/>
            <a:ext cx="142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uls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68640" y="1733400"/>
            <a:ext cx="182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6 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r l’u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2680" y="591012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2 banchi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8 dip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40680" y="173340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 puls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llegati a G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4797360"/>
            <a:ext cx="1728720" cy="50328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4869000"/>
            <a:ext cx="287280" cy="28872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4437000"/>
            <a:ext cx="1079280" cy="72072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7640" y="4437000"/>
            <a:ext cx="1079640" cy="72072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4076640"/>
            <a:ext cx="358560" cy="36036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4076640"/>
            <a:ext cx="358920" cy="36036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3573360"/>
            <a:ext cx="3527280" cy="50328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0" idx="4"/>
            <a:endCxn id="155" idx="0"/>
          </p:cNvCxnSpPr>
          <p:nvPr/>
        </p:nvCxnSpPr>
        <p:spPr>
          <a:xfrm flipH="1" rot="16200000">
            <a:off x="6645240" y="5294880"/>
            <a:ext cx="737280" cy="494280"/>
          </a:xfrm>
          <a:prstGeom prst="bentConnector3">
            <a:avLst>
              <a:gd name="adj1" fmla="val 48900"/>
            </a:avLst>
          </a:prstGeom>
          <a:ln w="31680">
            <a:solidFill>
              <a:srgbClr val="f06157"/>
            </a:solidFill>
            <a:miter/>
          </a:ln>
        </p:spPr>
      </p:cxnSp>
      <p:cxnSp>
        <p:nvCxnSpPr>
          <p:cNvPr id="165" name=""/>
          <p:cNvCxnSpPr>
            <a:stCxn id="159" idx="6"/>
            <a:endCxn id="155" idx="1"/>
          </p:cNvCxnSpPr>
          <p:nvPr/>
        </p:nvCxnSpPr>
        <p:spPr>
          <a:xfrm>
            <a:off x="5235120" y="4797360"/>
            <a:ext cx="1035720" cy="1524960"/>
          </a:xfrm>
          <a:prstGeom prst="bentConnector3">
            <a:avLst>
              <a:gd name="adj1" fmla="val 49200"/>
            </a:avLst>
          </a:prstGeom>
          <a:ln w="31680">
            <a:solidFill>
              <a:srgbClr val="f06157"/>
            </a:solidFill>
            <a:miter/>
          </a:ln>
        </p:spPr>
      </p:cxnSp>
      <p:cxnSp>
        <p:nvCxnSpPr>
          <p:cNvPr id="166" name=""/>
          <p:cNvCxnSpPr>
            <a:stCxn id="158" idx="4"/>
            <a:endCxn id="153" idx="0"/>
          </p:cNvCxnSpPr>
          <p:nvPr/>
        </p:nvCxnSpPr>
        <p:spPr>
          <a:xfrm flipV="1" rot="10800000">
            <a:off x="4068000" y="5173560"/>
            <a:ext cx="1080" cy="727560"/>
          </a:xfrm>
          <a:prstGeom prst="bentConnector2">
            <a:avLst/>
          </a:prstGeom>
          <a:ln w="31680">
            <a:solidFill>
              <a:srgbClr val="f06157"/>
            </a:solidFill>
            <a:miter/>
          </a:ln>
        </p:spPr>
      </p:cxnSp>
      <p:cxnSp>
        <p:nvCxnSpPr>
          <p:cNvPr id="167" name=""/>
          <p:cNvCxnSpPr>
            <a:stCxn id="157" idx="4"/>
            <a:endCxn id="151" idx="3"/>
          </p:cNvCxnSpPr>
          <p:nvPr/>
        </p:nvCxnSpPr>
        <p:spPr>
          <a:xfrm rot="5400000">
            <a:off x="2317680" y="5795280"/>
            <a:ext cx="1005840" cy="48240"/>
          </a:xfrm>
          <a:prstGeom prst="bentConnector2">
            <a:avLst/>
          </a:prstGeom>
          <a:ln w="31680">
            <a:solidFill>
              <a:srgbClr val="f06157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1116000" y="4508640"/>
            <a:ext cx="287280" cy="288720"/>
          </a:xfrm>
          <a:prstGeom prst="ellipse">
            <a:avLst/>
          </a:prstGeom>
          <a:noFill/>
          <a:ln w="3168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52" idx="2"/>
            <a:endCxn id="168" idx="0"/>
          </p:cNvCxnSpPr>
          <p:nvPr/>
        </p:nvCxnSpPr>
        <p:spPr>
          <a:xfrm flipH="1" rot="16200000">
            <a:off x="292680" y="3524760"/>
            <a:ext cx="1932840" cy="3600"/>
          </a:xfrm>
          <a:prstGeom prst="bentConnector3">
            <a:avLst>
              <a:gd name="adj1" fmla="val 50353"/>
            </a:avLst>
          </a:prstGeom>
          <a:ln w="31680">
            <a:solidFill>
              <a:srgbClr val="f06157"/>
            </a:solidFill>
            <a:miter/>
          </a:ln>
        </p:spPr>
      </p:cxnSp>
      <p:cxnSp>
        <p:nvCxnSpPr>
          <p:cNvPr id="170" name=""/>
          <p:cNvCxnSpPr>
            <a:stCxn id="154" idx="2"/>
            <a:endCxn id="163" idx="1"/>
          </p:cNvCxnSpPr>
          <p:nvPr/>
        </p:nvCxnSpPr>
        <p:spPr>
          <a:xfrm flipH="1" rot="16200000">
            <a:off x="3671640" y="2862720"/>
            <a:ext cx="1075320" cy="461160"/>
          </a:xfrm>
          <a:prstGeom prst="bentConnector3">
            <a:avLst>
              <a:gd name="adj1" fmla="val 47253"/>
            </a:avLst>
          </a:prstGeom>
          <a:ln w="31680">
            <a:solidFill>
              <a:srgbClr val="f06157"/>
            </a:solidFill>
            <a:miter/>
          </a:ln>
        </p:spPr>
      </p:cxnSp>
      <p:cxnSp>
        <p:nvCxnSpPr>
          <p:cNvPr id="171" name=""/>
          <p:cNvCxnSpPr>
            <a:stCxn id="156" idx="2"/>
            <a:endCxn id="162" idx="6"/>
          </p:cNvCxnSpPr>
          <p:nvPr/>
        </p:nvCxnSpPr>
        <p:spPr>
          <a:xfrm rot="5400000">
            <a:off x="6417000" y="3101040"/>
            <a:ext cx="1702440" cy="612000"/>
          </a:xfrm>
          <a:prstGeom prst="bentConnector2">
            <a:avLst/>
          </a:prstGeom>
          <a:ln w="31680">
            <a:solidFill>
              <a:srgbClr val="f06157"/>
            </a:solidFill>
            <a:miter/>
          </a:ln>
        </p:spPr>
      </p:cxnSp>
      <p:cxnSp>
        <p:nvCxnSpPr>
          <p:cNvPr id="172" name=""/>
          <p:cNvCxnSpPr>
            <a:stCxn id="156" idx="1"/>
            <a:endCxn id="161" idx="6"/>
          </p:cNvCxnSpPr>
          <p:nvPr/>
        </p:nvCxnSpPr>
        <p:spPr>
          <a:xfrm flipV="1" rot="10800000">
            <a:off x="4874400" y="2143800"/>
            <a:ext cx="1443960" cy="2113560"/>
          </a:xfrm>
          <a:prstGeom prst="bentConnector3">
            <a:avLst>
              <a:gd name="adj1" fmla="val 50473"/>
            </a:avLst>
          </a:prstGeom>
          <a:ln w="31680">
            <a:solidFill>
              <a:srgbClr val="f06157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5BC-0706-4464-8386-BD7C7E8EF7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l mio primo programm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Preparare l’ambiente di lavoro su P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crivere il program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ompilare e linka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Accendere la sched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aricare il program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Eseguire il program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Non funziona... Premere RESE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F41-436B-42E7-8C84-C50B2F1E11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mbiente di lavoro 1/3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Per compilare: “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Cygwin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Fare doppio click sull’icon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372360" y="227808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00000" y="3102120"/>
            <a:ext cx="734400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294-D83B-47B3-8CAC-71D8C7E10F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mbiente di lavoro 2/3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Dialogo con la scheda: “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GNU Debugger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Posizionarsi nella cartella di lavoro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e poi dare il comando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xscale-elf-gdb &amp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2952720" cy="1486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672000" cy="3214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780000" y="4797360"/>
            <a:ext cx="936360" cy="360360"/>
          </a:xfrm>
          <a:prstGeom prst="rightArrow">
            <a:avLst>
              <a:gd name="adj1" fmla="val 50000"/>
              <a:gd name="adj2" fmla="val 64960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E36-36A6-471E-90A3-77C698AB98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7:47:39Z</dcterms:created>
  <dc:creator>Carlo Fantozzi</dc:creator>
  <dc:description/>
  <dc:language>en-US</dc:language>
  <cp:lastModifiedBy>congiu</cp:lastModifiedBy>
  <dcterms:modified xsi:type="dcterms:W3CDTF">2003-05-23T18:00:52Z</dcterms:modified>
  <cp:revision>99</cp:revision>
  <dc:subject/>
  <dc:title>Istruzioni PXA255</dc:title>
</cp:coreProperties>
</file>